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1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826B-7982-4737-BAAD-F34C6517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4D6E-F6AD-4B3B-B0E7-F50B3F7D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355C-3A31-4BF9-A428-DCB5F70EE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443D-9BFC-4BC3-9100-8003DCEA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EE50-3C18-47D9-B974-8FB6BB456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F868-8902-44F7-AEE9-420BBDA2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83D4-17D5-43ED-998F-DB3C67E3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598A-4F97-4DFE-8F8D-2ADC956E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0D0D-A331-4249-98FE-FEF2A2A6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EBD6-0BE3-47B5-B3B4-EF86770F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28BB-DC8D-4EE0-9BA2-6CBD0691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1D72-C92D-4F60-9C5A-FF3B3F66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278F-AE7A-48A1-B76A-1144C013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3393-A7D8-4C20-989C-7186FDFC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C9DE-728D-4B7C-A860-DF0AEC74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4C2E-D1DF-4E59-9C07-24A8E61C4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A2A7-4FBE-4DC9-9A02-229A8A749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2D5C-05E0-44F5-B3E2-F004F239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0656-D8CB-4CC4-B270-EEA31E59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2A86-812D-4B61-80D8-89BC3E4C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5C79-1E61-4622-B0F6-672DD250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874E-7ADD-44AA-AE99-90425491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165C-09E3-4979-8438-22685A70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7DAF-D8FB-4804-BAC6-41F751F4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ccc66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0821-C8B5-4B85-B089-C84181B81724}" type="datetime">
              <a:rPr b="0" lang="en-US" sz="1600" spc="-1" strike="noStrike">
                <a:solidFill>
                  <a:srgbClr val="cccc66"/>
                </a:solidFill>
                <a:latin typeface="Comic Sans MS"/>
              </a:rPr>
              <a:t>07/31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9999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9900"/>
                </a:solidFill>
                <a:latin typeface="Comic Sans MS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76742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1333-7903-4E3A-B2CC-C2460740F7B7}" type="slidenum">
              <a:rPr b="1" lang="en-US" sz="1600" spc="-1" strike="noStrike">
                <a:solidFill>
                  <a:srgbClr val="767426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Verdana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6142-A18F-4922-91F1-7462B2C832F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  <a:ea typeface="휴먼엑스포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휴먼엑스포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8DC0-3638-42C5-8633-32D397D196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468360" y="1267920"/>
            <a:ext cx="914400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00"/>
                </a:solidFill>
                <a:latin typeface="Verdana"/>
              </a:rPr>
              <a:t>       </a:t>
            </a:r>
            <a:r>
              <a:rPr b="0" lang="en-US" sz="3600" spc="-1" strike="noStrike">
                <a:solidFill>
                  <a:srgbClr val="999900"/>
                </a:solidFill>
                <a:latin typeface="Verdana"/>
              </a:rPr>
              <a:t>Determining Bounds </a:t>
            </a:r>
            <a:br>
              <a:rPr sz="3600"/>
            </a:br>
            <a:r>
              <a:rPr b="0" lang="en-US" sz="3600" spc="-1" strike="noStrike">
                <a:solidFill>
                  <a:srgbClr val="999900"/>
                </a:solidFill>
                <a:latin typeface="Verdana"/>
              </a:rPr>
              <a:t>                           on Execution Times</a:t>
            </a:r>
            <a:endParaRPr b="0" lang="en-US" sz="36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ung Chanm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06.09.2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Cache-Behavior Prediction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Cache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Three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Block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Associa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Fully assoc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A block can reside in </a:t>
            </a:r>
            <a:r>
              <a:rPr b="1" i="1" lang="ko-KR" sz="18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 cache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Direct map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A block can reside in </a:t>
            </a:r>
            <a:r>
              <a:rPr b="1" i="1" lang="ko-KR" sz="1800" spc="-1" strike="noStrike">
                <a:solidFill>
                  <a:srgbClr val="000000"/>
                </a:solidFill>
                <a:latin typeface="Arial"/>
              </a:rPr>
              <a:t>exactly one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X-way set assoc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A block can reside in </a:t>
            </a:r>
            <a:r>
              <a:rPr b="1" i="1" lang="ko-KR" sz="1800" spc="-1" strike="noStrike">
                <a:solidFill>
                  <a:srgbClr val="000000"/>
                </a:solidFill>
                <a:latin typeface="Arial"/>
              </a:rPr>
              <a:t>exactly X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 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484C-2E10-4C9D-9C83-B81854CA0A3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3F00C-5646-490C-A65B-36A8E663F9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Cache-Behavior Prediction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che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cache is full and the processor requests furthe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ment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U (Least Recently U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O (First In First O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53B1-0CD9-4447-98AA-D04FEC4A500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B7C239-63A1-4CC5-8941-2D58EB2855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Cache-Behavior Prediction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che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ully associative caches with LRU replacement strategy in this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79640" y="3068640"/>
            <a:ext cx="4897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7A4B-FDF0-48D3-9170-C9B98623A12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1109B-E00B-4A5F-B2AA-75F2FE8987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Cache-Behavior Prediction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a set of memory blocks tha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e in the ca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given program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all memory blocks tha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y be in the ca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a given program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F6C6-6F58-4DA7-88D5-AE27B22A0BB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E1BEA1-0419-4B4C-8B7F-3A0CE92D26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Cache-Behavior Prediction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195640" y="2781360"/>
            <a:ext cx="4464000" cy="268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6D54-E9E5-43BD-8684-84FC553DF61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780687-9CD2-4463-A136-9CE29C650A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Cache-Behavior Prediction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124000" y="2852640"/>
            <a:ext cx="5256360" cy="292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0575-7448-4B05-A887-DA806434C83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2F50D1-8832-478B-9529-849F1A77A6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Pipeline Analysis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ind out how instructions move through the pip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cycle they spend in the pip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peline analysis regards abstract execution of sequences of instructions on abstract pip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ecution of programs on abstract pipelines produces abstract traces ( sequences of abstract state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6466-BFC7-4103-90F2-9E78E2C20DB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AC81C-3136-4517-9D96-2891D539B7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Pipeline Analysis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Architecture without Timing Anoma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in-ord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worst case contribute to the program’s global executi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 to assume the local worst cases for unknown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B543-E21C-48E6-B182-426FA908785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73AFC-FFEE-48C9-9529-181FF4C4E08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Pipeline Analysis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s with Timing Anoma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-of-order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worst cases contribute worst-case times of the global execution tim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 more va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3429000"/>
            <a:ext cx="4680000" cy="271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D9CF-CC30-4C07-9AD2-9F8B7E776D1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A211A-A831-4186-8F89-479B8D65F5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Pipeline Analysis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peline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sis for pipeline analysis is a model of an abstract version of the processor pip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rs have concrete pipelines described in VH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 many components of a concrete pipeline that are not relevant for the timing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ing an abstract pipeline is a complex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4670-61BA-42E2-A119-3C76E055AAE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840891-1382-4FFF-BCDA-A63B7E863B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Index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che Behavior 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pelin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 Analysis Using Integer Linear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&amp;A (not recomm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CD40-DA0A-4812-B673-923643BA24F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E38DB-AD83-49B1-93FE-E052466A7F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Pipeline Analysis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Pipelin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he ColdFire MCF 5307 pip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Fetch pip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</a:rPr>
              <a:t>Fetches instructions form memory or the 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Execution pip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</a:rPr>
              <a:t>Executes instr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140360" y="1484280"/>
            <a:ext cx="4319280" cy="468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0BC5-0C80-4F09-B7E5-AD0E463D96E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C5BC14-B362-4CDC-979B-031842D1F1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Pipeline Analysis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 Models of Abstract Pip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bstract pipeline state consists of several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igna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instantaneous or dela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stantaneous signals between units are used to transport information between the unit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788000" y="1484280"/>
            <a:ext cx="3630600" cy="47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DAEC-CF18-4E9E-85DF-27F7E5E6D5E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81344C-B47B-49A6-BA91-6C29CF5223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Verdana"/>
              </a:rPr>
              <a:t>Path Analysis Using 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Verdana"/>
              </a:rPr>
              <a:t>Integer Linear Programming</a:t>
            </a:r>
            <a:endParaRPr b="0" lang="en-US" sz="40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ucture of a program and the set of program paths can be mapped to an ILP in a very natural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LP consists of two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st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func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number of CPU cy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ecution count of one basis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427640" y="2565360"/>
            <a:ext cx="4392360" cy="250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7AEE-54B0-4F2D-991B-3B52BEE1F87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5E2C1D-CFA7-4AF4-9F33-B0D24E32A8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리얼타임에서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execution time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bound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를 정하는 것은 중요한 일이다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하지만 시스템이 복잡해짐에 따라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bound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를 정하는 것이 어려워지고 있다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이 논문에서는 어떤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execution time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bound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를 정하기 위해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가지 분석방법을 제시한다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첫째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. Cache prediction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을 통한 분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둘째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. PipeLine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분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셋째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. ILP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를 이용한 경로 분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3640-80AE-4F03-8959-36803DD8DF4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497A8-00C2-45AC-A0D5-B2C9A3BCCF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9900"/>
                </a:solidFill>
                <a:latin typeface="Verdana"/>
              </a:rPr>
              <a:t>추가 설명</a:t>
            </a: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!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지난 이야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Real-Time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에서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execution time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bound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를 정하는 것은 중요한 일이다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(hard real time)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하지만 시스템이 복잡해짐에 따라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bound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를 정하는 것이 어려워지고 있다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이 논문에서는 어떤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execution time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bound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를 정하기 위해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가지 분석방법을 제시한다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99cc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Cache predictio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을 통한 분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99cc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PipeLin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을 통한 분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99cc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ILP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를 이용한 경로 분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BB4B-FDAA-4BA6-8EF8-F99E9E039EC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CA51E-A8AE-4793-8942-127FC5EE00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Cache Prediction</a:t>
            </a:r>
            <a:r>
              <a:rPr b="0" lang="zh-CN" sz="4400" spc="-1" strike="noStrike">
                <a:solidFill>
                  <a:srgbClr val="999900"/>
                </a:solidFill>
                <a:latin typeface="Verdana"/>
              </a:rPr>
              <a:t>을 통한 분석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How to statically precompute cache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d"/>
                </a:solidFill>
                <a:latin typeface="Arial"/>
                <a:ea typeface="TimesNewRomanPSMT"/>
              </a:rPr>
              <a:t>Mus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TimesNewRomanPSMT"/>
              </a:rPr>
              <a:t>For each program point (and calling context), find out which blocks </a:t>
            </a:r>
            <a:r>
              <a:rPr b="0" lang="ko-KR" sz="2000" spc="-1" strike="noStrike">
                <a:solidFill>
                  <a:srgbClr val="3333cd"/>
                </a:solidFill>
                <a:latin typeface="Arial"/>
                <a:ea typeface="TimesNewRomanPSMT"/>
              </a:rPr>
              <a:t>are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TimesNewRomanPSMT"/>
              </a:rPr>
              <a:t>in the ca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d"/>
                </a:solidFill>
                <a:latin typeface="Arial"/>
                <a:ea typeface="TimesNewRomanPSMT"/>
              </a:rPr>
              <a:t>Ma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TimesNewRomanPSMT"/>
              </a:rPr>
              <a:t>For each program point (and calling context), find out which blocks </a:t>
            </a:r>
            <a:r>
              <a:rPr b="0" lang="ko-KR" sz="2000" spc="-1" strike="noStrike">
                <a:solidFill>
                  <a:srgbClr val="3333cd"/>
                </a:solidFill>
                <a:latin typeface="Arial"/>
                <a:ea typeface="TimesNewRomanPSMT"/>
              </a:rPr>
              <a:t>may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TimesNewRomanPSMT"/>
              </a:rPr>
              <a:t>be in the 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TimesNewRomanPSMT"/>
              </a:rPr>
              <a:t>Complement says what </a:t>
            </a:r>
            <a:r>
              <a:rPr b="0" lang="ko-KR" sz="1800" spc="-1" strike="noStrike">
                <a:solidFill>
                  <a:srgbClr val="3333cd"/>
                </a:solidFill>
                <a:latin typeface="Arial"/>
                <a:ea typeface="TimesNewRomanPSMT"/>
              </a:rPr>
              <a:t>is not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TimesNewRomanPSMT"/>
              </a:rPr>
              <a:t>in the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76AC-BB52-48DD-B666-15DE6A0FE9F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37C2B7-5E26-4F24-942A-0B62B83D14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Cache Prediction</a:t>
            </a:r>
            <a:r>
              <a:rPr b="0" lang="zh-CN" sz="4400" spc="-1" strike="noStrike">
                <a:solidFill>
                  <a:srgbClr val="999900"/>
                </a:solidFill>
                <a:latin typeface="Verdana"/>
              </a:rPr>
              <a:t>을 통한 분석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-Cache and May-Cach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d"/>
                </a:solidFill>
                <a:latin typeface="Arial"/>
              </a:rPr>
              <a:t>Must Analys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s saf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che h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redicted cache hit reduce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C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d"/>
                </a:solidFill>
                <a:latin typeface="Arial"/>
                <a:ea typeface="TimesNewRomanPSMT"/>
              </a:rPr>
              <a:t>May Analys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NewRomanPSMT"/>
              </a:rPr>
              <a:t>determines saf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NewRomanPSM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NewRomanPSMT"/>
              </a:rPr>
              <a:t>abo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NewRomanPSMT"/>
              </a:rPr>
              <a:t>cache mi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redicted cache miss increase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C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NewRomanPSMT"/>
                <a:ea typeface="TimesNewRomanPS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NewRomanPSMT"/>
                <a:ea typeface="TimesNewRomanPS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F96A-E161-4BFB-A129-E1997C9DF04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5186A-7DC3-4E89-8C5D-BAF3DC99CB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Cache Prediction</a:t>
            </a:r>
            <a:r>
              <a:rPr b="0" lang="zh-CN" sz="4400" spc="-1" strike="noStrike">
                <a:solidFill>
                  <a:srgbClr val="999900"/>
                </a:solidFill>
                <a:latin typeface="Verdana"/>
              </a:rPr>
              <a:t>을 통한 분석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che Analysis : Join (Mu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5488200" cy="368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7807-9D97-4935-B3C3-66C15DE9212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9687D8-B320-4C40-BC94-F4685AE63E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Cache Prediction</a:t>
            </a:r>
            <a:r>
              <a:rPr b="0" lang="zh-CN" sz="4400" spc="-1" strike="noStrike">
                <a:solidFill>
                  <a:srgbClr val="999900"/>
                </a:solidFill>
                <a:latin typeface="Verdana"/>
              </a:rPr>
              <a:t>을 통한 분석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che Analysis : Join (M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6912000" cy="341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77EF-8DBD-418F-8060-A6810E92CEE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4F9C6-D0E1-4AF6-BD32-E615D4B769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Cache Prediction</a:t>
            </a:r>
            <a:r>
              <a:rPr b="0" lang="zh-CN" sz="4400" spc="-1" strike="noStrike">
                <a:solidFill>
                  <a:srgbClr val="999900"/>
                </a:solidFill>
                <a:latin typeface="Verdana"/>
              </a:rPr>
              <a:t>을 통한 분석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ion to WC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about cache contents sharpens tim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908000" y="2781360"/>
            <a:ext cx="5543640" cy="321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D39D-B1C3-43C8-9237-2D86CE078E8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1EAB3F-A42A-4208-93E7-44016F4696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Abstract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Run-time guarantees play an important role in the area of Embedded System. (hard real 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Schedulability analysis has to be perform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Schedulability analysis require upper bounds for the execution times of all task in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The bounds must be </a:t>
            </a:r>
            <a:r>
              <a:rPr b="1" i="1" lang="ko-KR" sz="2400" spc="-1" strike="noStrike">
                <a:solidFill>
                  <a:srgbClr val="000000"/>
                </a:solidFill>
                <a:latin typeface="Arial"/>
              </a:rPr>
              <a:t>Safe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ko-KR" sz="2400" spc="-1" strike="noStrike">
                <a:solidFill>
                  <a:srgbClr val="000000"/>
                </a:solidFill>
                <a:latin typeface="Arial"/>
              </a:rPr>
              <a:t>T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Modern MP architecture is so~ 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hard to analysis of the timing behavior of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How to compute safely &amp; precise bounds on the execution times~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6346-A390-4FF7-A754-FB39E256CF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5BF64-6293-47DF-B389-BF54F5C9BD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Pipeline</a:t>
            </a:r>
            <a:r>
              <a:rPr b="0" lang="zh-CN" sz="4400" spc="-1" strike="noStrike">
                <a:solidFill>
                  <a:srgbClr val="999900"/>
                </a:solidFill>
                <a:latin typeface="Verdana"/>
              </a:rPr>
              <a:t>을 통한 분석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reate a pipelin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PSMT"/>
                <a:ea typeface="TimesNewRomanPSMT"/>
              </a:rPr>
              <a:t>Starting point: </a:t>
            </a:r>
            <a:r>
              <a:rPr b="0" lang="en-US" sz="2400" spc="-1" strike="noStrike">
                <a:solidFill>
                  <a:srgbClr val="ff0000"/>
                </a:solidFill>
                <a:latin typeface="TimesNewRomanPSMT"/>
                <a:ea typeface="TimesNewRomanPSMT"/>
              </a:rPr>
              <a:t>Concrete model </a:t>
            </a:r>
            <a:r>
              <a:rPr b="0" lang="en-US" sz="2400" spc="-1" strike="noStrike">
                <a:solidFill>
                  <a:srgbClr val="000000"/>
                </a:solidFill>
                <a:latin typeface="TimesNewRomanPSMT"/>
                <a:ea typeface="TimesNewRomanPSMT"/>
              </a:rPr>
              <a:t>of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PSMT"/>
                <a:ea typeface="TimesNewRomanPSMT"/>
              </a:rPr>
              <a:t>First build </a:t>
            </a:r>
            <a:r>
              <a:rPr b="0" lang="en-US" sz="2400" spc="-1" strike="noStrike">
                <a:solidFill>
                  <a:srgbClr val="ff0000"/>
                </a:solidFill>
                <a:latin typeface="TimesNewRomanPSMT"/>
                <a:ea typeface="TimesNewRomanPSMT"/>
              </a:rPr>
              <a:t>reduced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PSMT"/>
                <a:ea typeface="TimesNewRomanPSMT"/>
              </a:rPr>
              <a:t>Then build </a:t>
            </a:r>
            <a:r>
              <a:rPr b="0" lang="en-US" sz="2400" spc="-1" strike="noStrike">
                <a:solidFill>
                  <a:srgbClr val="ff0000"/>
                </a:solidFill>
                <a:latin typeface="TimesNewRomanPSMT"/>
                <a:ea typeface="TimesNewRomanPSMT"/>
              </a:rPr>
              <a:t>abstract timing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84EB-3CCE-49CD-8C53-94ACFE9FB4C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F2F56F-93B7-4648-BDB9-15DD4EFAC8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Pipeline</a:t>
            </a:r>
            <a:r>
              <a:rPr b="0" lang="zh-CN" sz="4400" spc="-1" strike="noStrike">
                <a:solidFill>
                  <a:srgbClr val="999900"/>
                </a:solidFill>
                <a:latin typeface="Verdana"/>
              </a:rPr>
              <a:t>을 통한 분석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3705120" cy="35877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364000" y="2060640"/>
            <a:ext cx="2795760" cy="374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C7FC-9F19-4168-8877-D6AE2482700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876063-11C3-4C32-AC6D-40F5F44F08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Pipeline</a:t>
            </a:r>
            <a:r>
              <a:rPr b="0" lang="zh-CN" sz="4400" spc="-1" strike="noStrike">
                <a:solidFill>
                  <a:srgbClr val="999900"/>
                </a:solidFill>
                <a:latin typeface="Verdana"/>
              </a:rPr>
              <a:t>을 통한 분석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 Instruction-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6397560" cy="41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A4F2-0087-4680-9FC3-66B5DEEAB58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72E40-6C0E-4709-A366-E2D7F5EF32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ILP</a:t>
            </a:r>
            <a:r>
              <a:rPr b="0" lang="zh-CN" sz="4400" spc="-1" strike="noStrike">
                <a:solidFill>
                  <a:srgbClr val="999900"/>
                </a:solidFill>
                <a:latin typeface="Verdana"/>
              </a:rPr>
              <a:t>를 이용한 경로 분석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M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P solver maximizes this function to determine the WC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6912000" cy="101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931B-A2EC-46F2-BA90-43AB8A61F2C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4E8AA-AD68-4584-9C12-E727314FDC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ILP</a:t>
            </a:r>
            <a:r>
              <a:rPr b="0" lang="zh-CN" sz="4400" spc="-1" strike="noStrike">
                <a:solidFill>
                  <a:srgbClr val="999900"/>
                </a:solidFill>
                <a:latin typeface="Verdana"/>
              </a:rPr>
              <a:t>를 이용한 경로 분석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(simplified constrai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6624720" cy="414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00CA-C500-4629-A5AA-0C29DBDA219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FE712-9EAE-452F-9A76-3568924294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Q&amp;A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3330-2CA9-4888-A834-D3854428621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208F3A-685C-4646-9C33-D13899A18B7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Quiz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1. Cache prediction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방식에서 사용하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방식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가지를 제시하고 이것이 궁극적으로 뜻하는 바가 무엇인지 서술 하시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1. Must analysi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방식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analysi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방식이 있으며 전자분석 방식은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ch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안에 특정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이 존재한다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에 관한 정보를 알려주는 분석이며 후자는 분석결과 나온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ch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안의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이외의 것을 참조하면 항상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che mis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가 난다는 것을 알려주는 분석이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5AE7-9399-498C-89F9-BCDC72A395F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05D516-BA78-42D5-B1B1-7D2B96DF09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Quiz (cont’d)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Q2.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다음 그림은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ILP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를 이용한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Path analysis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방식이다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여기서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의 실행 회수가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일때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Worst Case Execution Time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을 아래 공식을 이용하여 구하여라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36957" b="0"/>
          <a:stretch/>
        </p:blipFill>
        <p:spPr>
          <a:xfrm>
            <a:off x="900000" y="3068640"/>
            <a:ext cx="3240360" cy="32194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643280" y="3141720"/>
            <a:ext cx="3961080" cy="5842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508720" y="37162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공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1AF0-3155-453B-B9F1-5BE5C46C20B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AFB61D-D2D1-435B-AF0D-684F1279A9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Quiz (cont’d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2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방정식의 해를 구하면 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의 실행회수는 오른쪽 하단과 같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그러므로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한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한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를 한번 실행하여 수행하는 것이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cycle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로 가장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 case execution tim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를 가진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rcRect l="63049" t="0" r="0" b="0"/>
          <a:stretch/>
        </p:blipFill>
        <p:spPr>
          <a:xfrm>
            <a:off x="5219640" y="1844640"/>
            <a:ext cx="31543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F44F-726B-461E-897D-77A9B67EF2E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332D6-4B24-464C-BB2A-F3A0CD72218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Introduction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Upper Bounds (WCETs)!!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Key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It has to be </a:t>
            </a:r>
            <a:r>
              <a:rPr b="1" i="1" lang="ko-KR" sz="2400" spc="-1" strike="noStrike">
                <a:solidFill>
                  <a:srgbClr val="000000"/>
                </a:solidFill>
                <a:latin typeface="Arial"/>
              </a:rPr>
              <a:t>Safe~!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i="1" lang="ko-KR" sz="2400" spc="-1" strike="noStrike">
                <a:solidFill>
                  <a:srgbClr val="000000"/>
                </a:solidFill>
                <a:latin typeface="Arial"/>
              </a:rPr>
              <a:t>Tight~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The state space is too large to explore all possible executions, So! Determine the exact Worst, best-case executio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63640" y="3933720"/>
            <a:ext cx="597708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C9C6-4F4C-436A-B558-5A8DB73CB9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230F8-D771-4B3A-8980-7424F4ACC7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Introduction (cont)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odern MP architectures cache, pipelines, and all kinds of speculation are key features for improving performance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lex~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ecution time of individual instructions and the contribution of one execution of an instruction can vary wid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ction go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mooth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rough the pip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go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rong~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143C-092D-4519-984D-2080F995AF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6A2009-D1F6-44BA-9E54-0F91D9F4C4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Introduction (cont)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5905440" cy="357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415D-AD80-4F91-9924-BED8FBBC9DD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6C642-602D-43E0-934F-BC832CD96D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Introduction (cont)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ing acc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 that increase in execution time ex) cache mi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ing pena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Cycle ex) cache miss pena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predict or exclude timing acci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 information about the execution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luding timing accidents = decreasing the upper b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! Exception case (timing anoma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C9B1-D0E0-42D9-8F4D-E444DE3EC5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B39495-1ABD-42B7-9E44-2E51E28DBB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Introduction (cont)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95640" y="2276640"/>
            <a:ext cx="5832360" cy="331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D20D-C429-4324-8DD0-6F52A047A16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7AC8A8-E01D-42E3-BD4E-01F08B3065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Introduction (cont)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Timing Anoma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Contra-intuitive influences of the </a:t>
            </a:r>
            <a:r>
              <a:rPr b="1" i="1" lang="ko-KR" sz="2400" spc="-1" strike="noStrike">
                <a:solidFill>
                  <a:srgbClr val="000000"/>
                </a:solidFill>
                <a:latin typeface="Arial"/>
              </a:rPr>
              <a:t>local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execution time of one instruction on the </a:t>
            </a:r>
            <a:r>
              <a:rPr b="1" i="1" lang="ko-KR" sz="2400" spc="-1" strike="noStrike">
                <a:solidFill>
                  <a:srgbClr val="000000"/>
                </a:solidFill>
                <a:latin typeface="Arial"/>
              </a:rPr>
              <a:t>global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execution time of the whol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Ex) a locally faster execution of an instruction can lead to a globally longer execution time of the whole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Ex) a cache miss may actually speed up program exec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0EF1-64AE-468D-9D3E-2ED78A745A6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9B1208-3B62-4E1C-860F-9159378DEF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09:19:43Z</dcterms:created>
  <dc:creator>Chanmin</dc:creator>
  <dc:description/>
  <dc:language>en-US</dc:language>
  <cp:lastModifiedBy>Chanmin</cp:lastModifiedBy>
  <dcterms:modified xsi:type="dcterms:W3CDTF">2006-10-11T06:16:42Z</dcterms:modified>
  <cp:revision>23</cp:revision>
  <dc:subject/>
  <dc:title>       Determining Bounds                             on Execution Times</dc:title>
</cp:coreProperties>
</file>