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72A8-1B33-4413-97D3-A21B3C5D7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99640" y="3873600"/>
            <a:ext cx="7885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0B07-C311-4BB8-A548-E54AC1FA1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99640" y="387360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39920" y="387360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9FD9-0BDC-4E77-B723-2F4393FB6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65800" y="105264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1600" y="105264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99640" y="387360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65800" y="387360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1600" y="387360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AA3E-389C-462A-84E4-F6A566BF2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4B7D-FFE8-47EB-97B8-E896F60FAD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2048-8122-4A31-BD7E-51E4C770AD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FF3B8-5314-4244-846D-D2129D082D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703F-316D-4AFC-B26F-4EDEBDBACE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B8FE-C862-45B3-AC9D-F450709F37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00000" y="115920"/>
            <a:ext cx="82440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3D3C-50B7-4C7F-901A-F3A70BAFEA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99640" y="387360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22F2-F991-4398-8217-571D7AC14D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D59D-C271-4914-B3C9-8E564F98F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39920" y="387360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18DE-2366-40F5-8850-7A2D226B6D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99640" y="3873600"/>
            <a:ext cx="7885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49B9-2FF5-4078-B7A1-9F966024EE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99640" y="3873600"/>
            <a:ext cx="7885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F4E4-F9B5-406B-A08D-B934814E4D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99640" y="387360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39920" y="387360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0EFBF-E71E-4665-8FCC-0BB2EAAA9B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65800" y="105264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31600" y="105264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99640" y="387360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65800" y="387360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31600" y="387360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20B5-3BD6-4F48-B4E4-0FFFB24685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AC60-7D80-46C2-8F5E-FE0FDA064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BE78-7DC8-47A4-96D9-861D2FDC5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32A2-06D5-4510-AA57-DA38BA04A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115920"/>
            <a:ext cx="82440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CAC2-93B8-49FC-B96E-1855893FE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99640" y="387360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FCEA-54CD-4BBD-801D-676884985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9920" y="387360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A6BF-E846-477F-AEFC-E4A33C325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99640" y="3873600"/>
            <a:ext cx="7885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A226-8709-49ED-866C-89638DAD3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56000" y="646272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FFD7-2523-4D75-B205-A76D28B28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4920" y="0"/>
            <a:ext cx="82692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271440"/>
            <a:ext cx="191880" cy="1810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53966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507960" y="439560"/>
            <a:ext cx="192240" cy="18108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53966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841320"/>
            <a:ext cx="9142560" cy="6660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63504" dir="1938390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7308720" y="6354720"/>
          <a:ext cx="161928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6354720"/>
                    <a:ext cx="1619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0560" y="1125360"/>
            <a:ext cx="7093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020000" y="6308640"/>
          <a:ext cx="1944720" cy="4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20000" y="6308640"/>
                    <a:ext cx="194472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2987280" y="638172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22F4-A9D6-4AA6-A6E4-01A32E696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41444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Embedded Systems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HAPTER 2: Real-Time in Embedded Systems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422100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CAD &amp; SoC Lab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ko-KR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 Hong Gi Ho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EFE6E-1675-40ED-B62D-D76CBDC48D5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2.3 Execution Strategi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Two main execution paradigms for RTS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ime-triggered and event-trigge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ime-trigger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hen using timed-triggered execution, activities occur at predefined instances of tim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Event-trigger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 an event-triggered execution, actions are triggered by event occurrenc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ime-triggered dependability and event-triggered flexibil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E631-C59D-44CF-8805-CBC564CEBD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2.4 Component-Based Desig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BD, a software component is used to encapsulate some functionality. That functionality is only accessed through the interface of the component. A system is composed by assembling a set of components and connecting their interfac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C410-6FE8-4D96-8DD7-1DF725DFE0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2.5 Tools for Design of RTS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ML (United Modeling Languag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UML’s focus is mainly on client-server solutions, and it has proven inapt for RTSs desig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extend U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xtend UML with constructs suitable for real-time programs have emerg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SD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he fundamental model of computation is the message-box mode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For more resource constrained hard RT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rcticus System, TTTech, and Vecto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ML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ithin the near future UML2 will become an adopted standar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1142-D112-493B-BE14-A316ED9932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3 Real-Time Operating System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Using a general-purpose OS when developing RTSs has several drawback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High resource util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Difficult to access hardware and devices in a timely mann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Lack of services to allow timing sensitive interactions between different proces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6ACB-1FE6-4026-9C4D-4EFE1606F7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3.1 Typical Properties of RTOS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As a general rule of thumb one can say that RTOSs ar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Suitable for resource constrained environ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Giving the application programmer easy access to hardware featur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roviding services that allow implementation of timing sensitive co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ailored to fit the embedded systems development proce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F7CD-8020-4F18-809F-D92E16F8ED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3.2 Mechanisms for Real-Time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of the most important functions of an RTOS is to arbitrate access to shared resourc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wo most obvious resource that the RTOS manages access to ar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PU – that is, the RTOS should allow processes to execute in a predictable mann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ed memory areas – that is, the RTOS should resolve contention to shared memory in a way that gives predictable tim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59C8-2B36-4069-85B5-13A4C0DE19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3.2 Mechanisms for Real-Time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3.2.1 Priority Inheritance Protoco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priority inheritance protocol (PIP) makes a low priority task inherit the priority of any higher priority task that becomes blocked on a resource locked by the lower priority tas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PIP is not adequate for hard RT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3.2.2 Priority Ceiling Inheritance Protoco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priority ceiling protocol (PCP) associates a ceiling value that is equal to the highest priority of any task that may lock the resou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RTOS scheduler will manipulate task priorities to avoid the problems of PI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65C3-390D-455E-BB17-FA45BF96B3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3.2 Mechanisms for Real-Time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3.2.3 Immediate Ceiling Priority Inheritance Protoco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mmediate inheritance protocol (IIP) also associates, to each resource, a ceiling value that is equal to the highest priority of any task that may lock the resource. However, different from PCP, in IIP a task is immediately assigned the ceiling priority of the resource it is lock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288E-3260-4F83-B703-C178113B81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3.3 Commercial RTOS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The rich set of primitives provide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Ex) Tornado/VxWorks, LYNX, OSE, QNX, RT-Linux, and Thread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A smaller set of primitives provide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Ex) the research RTOS Asterix and the commercial RTOS SSX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Standard AP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Many of the commercial RTOSs provide standard AP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Ex) RT-POSIX, OSEK, APE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6A6E-7A13-4579-BD8A-FD8D4CC7D2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4 Real-Time Scheduling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ditionally, real-time schedulers are divided in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ffl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cheduler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line schedulers make all scheduling decisions before the system is execu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schedulers, on the other hand, decide during execution, based on various parameters, which task should execute at any given ti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19CF-2170-41A6-991D-2A385190A4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2.1 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2.2 Design of RT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2.3 Real-Time Operating Syst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2.4 Real-Time Schedu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2.5 Real-Time Commun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A7F8-5101-41F7-B622-A50E6CDFEE5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4.1 Introduction to Scheduling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A RTS can be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preemptive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nonpreemptive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a preemptive system, tasks can preempt each other, letting the task with the highest priority execu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a nonpreemptive system a task that has been allowed to start will execute until its comple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Tasks can be categorized into either being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sporadic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aperiodic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ypically, tasks that perform measurements are periodic, collecting some value(s) every 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 time un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 sporadic task is typically reacting to an event/interrup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sually aperiodics are triggered by interrup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185F-F4FF-4BFD-BBA6-4AF5C30C19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4.2 Offline Scheduler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fline Schedulers (table-driven scheduler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chedulers create a schedule (the table) before the system is started (offline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runtime, a dispatcher follows schedule, and makes sure that tasks are only executing at their predetermined time slo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line schedules are commonly used to implement the time-triggered execution paradig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1E9E-5832-49B9-A25E-F29F9DF790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4.3 Online Scheduler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heduling policies that make their scheduling decisions during runtime are classified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nline schedul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hedulers that base their scheduling decisions on task priorities are also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iority-based schedul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0173-189A-4B15-A77E-B36595C2DC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4.3.1 Priority-Based Scheduler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priority-based schedulers the flexibility is increased, since the schedule is created onlin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xed-Priority Scheduling (FP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arliest Deadline First (EDF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FP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orities are assigned to the tasks before execution (offline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task with the highest priority among all tasks that are available for execution is scheduled for execut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ED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task with the nearest (earliest) deadline among all available task is selected for execut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4CDB-2DF9-42A7-9799-1808001053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4.3.2 Scheduling with Aperiodic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In order for the priority-based schedulers to cope with aperiodic tasks, different service methods have been presente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These services are implemented using special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 task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sing FPS, for instance, the Sporadic Server (SS) is presented by Sprunt et 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sing EDF, Dynamic Sporadic Server (DSS) extends 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Other EDF-based schedulers are the Constant Bandwidth Server (CBS), presented by Abeni and Buttazzo, and the Total Bandwidth Server (TBS) by Spuri and Buttazz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E61A-4964-4B35-93D0-33C9FEB6D5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5 Real-Time Communication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Real-time communication aims at providing timely and deterministic communication of data between distributed devices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There are real-time communication networks of different types, ranging from small fieldbus-based control systems to large Ethernet/Internet distributed applications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In this section we give a brief introduction to communications in general and real-time communications in particular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7E8C-8CEB-4375-8D47-9F0263EAF9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5.1 Communication Techniqu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SMA/CD (Carrier Sense Multiple Access/ Collision Detectio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SMA/CD is used, for example, in Etherne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SMA/CA (Carrier Sense Multiple Access/ Collision Avoidanc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xamples of networks that implement CSMA/CA are Controller Area Networks (CAN) and ARINC 62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DM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One example of a TDMA-based real-time network is TTP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okens are used in, for example, Profibu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Mini slot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Mini slotting can be found in, for example, FlexRay and ARINC 62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374E-BDCF-4964-BFED-7D768AB1EF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Fieldbuses are a family of factory communication networks that have evolved as a response to the demand to reduce cabling costs in factory automation system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Fieldbuses used in the automotive industry are, for example, CAN, TT-CAN, TTP, LIN, and FlexRa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avionics, ARINC is one of the frequently used communication standar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rofibus is widely used in automation and robotic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trains TCN and WorldFIP are very popular communication technologi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8C3B-C15C-4797-9907-FA8F0C40FC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2.1 Controller Area Networ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Controller Area Network (CAN) was standardized by the International Standardisation Organisation (ISO) in 199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oday CAN is a widely used fieldbu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AN is an event-triggered broadcast bus designed to operate at speeds of up to 1 Mbp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AN is using a fixed-priority based arbitration mechanism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AN is a collision-avoidance broadcast bus. (so-called CSMA/C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4179-5CC6-49D2-A2EE-1ADFC7D6DF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.2.2 Time-Triggered C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-triggered communication on CAN (TT-CAN) is a standardized session layer extension to the original C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T-CAN, the exchange of message is controlled by the temporal progression of time, and all nodes are following a predefined static schedul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is also possible to support original event-triggered CAN traffic together with the time-triggered traffi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atic schedule is based on a time division (TDMA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ral semiconductor vendors are manufacturing TT-CAN compliant devic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5862-1FEA-4910-B4DF-D89C7C5AD6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1 Introduc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9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There is no commonly agreed upon definition fo what a RTS is, but the following characterization is (almost) universally accepted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RTSs are computer systems that physically interact with the real worl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RTSs have requirements on the timing of these interacti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Real-time requirements typically express that an interaction should occur within specified timing bound. This is quite different from requiring the interaction to be as fast as possibl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4501-ECA9-4B84-9027-EE7C2B1B06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2.3 Flexible Time-Triggered C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Flexible time-triggered communication on CAN (FTT-CAN) provides a way to schedule CAN in a time-triggered fashion with support for event-triggered traffic as wel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FTT-CAN supports both periodic and aperiodic traffic by dividing the EC into two par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FTT-CAN is still mainly an academic communication protoco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CE98-E79D-4ED2-B00E-DDFE88E641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2.4 Time-Triggered Protoco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Time-Triggered Protocol Class C (TTP/C) is a a TDMA based communication network intended for truly hard real-time communic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TP/C is available for network speeds of up to 25Mbp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TP/C is part of the Time-Triggered Architecture (TTA) by Kopetz, which is designed for safety critical application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TP/C has support for fault tolerance, clock synchronization, membership services, fast error detection, and consistency check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For the less hard RTSs, there exists a scaled-down version of TTP/C called TTP/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08B3-7E64-482B-826D-943535A017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2.5 Local Interconnect Networ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Local Interconnect Network LIN, was developed by the LIN Consortium as a low cost alternative for small network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LIN is cheaper than, for example, CA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LIN is using the UART/SCI interface hardware, and transmission speeds are possible up to 20 Kbp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he traffic is sent in a time-triggered fash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2.6 FlexR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FlexRay was proposed in 1999 by several major automotive manufacturers, for example, Daimler-Chrysler and BMW, as a competitive next generation fieldbus replacing C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3339-05B2-444E-A454-F55149FE58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.2.6 ARINC 62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vionic and aerospace communication systems, the ARINC 429 standard and its newer ARINC 629 successor are the most commonly used communication systems toda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INC 629 supports both periodic and sporadic communicat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us is scheduled in bus cycles, which in turn are divided in two part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rbitration of message is based on collision avoidance using mini-slotting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 speeds as high as 2Mbp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9300-A705-4351-A985-76C04602F8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2.8 Profibu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rofibus is used in process automation and robotic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re are three different version of Profibu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rofibus-DP, Profibus-PA, Profibus-F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rofibus is available with data rates up to 12Mbp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2.9 Train Communication Networ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Train Communication Network (TCN) is widely used in trains, and implements the IEC 61275 standard as well as the IEEE 1473 standar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CN is composed of two network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The Wire Train Bus (WTB) and the Multifunction Vehicle Bus (MVB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The WTB’s network data rate is up to 1 Mbp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The MVB’s data rate is 1.5 Mbp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5F95-0C36-440E-9B60-D8D1944BFE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9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5.2.10 WorldFI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The WorldFIP is a very popular communication network in train control system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WorldFIP is based on the Producer-Distributor-Consumers (PDC) communication mode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urrently, network speeds are as high as 5Mbp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WorldFIP protocol defines an application layer that includes PDC- and messaging-servic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F3EB-A455-47FC-8329-2A846FAF4E6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00"/>
                </a:solidFill>
                <a:latin typeface="Verdana"/>
              </a:rPr>
              <a:t>2.5.3 Ethernet for Real-Time Communincation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Ethernet is not originally developed for real-time communication since the original intention with Ethernet is to maximaze throughput (bandwidth)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However, nowadays, a big effort is being made in order to provide real-time communication using Etherne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601E-9DA7-4B5D-8AE1-54A81F263C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00"/>
                </a:solidFill>
                <a:latin typeface="Verdana"/>
              </a:rPr>
              <a:t>2.5.3 Ethernet for Real-Time Communincation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3.1 TDM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 simple solution would be to eliminate the occurrence of collisions on the networ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is has been explored by, for example, Kopetz et al., using a TDMA protocol on top of Etherne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3.2 Usage of Toke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nother solution to eliminate the occurrence of collisions is the usage of toke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oken-based solutions on the Ethernet also eliminates collisions, but is not compatible with standard hardwa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C880-7F94-4F44-95FB-460EC4BDFE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00"/>
                </a:solidFill>
                <a:latin typeface="Verdana"/>
              </a:rPr>
              <a:t>2.5.3 Ethernet for Real-Time Communincation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3.3 Modified Collision Resolution Algorith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sing standard Ethernet controllers, the modified collision resolution algorithm is nondeterministic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order to make a deterministic modified collision resolution algorithm, a mojor modification of the Ethernet controllers is requi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3.4 Virtual Time and Window Protoc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A062-A1E3-44A2-B6AF-5456483865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00"/>
                </a:solidFill>
                <a:latin typeface="Verdana"/>
              </a:rPr>
              <a:t>2.5.3 Ethernet for Real-Time Communincation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3.5 Master/Sla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s a part of the FTT framework, FTT Ethernet is proposed as a master/multislave protoco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3.6 Traffic Smooth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raffic smoothing can be used to eliminate bursts of traffic that have severe impact on the timely delivery of message packets on the Etherne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raffic smoothing could be a solution for soft RT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DE09-8EB1-45D0-90A2-22F8A58D123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1 Introduc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Hard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- and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Soft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- RTS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 system that is designed to meet strict timing requirements is often referred to as a 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</a:rPr>
              <a:t>hard RTS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x) engine control syste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contrast, systems for which occasional timing failures are acceptable are termed 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</a:rPr>
              <a:t>soft RTS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x) banking syste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0F9B-AABD-4310-8418-C94426BEBD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00"/>
                </a:solidFill>
                <a:latin typeface="Verdana"/>
              </a:rPr>
              <a:t>2.5.3 Ethernet for Real-Time Communincation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.3.7 Black Burs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ck burst is implementing a collision avoidance protocol on Etherne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station want to submit a message, the station waits until the network is idle, no traffic is being transmit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.3.8 Switch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using these switches, a collision free network is provid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ever, this requires new hardware supporting the IEEE 802.1p standar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044D-C061-4439-B55C-C651996A5C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5.4 Wireless Communica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are no commercially available wireless communication protocols providing real-time guarante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day, a big effort is being made (as with Ethernet) to provide real-time guarantees for wireless communication, possibly by using ether WLAN or Bluetoot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0ACC-EDBB-4904-B8A1-284735D9557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2 Design of RTS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This section presents some important architectural issues for embedded RTSs, together with some supporting commercial tool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07D6-7791-42DD-84E0-029ABF8AC0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2.1 Reference Architecture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1052640"/>
            <a:ext cx="4392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Figure 2.1 is a model of any computer-based system interacting with an external environment via sensors and actuators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076640"/>
            <a:ext cx="7632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The simplest RTS is a single processor, but in many cases the RTS is a distributed computer system consisting of a set of processors interconnected by a communications networks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651640" y="1268280"/>
          <a:ext cx="2814480" cy="25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268280"/>
                    <a:ext cx="2814480" cy="25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A89F-04D4-4367-8AEC-641F2A4D8A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2.2 Models of Interac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type of software unit, such as a task or a modu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ictable and unpredictable mode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ictable models are have a more predictable and robust behavior with respect to timing than other mode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pes-and-filt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sher-subscri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ackboar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predictable models increase the (timing) unpredictability of the syste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-serv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ssage box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4CD0-A170-42BB-B279-D5C1B50289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2.2 Models of Interaction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2.2.1 Pipes-and-Filt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this model, both data and control flow is specified using input and output ports of compon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2.2.2 Publisher-Subscrib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publisher-subscriber model is similar to the pipes-and-filters model but it usually decouples data and control flo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2.2.3 Blackboar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blackboard model allows variables to be published on a globally available balckboard are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8136-F895-4B9F-ADF4-9F329F95A5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2.2 Models of Interac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.2.4 Client-Serv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client-server model, a client asynchronously invokes the service of a serv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lient-server model has inherently unpredictable timing. Since services are invoked asynchronous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.2.5 Message Bo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mponent can have a set of message boxes, and components communicate by posting messages in each other message box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2EC0-1A30-4765-A079-D630DBCDD8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8:48:21Z</dcterms:created>
  <dc:creator>Jin-Suk Youn</dc:creator>
  <dc:description/>
  <dc:language>en-US</dc:language>
  <cp:lastModifiedBy>guru</cp:lastModifiedBy>
  <dcterms:modified xsi:type="dcterms:W3CDTF">2006-09-13T03:51:27Z</dcterms:modified>
  <cp:revision>1073</cp:revision>
  <dc:subject/>
  <dc:title>슬라이드 1</dc:title>
</cp:coreProperties>
</file>