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253F-D4AF-4530-8BEA-ABDC81544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8E21-EFA0-4540-8823-78FB89447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9E6E-0C61-4AAF-8E15-2C426F135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78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78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FAF8-89EE-4320-B07A-082900B1C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64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E568-161E-4F98-A9F3-6F232E4A3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78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78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4983-B5AC-4C2A-B261-7AA682EBA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2AA9-BA45-4537-9EF8-FF981374E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E007-2134-4B59-8909-9424AEAED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64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7119-DDA1-4D8B-A532-4703A37AC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4FEC-03D4-480B-AE96-64F43ACA0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2CFD-B142-4989-9782-6B6AE8954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7977-1E56-4002-91A6-3A62D9802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876720" y="6533640"/>
            <a:ext cx="213372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EA51-85D5-4AC3-B344-516E07F7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6360" y="0"/>
            <a:ext cx="576000" cy="6858000"/>
          </a:xfrm>
          <a:prstGeom prst="rect">
            <a:avLst/>
          </a:prstGeom>
          <a:solidFill>
            <a:srgbClr val="cce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9080" y="200160"/>
            <a:ext cx="191880" cy="18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203040" y="368280"/>
            <a:ext cx="192240" cy="1810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524640"/>
            <a:ext cx="9142560" cy="66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2280"/>
            <a:ext cx="9142560" cy="66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246960" y="654840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AD &amp; SoC Design La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70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휴먼엑스포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휴먼엑스포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77080" y="6359400"/>
          <a:ext cx="2089080" cy="4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6359400"/>
                    <a:ext cx="2089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250920" y="765000"/>
            <a:ext cx="8546760" cy="139320"/>
            <a:chOff x="250920" y="765000"/>
            <a:chExt cx="8546760" cy="139320"/>
          </a:xfrm>
        </p:grpSpPr>
        <p:sp>
          <p:nvSpPr>
            <p:cNvPr id="49" name=""/>
            <p:cNvSpPr/>
            <p:nvPr/>
          </p:nvSpPr>
          <p:spPr>
            <a:xfrm>
              <a:off x="250920" y="765000"/>
              <a:ext cx="8546760" cy="69840"/>
            </a:xfrm>
            <a:prstGeom prst="rect">
              <a:avLst/>
            </a:prstGeom>
            <a:gradFill rotWithShape="0">
              <a:gsLst>
                <a:gs pos="0">
                  <a:srgbClr val="00cc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59000" y="881640"/>
              <a:ext cx="8154000" cy="21960"/>
            </a:xfrm>
            <a:prstGeom prst="rect">
              <a:avLst/>
            </a:prstGeom>
            <a:gradFill rotWithShape="0">
              <a:gsLst>
                <a:gs pos="0">
                  <a:srgbClr val="00cc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24360" y="6098400"/>
            <a:ext cx="8546760" cy="138960"/>
            <a:chOff x="324360" y="6098400"/>
            <a:chExt cx="8546760" cy="138960"/>
          </a:xfrm>
        </p:grpSpPr>
        <p:sp>
          <p:nvSpPr>
            <p:cNvPr id="52" name=""/>
            <p:cNvSpPr/>
            <p:nvPr/>
          </p:nvSpPr>
          <p:spPr>
            <a:xfrm rot="10800000">
              <a:off x="324360" y="6167880"/>
              <a:ext cx="8546760" cy="69480"/>
            </a:xfrm>
            <a:prstGeom prst="rect">
              <a:avLst/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509040" y="6098040"/>
              <a:ext cx="8154000" cy="21960"/>
            </a:xfrm>
            <a:prstGeom prst="rect">
              <a:avLst/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86640" y="638172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AD &amp; SoC Design La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휴먼엑스포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42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Real-Time Embedded OS 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Standards and Perspectives</a:t>
            </a:r>
            <a:endParaRPr b="1" i="1" lang="en-US" sz="36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휴먼엑스포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4437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yen, Seung ma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2000" y="3213000"/>
            <a:ext cx="6119640" cy="1152720"/>
          </a:xfrm>
          <a:prstGeom prst="ellipse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1.2.2 Process and Thread Mod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: program in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share memory, but communicate each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arated activ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sted of program text, data, resources, and status of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d heavy-weight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3502080"/>
            <a:ext cx="115236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328608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tex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400536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350208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364500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57336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40360" y="37180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3983400" y="4508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DB3E-8D48-4854-960D-45DE1437F4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Provide parallel processing like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Faster to switch co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hare memory and communicate through mem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Called light-weight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ingle thread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ultiThre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2781360"/>
            <a:ext cx="1009800" cy="358560"/>
          </a:xfrm>
          <a:prstGeom prst="rect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393228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986200" y="3932280"/>
            <a:ext cx="720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2781360"/>
            <a:ext cx="1079640" cy="358560"/>
          </a:xfrm>
          <a:prstGeom prst="rect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5653080" y="393228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3932280"/>
            <a:ext cx="720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923080" y="3355920"/>
          <a:ext cx="434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3355920"/>
                    <a:ext cx="43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flipH="1">
            <a:off x="2553840" y="3139920"/>
            <a:ext cx="7308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11280" y="3429000"/>
          <a:ext cx="522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429000"/>
                    <a:ext cx="52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46920" y="3355920"/>
          <a:ext cx="434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6920" y="3355920"/>
                    <a:ext cx="43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6227280" y="3139920"/>
            <a:ext cx="14292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3139920"/>
            <a:ext cx="21600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83160"/>
            <a:ext cx="2232000" cy="431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5014800"/>
            <a:ext cx="2232000" cy="43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446800"/>
            <a:ext cx="2232000" cy="1006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465444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4654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4654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763640" y="5040360"/>
            <a:ext cx="936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5049720"/>
            <a:ext cx="93636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558972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393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786600" y="5807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4556160"/>
            <a:ext cx="2158920" cy="431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508720" y="462744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4627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4627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54688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554688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22944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622944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26760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26760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95016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95016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98832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98832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5F13-F8BF-4D82-B8C0-B780BECD4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11.2.3 processor schedul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radeoffs between real-time predictability, implementation complexity, and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in, First out with priority cl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ixed priority schedu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Never changes thread priorities at runt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Known as  round – robin schedu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Earliest deadline fir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xecutes the thread with the nearest deadl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poradic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uitable for aperiodic event hand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ain scheduling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Execution capac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Replenishment peri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5199-6821-4CD0-835F-3DCC2FBCF2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11.2.4 interprocess synchronization and communic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ynchronization data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wo operations for semaphore( like push and pop operation for stac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P : wait op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V : signal op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ncurrency construct for process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responsibility -&gt; compi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itors are a programming language constru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Hided the data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X.wait : suspended until another process invokes x.sig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X.signal : resume one suspended process by x.wa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1E16-8296-436D-977C-ADB7BBAB8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age Pa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require a shared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ed to distribute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2620800"/>
            <a:ext cx="1151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059280" y="276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5651640" y="2620800"/>
            <a:ext cx="115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046680" y="28368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397400" y="27637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4492800"/>
            <a:ext cx="115128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463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4492800"/>
            <a:ext cx="115092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21120" y="470844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609800" y="4691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deque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3851280" y="4491000"/>
            <a:ext cx="72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63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3448800" y="2133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assage pass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329640" y="400536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essaging and Queu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F788-ECEF-4BA4-A464-6250EC841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POSIX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Portable Operating system Interface for Computing Environ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published between 1988 and 19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cludes over 30 individual standards and covers a wide range of top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X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efines a standard operating system interface and environment, including real-time exten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Notes on portability, error handling and error re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1 Attribute object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Are devised to support future standardiz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ithout requiring that the functions operating on them be chang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 order to be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Attribute object must be first initialized – pthread_attr_in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Destoryed by invoking the pthread_attr_destroy function on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19B4-6CAF-4F01-80B2-0DAD4C062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2 Multithread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reate the new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thread_create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Creates a new thread within a process, sets up a thread identifi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fter creation, the thread immediately starts execu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erminate the new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returning from its main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calling the pthread_ex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accepting a cancellation request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Process and thread schedul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select a specific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ched_setscheduler function set both the scheduling policy and paramet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ched_getscheduler reads the scheduling policy and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thread_setchedparam, pthread_getschedparam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chduling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irst in, First out (SCHED_FIF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ound robins(SCHED_R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Optionally, the sporadic server scheduler (SCHED_SPORADI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5667-9F31-434C-9A6F-A454636B90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4 Real-Time signals and asynchronous event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SO C standar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ovide a mechanism to convey information to a process or thread when it is not necessarily waiting for in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EEE Std 1003.1-200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xtends the signal mechanism to make it suitable for real-ime handling of exceptional condition and ev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n error occurring during the execution of the process (ex, memory –invalid point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Various system and hardware failure , such as a power fail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99C0-0EC1-4F2C-A090-9BB4FD5DBA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5 interprocess synchronization and communic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tandard are the semaphore and the message que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ultithreading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essage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open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ither creates or opens a message queue and connects it with the calling pro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close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emoves the association between queue descriptor and its message 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send and mq_receive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unctions send and receive a message to and from a message 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Unnamed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reated by the sem_in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Named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reated and accessed by the sem_open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wait function – P operation on the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post function – V operation on the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getvalue function – returns the current value of a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1889-7D84-44D5-8D68-B6D8DC1DD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6 thread-specific data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All threads belonging to the same process share the same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share access to all their global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Only the information allocated on the thread’s stack, such as function arguments and 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--&gt; So defining the concept of thread-specific d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7 memory managemen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he standard able to lock part or all of address spac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By mlock and mlockall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events from paged out in case of using the virtual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he lock is no longer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voke either the munlock or the munlock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770D-D5AA-40BD-8400-E339B4A1E4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 introduction &amp; background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2 Operating System Architecture and Function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3 The POSIX standard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Real-time, Open-source Operating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5 Virtual-Machine Operating System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2AE7-C6F3-46A4-AEBB-5F214F5ED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4. Real-Time, Open-source Operating Sy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Open-source Real-time operating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source code of an open-source real-time operating system can be used both to develop real-world application, and for study and experi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Open-source operating system have no purchasing cost and are inherently royalty f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e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ordinated by Red H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Based on a modular, layered real-time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mpatible with the POS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Not supprt multiple processes with independent address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uC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tripped-down version of the Linux operating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run on microcontrol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RT-linux and RT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clear separation between the real-time and nonreal-time doma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mall monolitic real-time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Real-time tasks operate in a prot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Linux kernel (nonreal-time kerne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1CEC-C122-44B6-A70E-6B74C2B0AE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Virtual-Machine Operating Sys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5.1 Related Work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introduced by Meyer and Seawright in the CP-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P-67 IBM 360/6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Including I/O device, but MMU virtualization wasnot attemp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MU virtualization was added by A. Auroux, CP-67 evolved into IBM produ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mmercial virtualization produ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Vmwar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5.2 Views of processor Stat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execution of each machine i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epends on processor st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ternal processor state depends on the mode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User-mode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ivileged-mode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7653-F108-4163-BAB4-13BBB26C0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Virtual-Machine Operating Sys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5.3 Operating Principl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differ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raditional operating syste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nes user-written programs to run in user mode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ccess privileged mode by means of a system ca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M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s virtual processors that can run either in user or in privileged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real, physical proces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rocessor mode – the physical processor is running 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irtual proces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rocessor is running 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CA7A-769F-4D65-BF61-84DE96ACDC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al-time computer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mely availability of computations results is as important as their correctn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mbedded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-purpose computer system built into a larger devi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not programmable by the end u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e difference between general purpose and embedded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s produced, so the cost is an important design go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-pow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enhance battery life, simple hardware archite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ify the hardware architecture, reducing clock speed, minimize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9303-94BE-4DF3-A120-0EB70A538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ual-mode oper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ode – execution done on behalf of a u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visor mode or system mode – execution done on behalf of 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vileged Instruc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d only in system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 for use by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 the processors state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es input/output de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es between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111400"/>
            <a:ext cx="1341360" cy="812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133720"/>
            <a:ext cx="1660680" cy="842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2060640"/>
            <a:ext cx="1727280" cy="842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557360"/>
            <a:ext cx="2232360" cy="554040"/>
          </a:xfrm>
          <a:custGeom>
            <a:avLst/>
            <a:gdLst>
              <a:gd name="textAreaLeft" fmla="*/ 390600 w 2232360"/>
              <a:gd name="textAreaRight" fmla="*/ 1618560 w 22323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924280"/>
            <a:ext cx="2521080" cy="576000"/>
          </a:xfrm>
          <a:custGeom>
            <a:avLst/>
            <a:gdLst>
              <a:gd name="textAreaLeft" fmla="*/ 441000 w 2521080"/>
              <a:gd name="textAreaRight" fmla="*/ 1827720 w 252108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268000" y="2923920"/>
            <a:ext cx="2232360" cy="554040"/>
          </a:xfrm>
          <a:custGeom>
            <a:avLst/>
            <a:gdLst>
              <a:gd name="textAreaLeft" fmla="*/ 390600 w 2232360"/>
              <a:gd name="textAreaRight" fmla="*/ 1618560 w 22323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4427640" y="1483920"/>
            <a:ext cx="2520720" cy="576360"/>
          </a:xfrm>
          <a:custGeom>
            <a:avLst/>
            <a:gdLst>
              <a:gd name="textAreaLeft" fmla="*/ 441000 w 2520720"/>
              <a:gd name="textAreaRight" fmla="*/ 1827720 w 2520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847080" y="310212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212960" y="31417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724560" y="364500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hared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1FA6-3DEA-401B-B9D8-43A5419DD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ystem cal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3213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3213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575440" y="30290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ra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2608920" y="1712880"/>
            <a:ext cx="8179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………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all(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……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716280"/>
            <a:ext cx="93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706920" y="3933720"/>
            <a:ext cx="9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482920" y="5013360"/>
            <a:ext cx="9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79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20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205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19640" y="53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640" y="50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79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068640"/>
            <a:ext cx="934920" cy="576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5641920" y="242100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R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522760" y="436572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Kernel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404F-2C5B-4BC3-9ADF-F1FAFC743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1.2.1 overall system architectur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thic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ldest des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icity, very low process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whole runs in privileged mode, running in user mode by executing the </a:t>
            </a:r>
            <a:r>
              <a:rPr b="1" i="1" lang="en-US" sz="1400" spc="-1" strike="noStrike">
                <a:solidFill>
                  <a:srgbClr val="00cc00"/>
                </a:solidFill>
                <a:latin typeface="Arial"/>
              </a:rPr>
              <a:t>system cal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rupt handling is done directly in the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 handling code is a priority higher than the priority of all other task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urther reduce processor overhead on small systems, it is possible to run in supervi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ed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refinement and generalization of the monolithic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e the operating system as a hierarchy of lay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tenance easi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 code is easier to read and underst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er structure of a layer can be changed without interfering with other lay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9F41-812E-456B-80F0-2579A9BF9C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kerne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ing to an absolute minimum the amount of privileged OS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ier to manage and mainta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ommunication between OS and appli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sending a message to the OS server and waiting for a re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ain purpose of the microkerne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handle the communication between application and serv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enforce a security policy on such commun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perform some critical OS functions such a accessing I/O device regi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inct machines connected by a communication networ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7E9-FBF3-499E-B0A1-8347E0B9D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781360"/>
            <a:ext cx="201636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413000"/>
            <a:ext cx="201636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002200"/>
            <a:ext cx="201636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276640"/>
            <a:ext cx="0" cy="74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06864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3789360"/>
            <a:ext cx="792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92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4292640"/>
            <a:ext cx="720720" cy="21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4292640"/>
            <a:ext cx="792360" cy="21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8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36464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781360"/>
            <a:ext cx="201600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1413000"/>
            <a:ext cx="201600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5002200"/>
            <a:ext cx="201600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2276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2924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4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84760" y="2046240"/>
            <a:ext cx="6836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214200" y="3860640"/>
            <a:ext cx="762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2781360"/>
            <a:ext cx="201600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1413000"/>
            <a:ext cx="201600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002200"/>
            <a:ext cx="201600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2276640"/>
            <a:ext cx="0" cy="74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308720" y="306864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36464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310400" y="9144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onolithi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450680" y="9478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aye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6936840" y="94788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lient/ser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3571920"/>
            <a:ext cx="86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3355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emory and I/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evice Manag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508640"/>
            <a:ext cx="1008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chedul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335772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172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459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8082360" y="1468800"/>
            <a:ext cx="1121760" cy="70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7979760" y="1924200"/>
            <a:ext cx="934560" cy="65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C362-BE67-41E2-A7FE-F3D60EFA0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virtual machine provides an interface identical to the underlying bare hardw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S creates the illusion of multiple processes, each executing on its own processor with its own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machine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ches all interrupt request and then redirect to OS handl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s complete protection of system resourc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each virtual machine is isolated from all other virtual mach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500280"/>
            <a:ext cx="1008000" cy="12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4724280"/>
            <a:ext cx="100800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5445000"/>
            <a:ext cx="1008000" cy="505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450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88000" y="3429000"/>
            <a:ext cx="936360" cy="1655280"/>
            <a:chOff x="4788000" y="3429000"/>
            <a:chExt cx="936360" cy="1655280"/>
          </a:xfrm>
        </p:grpSpPr>
        <p:sp>
          <p:nvSpPr>
            <p:cNvPr id="185" name=""/>
            <p:cNvSpPr/>
            <p:nvPr/>
          </p:nvSpPr>
          <p:spPr>
            <a:xfrm>
              <a:off x="4788000" y="3429000"/>
              <a:ext cx="93636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8000" y="4256280"/>
              <a:ext cx="93636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743360"/>
              <a:ext cx="93636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152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724360" y="3429000"/>
            <a:ext cx="936720" cy="1655280"/>
            <a:chOff x="5724360" y="3429000"/>
            <a:chExt cx="936720" cy="1655280"/>
          </a:xfrm>
        </p:grpSpPr>
        <p:sp>
          <p:nvSpPr>
            <p:cNvPr id="190" name=""/>
            <p:cNvSpPr/>
            <p:nvPr/>
          </p:nvSpPr>
          <p:spPr>
            <a:xfrm>
              <a:off x="5724360" y="3429000"/>
              <a:ext cx="93672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24360" y="4256280"/>
              <a:ext cx="93672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24360" y="4743360"/>
              <a:ext cx="93672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5824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659640" y="3429000"/>
            <a:ext cx="936720" cy="1655280"/>
            <a:chOff x="6659640" y="3429000"/>
            <a:chExt cx="936720" cy="1655280"/>
          </a:xfrm>
        </p:grpSpPr>
        <p:sp>
          <p:nvSpPr>
            <p:cNvPr id="195" name=""/>
            <p:cNvSpPr/>
            <p:nvPr/>
          </p:nvSpPr>
          <p:spPr>
            <a:xfrm>
              <a:off x="6659640" y="3429000"/>
              <a:ext cx="93672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9640" y="4256280"/>
              <a:ext cx="93672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9640" y="4743360"/>
              <a:ext cx="93672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3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352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788000" y="5084640"/>
            <a:ext cx="280836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irtual mach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5805360"/>
            <a:ext cx="2808360" cy="43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028320" y="4437000"/>
            <a:ext cx="1351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2920" y="465300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84720" y="4292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083600" y="6080040"/>
            <a:ext cx="20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Non-virtual Mach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534960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irtual Mach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33D1-BE9F-419C-ABBF-01E016924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48:21Z</dcterms:created>
  <dc:creator>Jin-Suk Youn</dc:creator>
  <dc:description/>
  <dc:language>en-US</dc:language>
  <cp:lastModifiedBy>ING</cp:lastModifiedBy>
  <dcterms:modified xsi:type="dcterms:W3CDTF">2006-09-20T02:31:15Z</dcterms:modified>
  <cp:revision>1732</cp:revision>
  <dc:subject/>
  <dc:title>슬라이드 1</dc:title>
</cp:coreProperties>
</file>