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EA4-0149-450D-9AE3-3F7A4B03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85D-B563-4458-8C27-5F2FC3E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C3C-6C6A-4691-A705-AF41E208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3C5-1DF9-46B2-97B9-1DC98023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C67-7266-49C9-AB92-1F50821F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9AED-5DC6-4642-A15C-DA62360E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2A7-2788-4B78-8EE9-A6EFBEA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538-0615-4563-BE16-B029C438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EA2F-6BD4-4EDB-8ED5-5AEB8E92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463D-FA89-4B4F-B751-76894849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7663-12B1-41FE-8E04-82F9981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9BB-6B79-49E0-B9A1-4620C808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257D-42BB-4580-AE70-44A5C594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DE26-0B26-4407-A0F2-C212D84D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1DB5-87B6-402E-A9BE-922F0F3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4DAA-219B-4763-91EF-EDC88BBD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CEC-F80A-4809-B1BF-23FDD050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AD0-1763-4739-8AB2-9189C64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A59-E5E8-43BF-AFA6-7E7119D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616-A02F-4F56-AE79-E84B6E8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98E-2A25-49E8-9F28-9F2F816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918-3A78-45BD-AC19-36EADA3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A7A-4E20-47F6-BF48-AD9BBB2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2AA-9619-4068-A7A4-91403D7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F75-DF30-4C7D-834E-A47AE15574EA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F1B-4885-4875-9D1B-6AC3BC04438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0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장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er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844640"/>
            <a:ext cx="8763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Aarti Gupta, NEC Laboratories Amer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Ali Alphan Bayazit, Princeton Univer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Yogesh Mahajan, Princeton Univer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5229360"/>
            <a:ext cx="35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발 표 자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김   미   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네트워크 컴퓨팅 연구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349-C9BE-4607-AD61-D5BB5F3BD8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2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공식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form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perty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nite state transitio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모형화되고 특성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emporal logic formula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표기되므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검증은 그 공식이 그모형에서 참인지를 점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명세 모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ogic formula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모형화되고 그둘간의 충족관계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prove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연역적으로 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쉽게 자동화되고 디버깅에 유용한 반증을 제공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finite state system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성질을 갖고 있어 고도로 자동화되지 못하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로운 사용자가 학습하기 어렵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상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( state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포넌트의 개수에 따라 기하급수적으로 증가하는 상태 공간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( state space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갖는 문제점이 있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mbolic 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상태 집합을 기호적으로 조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Decision Diagram ( BDD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함으로써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scalabilit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개선되지만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BD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메모리 확장으로 인하여 실패할 수 있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ounded 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제한된 길이의 반증을 찾기 위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oolean satisfiability (SAT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함으로써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버그를 더 잘 찾을 수 있으나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증명을 얻기 위한 추가적인 추론이 필요하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66-C534-4F33-AB15-A7237DC4A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단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assertion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기반 검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과 공식적 검증의 효과를 향상시키고 둘을 효과적으로  결합시키는  시스템적 수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설계 단계에서 설계자의 의도를 파악하기 위하여 특성을 공식적 명세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은 올바른 기능을 위배하는 지를 점검하기 위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으로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간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명시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것은 해당 모듈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imuli genera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번역되거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ed random simula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-sol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검증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constrain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bstrac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에서는 명시적으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방법에서는 묵시적으로 처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ume-guarant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을 탐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utput interface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wnstream modul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7ED-D630-4798-B48F-DF22C53FD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의 공식적 명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 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mal log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utomat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론에서 유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론상의 문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- expressiveness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논리가 파악할 수 있는 특성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관련 특성을 점검하기 위한 복잡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논리를 더 많이 표현할 수록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점검하는 복잡성은 커진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적용상의 문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–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편리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도구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5A6-0CAE-4CAA-BD0A-B0218ABC45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명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proposition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자에게 친숙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Not / AND / O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press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제한적이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b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하드웨어 설계에 매우 적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1C6-C37E-42DE-BF3C-34C219E85D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2   First-Order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술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predicate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의의 집합 원소에 대하여 유한하지 않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n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갖는 변수를 허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수 또는 실수를  추리하는 상위 레벨 시스템과 소프트웨어에 유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or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하드웨어 설계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마이크로프로세서를 검증하기 위하여 사용하는 논리의 부분 집합에 대한 자동화된 의사결정 과정이 존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EC9-4A78-478F-BB11-2A4485DABA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tempor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1341360"/>
            <a:ext cx="88124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동시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current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행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ctive system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명세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제 조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roposi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하여 레벨화된 상태 전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ate transition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으로 모형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제 조건의 해석은 상태에 따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ynamicall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변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+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지 시상 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lways / eventually / next / unti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p : alway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p : eventually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Xp : next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Uq : p is true until q becom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property :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나쁜 일은 일어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!p1_critical + !p2_critical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동시에 일어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B3A-9307-46CE-862F-1F0D21357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tempor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341360"/>
            <a:ext cx="88124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veness property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좋은 일은 결국 일어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request → F gra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원을 요청하는 모든 요청은 결국은 수락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cedence property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건의 순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!p2_req U p1_req → !p2_grant U p1_gran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다 앞서서 자원을 요청하였으므로 자원을 일찍 수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상 논리의 다른 종류들은 시간이라는 관점에서 제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Temporal Logic ( L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sequen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 해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mputational Temporal Logic ( C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어떤 상태로부터 가능한 계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해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press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측면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서로 다른 특성을 가지므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비교 불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복잡성은 모형의 크기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 크기는 기하급수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모형 점검 복잡성은 둘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9F7-8820-461E-B0F1-2E60BB4E97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4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정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Regular ) and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정규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341360"/>
            <a:ext cx="8991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상 논리가 순서의 정규적인 특성을 나타낼 수 없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한 또는 무한의 단어에 대한 상태 오토마타를 인지하는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gular express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지의 기본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concatenation) – “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선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choice) – “|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한된 반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repetition) – “*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 (request.(grant|error))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r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rr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ques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의 교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굴림"/>
              </a:rPr>
              <a:t>ω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식 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.V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형식이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  V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무한 반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종료되지 않는 시스템의 특성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굴림"/>
                <a:ea typeface="굴림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67280" y="4221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굴림"/>
                <a:ea typeface="굴림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4BB-7ECB-4497-ACBD-1441FEB1E8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하드웨어 검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 대한 검증 언어에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ABC-9D1C-49C6-BCA9-E43A1D9489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1   HDL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와 프로그래밍 언어와의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341360"/>
            <a:ext cx="8667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는 표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구현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Verilog, 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하드웨어와 합성될 필요가 없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다 상위 레벨에서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/C++, Perl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소프트웨어 프로그래밍 언어로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프로그래밍 언어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face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simula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통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터의 속도를 저하시키고 새로운 변수 타입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128-bits bus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정의하는 등의 고된 개발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V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상이한 엄격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severity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을 가지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c 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lo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명시적 구문은 없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“if”, “$display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유사한 효과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A92-1DD7-4ECF-B8EA-66F2BBF53E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목       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484280"/>
            <a:ext cx="7775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소  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검증 방법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배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하드웨어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임베디드 시스템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에서의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문 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0A9-ABA8-400A-8521-5AFFA0203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1   HDL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와 프로그래밍 언어와의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신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, 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동시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바람직하지 않는 경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000" y="2421000"/>
            <a:ext cx="3887640" cy="2051640"/>
            <a:chOff x="324000" y="2421000"/>
            <a:chExt cx="3887640" cy="2051640"/>
          </a:xfrm>
        </p:grpSpPr>
        <p:sp>
          <p:nvSpPr>
            <p:cNvPr id="313" name=""/>
            <p:cNvSpPr/>
            <p:nvPr/>
          </p:nvSpPr>
          <p:spPr>
            <a:xfrm>
              <a:off x="468360" y="2995560"/>
              <a:ext cx="374328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Assert ( A NAN B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report “error: A &amp; B cannot both be 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everity 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4000" y="242100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VHDL 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단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572000" y="2276640"/>
            <a:ext cx="4032360" cy="2959200"/>
            <a:chOff x="4572000" y="2276640"/>
            <a:chExt cx="4032360" cy="2959200"/>
          </a:xfrm>
        </p:grpSpPr>
        <p:sp>
          <p:nvSpPr>
            <p:cNvPr id="316" name=""/>
            <p:cNvSpPr/>
            <p:nvPr/>
          </p:nvSpPr>
          <p:spPr>
            <a:xfrm>
              <a:off x="4643280" y="2781360"/>
              <a:ext cx="39610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Always ( A or B ) 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if ( A &amp; B ) 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$display (“error: A = B = 1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$finish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72000" y="22766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Verilog 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단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222-2223-452D-95A3-DA06784AF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heck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고된 개발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재사용 가능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발에 관심 집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로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ccell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 Verification Library ( OVL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독립된 언어가 아니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Verilo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 기술서 내에 공동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를 점검하기 위한 모듈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19C-FF45-4F44-89A8-11EAE4EDA0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2 : PCI Local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se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동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, C/BE#, PAR, RST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움직이는 것을 방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29955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always master_reset ( clk, !rst_, ! | ( ad, cbe_, par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42100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Verilog’ OVL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–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각 신호에 대응하는 변수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500280"/>
            <a:ext cx="8812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_alwa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이브러리 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ster_rese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_alwa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l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상승 모서리일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!rst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일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다음의 파라미터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u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판단해야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d, cbe_, pa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itwise-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부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!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 시물레이션동안 항상 유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old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해달라는 간단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3B2-5F6E-4ABF-BD3E-E5165AD25B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3 : PCI Local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!stop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- 3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클럭 사이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는지를 점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2565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frame# (1, 1, 3)  check_frame_da ( clk, true, !stop_, frame_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3500280"/>
            <a:ext cx="8812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추가적인 검증 도구의 필요없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log, VHDL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혼합 시뮬레이터와 함께 사용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므로 라이브러리 수정이 용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물레이션 속도를 저하시키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주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점검에 사용되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공식적 검증에는 비효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통적인 시뮬레이션 기반 에서 단언 기반 으로 변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3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옵션 파라미터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# (1,1,3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엄격성 수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소 클럭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대 클럭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BFE-C237-4784-8C26-10EE8C642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sity’s 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EEE DAS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검증 언어로 채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bject-oriente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래밍 구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pect-oriente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래밍 지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–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본래의 코드를 변경하지 않고 환경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조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로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구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명세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과 공식적 검증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둘다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773-B4C9-44C4-965E-2991C8C389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4 :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Ethernet 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모형화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%payloa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선언된 데이터 필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263700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truct payloa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%id        :by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%data    :list of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keep soft data.size()  in [ 45 .. 1499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920" y="479736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%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iel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앞에 붙이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게 보내지는 데이터를  나타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er sof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약속어는 변수값의 범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3C6-E18A-4EAA-A04D-A6C01D79A6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5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함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ially 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게 전송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263700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var bitList:  list of b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itList = pack ( packing.low, my_fram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or each (b) in bit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testbench.duv.transmit_stream0’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wait  cycle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486900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ac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모든 데이터 필드를 비트들의 리스트로 모은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y_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ruct 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49C-685E-4FDD-9C1B-AB9875C960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6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mast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 에 대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의 상태와 무관하게 현재의 데이터 전송 을 끝낼때까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변경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2637000"/>
            <a:ext cx="727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xpect @new_irdy =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[  . . ] * ( ( not @irdy_rise) and ( not change (frame_1)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@data_phase_complete } @sys.pci_cl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ut_error ( “Error, IRDY# or FRAME# changed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efore current data phase completed.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1920" y="548964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들은 미리 정의되어 있다고 가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@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될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@new_irdy ), 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assert ( @irdy_ris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6FD-29DB-451F-BA0D-90ED47E7B2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4  OpenVera and OV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ynops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++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구문이 유사하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측면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Assertion ( OVA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독립된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suit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일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유사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heck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이브러리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IP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B14-6667-45F8-A223-38DD8DA6FC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4  OpenVera and OV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7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.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stop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신호가 나온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- 3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럭 사이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frame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되는지를 점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2637000"/>
            <a:ext cx="5616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clock posedge  cl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vent  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f ( negedge  stop_ ) 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# [ 1..3 ] posedge  frame_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frame_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:  check ( 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1920" y="530064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링 클럭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응하는 동작의 명세에 주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f – the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현 작업이 프로그래밍 언어의 조건문과 유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ycle dela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6804000" y="263700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3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CB8-8E9C-4BB1-92EF-CF043F5D19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    개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41360"/>
            <a:ext cx="8991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fication 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서 명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pecific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 제대로  구현하였는지를 살펴보는 과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는 설계자의 의도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연어 문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언어 문서 등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장은 검증에 관련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나타내기 위한 공식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forma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문을 가진 검증언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ynamic verificatio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방법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atic verif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BA1-9677-4E23-B1A4-B7ABB92B69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5  For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1341360"/>
            <a:ext cx="8991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명세 와 모델링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Spec Temporal Logic ( F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근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 언어 연산자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타일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들로 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큰 규모의 설계에 대한 모듈 검증에 적합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ume-gurant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패러다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synchronous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cept ( boolean_expr &amp; clock ) in formula_ex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synchronous 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ject ( boolean_expr &amp; clock ) in formula_ex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ForSpe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문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.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temporal formul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에 추가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llowed_by, triggers, until, next, w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4FE-6D9B-41B7-BCC3-C8D4E46959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특성 명세를 위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cell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Specification Langage ( PS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IBM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uga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로 부터 기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처음에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L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반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uga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버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2.0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ssertio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 검증을 위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LTL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장점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mantics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시뮬레이션 기반 방식에 자연스럽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한번에 단독 경로를 추적한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모델 점검 복잡성에서는 효과적이지만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 기반 방식을 지원하기 어렵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공식적 검증에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Optional Branching Extension ( OBE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을  통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PS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서 지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PS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특성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4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계층으로 구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–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oolean layer, temporal layer, verification layer, modeling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정규식 연산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2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 유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rong suffix –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끝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붙어서 시뮬레이션을 끝낼 때까지 연산자를 유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week suffix - !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없는 경우로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ru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될 기회가 완전히 사라졌을 때에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                  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유지하지 않는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93F-B440-406F-B721-B563482046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8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.3, 10.7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S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stop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신호가 나온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- 3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럭 사이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frame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되는지를 점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6804000" y="263700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3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6804000" y="328464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7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263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always ( !stop_ → eventually!  frame_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1920" y="414972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위의 명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면 정성적이 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ventually!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p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– 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이클내에서 동작하라는 명세를 못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64F-12BA-4AA9-8793-4455FC4999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9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quest-acknowled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순서 다음에 꼭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8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번의 데이터 전송이 있는 특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2349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lways { req; ack } |=&gt; { start_trans; data [=8]; end_trans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1920" y="314172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E ( Sugar Extended Regular Express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간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|=&gt;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꼭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ne cycl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_tran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다는 특성을 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[ =8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꼭 연속일 필요가 없는 반복 연산자이고 인수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8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479736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{ !data [*]; data; !data[*] } [*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1920" y="5445000"/>
            <a:ext cx="8812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 특성의 샘플링 클럭 혹은 디폴트 클럭을 명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위의 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[=8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등가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7BF-FFAA-4B96-822F-E485A05BD2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0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미있는 주소 비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[0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데이터 전송 중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지 않도록 하는 특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2637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SERE_MEM_ADDR_PHASE = { frame_; !frame_ &amp;&amp; mem_chd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roperty PCI_VALID_MEM_BURST_ENCODING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lways {SERE_MEM_ADDR_PHASE} |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{!ad[0]} abort  !rst_ @(posedge cl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PCI_VALID_MEM_BURST_ENCOD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941720"/>
            <a:ext cx="8812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|→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eak suffix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함축 연산자로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첫번째 순서가 올때마다 두번째 순서를 알고 자 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명세 내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quen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약속어를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들은 단언문으로 주어지고 검증 도구에 의하여 점검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655-45D3-49DC-8142-7411D1990D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검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시스템 어플리케이션에 관련된 소프트웨어 검증에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 산업과 비교하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언어의 표준화에 소극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의 복잡성을 희소시키려는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프트웨어의 정확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rrectness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loyd-Hoar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타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형으로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능 검증을 위하여 동작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c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variants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선후 조건들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행동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behaviora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을 위한 시상 논리 공식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E29-6DDC-4522-8487-F69ECFB9B3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1  C/C++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1341360"/>
            <a:ext cx="8812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루슨트 테크날리지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Sof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/C++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직접 명시된 단언에 대한 교착상태와 위반을 검색의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LAM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쓰여진 디바이스 드라이버의 정확성을 증명하기 위하여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rrect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요구사항을 제공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L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요구사항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점검하는 오토마타를 구현하는 특별한 프로시저로 번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은 유한 상태 추상 모델을 구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델 점검을 수행하고 필요하면 추상 모델을  개정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69B-6D8C-400E-80AE-64F70C5426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1341360"/>
            <a:ext cx="899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tended Static Checker for Java ( ESC/Java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점검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ype check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일상적인 프로그램 오류를 파악하는 검증 조건들을 자동으로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조건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ackend theorem pro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조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heorem pro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사용하는 요구사항을 주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nnot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로 제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124-6622-4394-BDF8-4EF5752DDE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1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integer multise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가지는 클래스 정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205000"/>
            <a:ext cx="8280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  class Ba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      //@invariants 0&lt;=size &amp;&amp; size &lt;=elements.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 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[ ] el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 @requires input != null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ag ( int [ ] input ) {   …..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extractMin ()  { ……..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8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5661000"/>
            <a:ext cx="8812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5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SC/Ja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매번 클래스 초기화시에 유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5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다음 작업에 대한 선조건을 명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BB8-B120-46C4-8957-8A13255991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JavaPathFinder ( JPF )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다양한 프로그램 분석 방법과 유한 상태 모델을 구하기 위하여 추상화를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프로젝트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명세 언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BSL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발에 초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3B8-298A-4C71-924E-5B3DB1A64C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    개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와 시스템 차원의 표준화 활동이 적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 언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ardware Description Language : HD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대중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Verilog, 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검증 언어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ardware Verification Langage : HV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e, OpenVera, Sugar/PSL, For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어플리케이션의 검증 언어는 주로 표준 프로그래밍 언어를 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C/C++,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모델링 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ML, SDL, All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검증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SystemC, SpecC, SystemVeri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D8E-514D-490B-8FA3-9D530A11A2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2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모델링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34136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nified Modeling Language ( UM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객체기반 소프트웨어 시스템 설계 표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실시간 및 임베디드 시스템의 명세와 모델링에도 관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요구사항 명세를 위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Object Constraint Language ( OC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M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일부로서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자동차 또는 항공기 어플리케이션에서 임베디드 소프트웨어 개발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M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모델을 시뮬레이션하는  도구가 보편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통신 시스템에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pecification and Description Language ( SD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일상적인 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A15-2249-4083-B00A-2E17C4454A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임베디드 시스템 검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/ SoC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3645000"/>
            <a:ext cx="8991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++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의 모델링 플랫폼으로서 소프트웨어 모듈 뿐 아니라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R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서의 하드웨어 모듈 추상화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 레벨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행동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behaviora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레벨을 지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DUV , 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플랫폼은 클래스 라이브러리 와 시뮬레이션 커널을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트랜잭션 기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155736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시스템 차원의 모델링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2492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.1  System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ystem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B3E-FFBD-480D-88D4-1B632C2654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1.2  Spe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1484280"/>
            <a:ext cx="8991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기반으로 하는 실행가능한 모델링 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하드웨어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소프트웨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odesig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을 목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 레벨 설계에서 통신과 계산을 분명하게 분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2924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.3  SystemVerilog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ystemVerilog as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3645000"/>
            <a:ext cx="896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Verilog HD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확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cell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표준한 버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3.1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최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트랜잭션 레벨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발을 위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/C++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구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포인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래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상속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멀티 쓰레드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벤트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세마포어등 많은 특성들을 가져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ssertio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 검증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ystemVerilog Assertions ( SVA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를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3C0-E1A2-4D68-9F28-5C358B08FC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3 : request-acknowled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순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라미터 신호로 정의되어 있어 다수의 특성을 재사용 가능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637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req_ack  ( req,  del,  ack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 ack occurs within 1 to 3 cycles after re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req ## [1:3] 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479736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## [1:3]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표기는 연관된 클럭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– 3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사이클임을 표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내부에 동적 지역 변수를 선언해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현재 실시동안 유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242-9A41-44A0-9E3C-91B5741E77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4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이프라인 레지스터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/O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행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깊이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파이프라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2637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pipe_operatio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 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write_en,  (x = data_in ) ) |→ ##16  ( data_out == x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479736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초기에 지역 변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x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입력값을 보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6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사이클후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data_out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값과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x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비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B03-0B99-4A33-B61E-576FEC5D5F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5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수화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arameterized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선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current 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2276640"/>
            <a:ext cx="8280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roperty  mutex ( clk,  reset_n, a, b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@(posedge clk)  disable iff (reset_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! (a &amp; b 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mut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property  (mutex ( clk_a, master_reset_n, write_en, read_en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30064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disable iff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절은 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set_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신호가 동작할 때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그특성을 사용불가로 만드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mutex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특성을 의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write_e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ad_e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은 동시에 작동할 수 없다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440-B850-4185-B556-15B1058C14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도메인에 특화된 시스템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14130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2.1   Synchronous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2276640"/>
            <a:ext cx="8812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Esterel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은 동기방식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active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시스템의 설계를 위한 프로그래밍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정교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clocking 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예외처리 기법을 포함하는 다수의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프로세서들을 병렬 합성하기 위한 제어 측면을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잘 정의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emantic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를 연관된 컴파일러가 자동으로 소프트웨어 모듈에 대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C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코드를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하드웨어 모듈에 대해서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SM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을 구현하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boolean gate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레벨의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netlist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을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표준 시뮬레이션 또는 모델 검사는 합성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SM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에서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ynchrony hypothesi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는 무한대로 빠르게 작동할 수 있다고 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1D5-FAB5-4EFA-9D09-AB8496B5CC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1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동기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6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주석화된 어플리케이션 코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eadline 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2276640"/>
            <a:ext cx="5327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  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     await  A;  %{# Y = clock (last A)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    call F ( );  % {# Fmin &lt; CPU &lt; Fmax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     %{#  0 &lt; clock ( last A ) &lt; d1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5   End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6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7   lo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8      await  B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9      call G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 );  % {# Gmin &lt; CPU &lt; Gmax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0     %{#  0 &lt; Y &lt; d2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1  End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84720" y="2205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는 사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가 도착한 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1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시간 단위 이내에 끝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8472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G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는 사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가 도착한 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2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시간 단위 이내에 끝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56360" y="4941720"/>
            <a:ext cx="273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이러한 제한조건은 라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0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에 명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G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의 소요되는 실행시간은 라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9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에 제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178-F8C1-439B-9367-2944BCF6AD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2  Hybrid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스템용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디지털과 아날로그 컴포넌트의 상호 연결을 요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동차 제어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공기 시스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봇 시스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어공장 제어기 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안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afety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민감하고 검증에 관심 고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고전적인 제어 이론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trol-theoretic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방법과 오토마타 기반의 방법으로  검증 방식을 구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어 이론 방식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TLA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 도구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imulink / Stateflow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델링 언어가 범용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아날로그 영역을 모델링하는 표준 제어 공학 컴포넌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디지털 제어기를 모델링하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atechart-lik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ATLAB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미분방정식으로 표기되는 연속적인 행위에 대한 분석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최적화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에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오토마타 기반 방식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mporal logic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으로 표시되는 특성들을 보존하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Hybrid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의 디지털 추상화에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많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odel checke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들이 있는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예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Hytech, Uppaal, Kronos, Cha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E30-0133-4B78-9E5D-2B516BC526E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2  Hybrid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스템용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정확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correctness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요구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d stat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집합을 피하고 모델링 언어 자체 구문을 사용하여 명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odel checke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는 모든 도달가능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ates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안전하다는 것을 조사하기 위하여 정확한 또는 적절한 도달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reachability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분석을 수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모델링과 분석 도구들 간에 공유할 수 있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Hybrid Systems Interchange Format ( HSIF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표준 추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C76-C581-4DEF-8B41-8C01D46E610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 방법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916360" y="1989000"/>
            <a:ext cx="3600360" cy="3926520"/>
            <a:chOff x="2916360" y="1989000"/>
            <a:chExt cx="3600360" cy="3926520"/>
          </a:xfrm>
        </p:grpSpPr>
        <p:sp>
          <p:nvSpPr>
            <p:cNvPr id="228" name=""/>
            <p:cNvSpPr/>
            <p:nvPr/>
          </p:nvSpPr>
          <p:spPr>
            <a:xfrm>
              <a:off x="3132000" y="198900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ctional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32000" y="270828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lgorithm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6360" y="3357720"/>
              <a:ext cx="36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igister transfer level (RT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7080" y="407664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e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19640" y="4797360"/>
              <a:ext cx="23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nsistor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9640" y="5516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ysical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2421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00720" y="3068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00720" y="371628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0720" y="4508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0720" y="522936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3964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lt;&lt; </a:t>
            </a: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 과정 </a:t>
            </a: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63640" y="1773360"/>
            <a:ext cx="1224000" cy="4575600"/>
            <a:chOff x="1763640" y="1773360"/>
            <a:chExt cx="1224000" cy="4575600"/>
          </a:xfrm>
        </p:grpSpPr>
        <p:sp>
          <p:nvSpPr>
            <p:cNvPr id="241" name=""/>
            <p:cNvSpPr/>
            <p:nvPr/>
          </p:nvSpPr>
          <p:spPr>
            <a:xfrm>
              <a:off x="2411280" y="2133720"/>
              <a:ext cx="0" cy="3816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63640" y="2924280"/>
              <a:ext cx="503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a9"/>
                  </a:solidFill>
                  <a:latin typeface="Arial"/>
                  <a:ea typeface="굴림"/>
                </a:rPr>
                <a:t>추상화 수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79640" y="1773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hig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79640" y="5950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093080" y="1773360"/>
            <a:ext cx="1006200" cy="4646880"/>
            <a:chOff x="7093080" y="1773360"/>
            <a:chExt cx="1006200" cy="4646880"/>
          </a:xfrm>
        </p:grpSpPr>
        <p:sp>
          <p:nvSpPr>
            <p:cNvPr id="246" name=""/>
            <p:cNvSpPr/>
            <p:nvPr/>
          </p:nvSpPr>
          <p:spPr>
            <a:xfrm>
              <a:off x="7596360" y="3068640"/>
              <a:ext cx="50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a9"/>
                  </a:solidFill>
                  <a:latin typeface="Arial"/>
                  <a:ea typeface="굴림"/>
                </a:rPr>
                <a:t>상세화 수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2205000"/>
              <a:ext cx="0" cy="3816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4360" y="602136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3080" y="17733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DCD-1A3E-4F72-A769-03D83D683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문    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1341360"/>
            <a:ext cx="8893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설계 검증 방법중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imulation-based verificatio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ormal verificatio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의 차이점은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은 하드웨어와 소프트웨어의 기능 검증을 하는 것이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DUV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input stimuli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를 제공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utput response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정확성을 점검하는 것이 시뮬레이션 기반 검증방법이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 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과 대조적으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, formal verification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모든 가능한 입력 시나리오에 대하여 주어진 명세를 기준으로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공식적 수학 모델이 정확함을 점검하기 위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static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분석을 수행한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4221000"/>
            <a:ext cx="89647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oCs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임베디드 시스템들의 시스템 차원의 검증에 필요한 것은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스템의 복잡성 증가현상에 대한 해법이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상위 레벨에서의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abstraction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을 설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 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할 수 있는 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Modeling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언어가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UML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은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bject-oriented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방식으로 실시간 임베디드 시스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설계에 사용되고 있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또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트랜잭션 기반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를 개발하기 위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verification library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가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EE9-3B39-44A3-9A20-023CDAF531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 방법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268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lt;&lt; </a:t>
            </a: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와 검증의 관계 </a:t>
            </a: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1989000"/>
            <a:ext cx="0" cy="446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3355920"/>
            <a:ext cx="50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01080" y="1916280"/>
            <a:ext cx="0" cy="4465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2924280"/>
            <a:ext cx="50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검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19280" y="1988280"/>
            <a:ext cx="4103640" cy="4429440"/>
            <a:chOff x="1619280" y="1988280"/>
            <a:chExt cx="4103640" cy="4429440"/>
          </a:xfrm>
        </p:grpSpPr>
        <p:sp>
          <p:nvSpPr>
            <p:cNvPr id="257" name=""/>
            <p:cNvSpPr/>
            <p:nvPr/>
          </p:nvSpPr>
          <p:spPr>
            <a:xfrm>
              <a:off x="1619280" y="198828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19280" y="292320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icro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19280" y="385992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19280" y="457884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e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19280" y="5299560"/>
              <a:ext cx="237492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nsistor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19280" y="601884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ysical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2560" y="2349360"/>
              <a:ext cx="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2560" y="3284640"/>
              <a:ext cx="144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24000" y="4219560"/>
              <a:ext cx="180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24000" y="5011560"/>
              <a:ext cx="1800" cy="36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5732640"/>
              <a:ext cx="180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130560" y="5732640"/>
              <a:ext cx="144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130560" y="4292640"/>
              <a:ext cx="144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130560" y="3284640"/>
              <a:ext cx="144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130560" y="5011200"/>
              <a:ext cx="1440" cy="28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130560" y="2349000"/>
              <a:ext cx="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46560" y="56610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6560" y="4219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6560" y="49402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46560" y="3284640"/>
              <a:ext cx="23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굴림"/>
                </a:rPr>
                <a:t>Does it implement the microarchitectur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4920" y="2349360"/>
              <a:ext cx="23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  <a:ea typeface="굴림"/>
                </a:rPr>
                <a:t>Does it meet the specs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580000" y="2276640"/>
            <a:ext cx="504720" cy="1439640"/>
          </a:xfrm>
          <a:custGeom>
            <a:avLst/>
            <a:gdLst>
              <a:gd name="textAreaLeft" fmla="*/ 0 w 504720"/>
              <a:gd name="textAreaRight" fmla="*/ 182160 w 504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80000" y="4365720"/>
            <a:ext cx="504720" cy="1439640"/>
          </a:xfrm>
          <a:custGeom>
            <a:avLst/>
            <a:gdLst>
              <a:gd name="textAreaLeft" fmla="*/ 0 w 504720"/>
              <a:gd name="textAreaRight" fmla="*/ 182160 w 504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er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56360" y="472428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quivalenc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CD2-90ED-495F-9E27-A99B998A3F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뮬레이션 기반 검증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1341360"/>
            <a:ext cx="8991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은 하드웨어와 시스템 차원의 설계에서 기능적 검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ynamic verificatio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법의 성공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발로써 자동화가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enerator of testcase, checker or monitor of output response, coverage analyzer of design 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내부 설계내용에 관한 관찰여부에 따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lack-box, white-box, gray-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 대한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시뮬레이션하는 것은 불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irected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설계 초기에 설계자의 의도에 관점을 맞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생성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ed random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ndom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생성하므로써 설계 후반에 오류를 찾아주는 예상치못한 상황에 대한 검증에 유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 covera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준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ement/branch/toggle/expression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 covera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준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e/transition covetage of Finite State Machine ( FSM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6EF-992D-4B1C-8E2C-016754197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뮬레이션 기반 검증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이 복잡해짐에 따라 추상화 상위 레벨에서 설계가 중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하위 레벨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로 구성되어 상위 레벨에서의 논리적 작업을 충족시킨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shared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ge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검증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개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위와 하위 레벨 사이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ors/BFMs ( Bus Functional Model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라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ap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개발하는 일은 지루하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추상화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bjec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 특성을 지원하는 언어가 필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성질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에는 결여되어 있으므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HV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모델링 언어의 발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7BC-575A-4E87-9EE4-CA88A0CD0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2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공식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form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대한 설계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UV : design under verific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ynamic respons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존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가능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scenario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주어진 명세의 정확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rrectness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점검하기 위하여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 검증을 공식적인 수학 모형을 사용하여 분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quivalence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ference desig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등가인지를 점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at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설계로의 논리 합성 작업동안 에러가 없다는 것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점검하는 자동화된 하드웨어 설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ference desig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이용할 수 없거나 최상위 모델의 정확성이 점검될 필요가 있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확성이라는 특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roperty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설계 요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설계가 공식적 명세로 표기된 정확성 특성을 만족하는지를 점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표기하기 위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mal log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utomata theor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0E8-41B0-4D5B-90EF-C803E5265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00:39:26Z</dcterms:created>
  <dc:creator>kimmiok</dc:creator>
  <dc:description/>
  <dc:language>en-US</dc:language>
  <cp:lastModifiedBy>SEC</cp:lastModifiedBy>
  <dcterms:modified xsi:type="dcterms:W3CDTF">2006-09-23T02:40:40Z</dcterms:modified>
  <cp:revision>180</cp:revision>
  <dc:subject/>
  <dc:title>class-2006-2</dc:title>
</cp:coreProperties>
</file>