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98A02-299E-4CD3-8EFA-AB13B5AA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7128-4C0C-41FE-BF76-78498F6B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B1CB-BD23-4447-AFFE-9EDC22951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772A-6C69-4895-AA92-8CCD98E65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BE717-45BE-4458-822D-38A6B555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6383-37DE-4BA6-880A-00B6C12E4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06F5-C33B-4083-AFA3-2A0F5F32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9349-D701-48EA-AFEE-0502F50C9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AFF10-39AA-41C3-B8E0-9F0BC7495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7F70-C7D4-4758-B057-C2EE91582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3055-BB1E-4F6F-9A2B-646894EA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6658-A9D9-4D3C-871F-6318DD1F8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2F747-E035-454F-8946-2A0D3CC6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825E8-014D-4C8E-AC6E-13656841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B123-F488-4C65-951C-D5D5F295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87801-263C-4795-9BA4-7364E854B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ACF7D-0E47-4D20-BC2C-DD2499B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98D4-3478-4458-9344-A4CD5E5F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07E4-CD8D-42EF-B87B-F75C3BF76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3971-F668-4F01-A494-9C1CC51EA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6D2DB-5789-4D1C-AF61-53FF7AC51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0F93-D251-47B0-892F-75D28799F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6ABF-1E9B-4BE9-AAE6-5378111E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BCF2-6526-466F-983D-337BA9EBA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image" Target="../media/image1.png"/><Relationship Id="rId24" Type="http://schemas.openxmlformats.org/officeDocument/2006/relationships/image" Target="../media/image1.png"/><Relationship Id="rId25" Type="http://schemas.openxmlformats.org/officeDocument/2006/relationships/image" Target="../media/image1.png"/><Relationship Id="rId26" Type="http://schemas.openxmlformats.org/officeDocument/2006/relationships/image" Target="../media/image1.png"/><Relationship Id="rId27" Type="http://schemas.openxmlformats.org/officeDocument/2006/relationships/image" Target="../media/image1.png"/><Relationship Id="rId28" Type="http://schemas.openxmlformats.org/officeDocument/2006/relationships/image" Target="../media/image1.png"/><Relationship Id="rId29" Type="http://schemas.openxmlformats.org/officeDocument/2006/relationships/image" Target="../media/image1.png"/><Relationship Id="rId30" Type="http://schemas.openxmlformats.org/officeDocument/2006/relationships/image" Target="../media/image1.png"/><Relationship Id="rId31" Type="http://schemas.openxmlformats.org/officeDocument/2006/relationships/image" Target="../media/image1.png"/><Relationship Id="rId32" Type="http://schemas.openxmlformats.org/officeDocument/2006/relationships/image" Target="../media/image1.png"/><Relationship Id="rId33" Type="http://schemas.openxmlformats.org/officeDocument/2006/relationships/image" Target="../media/image1.png"/><Relationship Id="rId34" Type="http://schemas.openxmlformats.org/officeDocument/2006/relationships/image" Target="../media/image1.png"/><Relationship Id="rId35" Type="http://schemas.openxmlformats.org/officeDocument/2006/relationships/image" Target="../media/image1.png"/><Relationship Id="rId36" Type="http://schemas.openxmlformats.org/officeDocument/2006/relationships/image" Target="../media/image1.png"/><Relationship Id="rId37" Type="http://schemas.openxmlformats.org/officeDocument/2006/relationships/image" Target="../media/image1.png"/><Relationship Id="rId38" Type="http://schemas.openxmlformats.org/officeDocument/2006/relationships/image" Target="../media/image1.png"/><Relationship Id="rId39" Type="http://schemas.openxmlformats.org/officeDocument/2006/relationships/image" Target="../media/image1.png"/><Relationship Id="rId40" Type="http://schemas.openxmlformats.org/officeDocument/2006/relationships/image" Target="../media/image1.png"/><Relationship Id="rId41" Type="http://schemas.openxmlformats.org/officeDocument/2006/relationships/image" Target="../media/image1.png"/><Relationship Id="rId42" Type="http://schemas.openxmlformats.org/officeDocument/2006/relationships/image" Target="../media/image1.png"/><Relationship Id="rId43" Type="http://schemas.openxmlformats.org/officeDocument/2006/relationships/image" Target="../media/image1.png"/><Relationship Id="rId44" Type="http://schemas.openxmlformats.org/officeDocument/2006/relationships/image" Target="../media/image1.png"/><Relationship Id="rId45" Type="http://schemas.openxmlformats.org/officeDocument/2006/relationships/image" Target="../media/image1.png"/><Relationship Id="rId46" Type="http://schemas.openxmlformats.org/officeDocument/2006/relationships/slideLayout" Target="../slideLayouts/slideLayout1.xml"/><Relationship Id="rId47" Type="http://schemas.openxmlformats.org/officeDocument/2006/relationships/slideLayout" Target="../slideLayouts/slideLayout2.xml"/><Relationship Id="rId48" Type="http://schemas.openxmlformats.org/officeDocument/2006/relationships/slideLayout" Target="../slideLayouts/slideLayout3.xml"/><Relationship Id="rId49" Type="http://schemas.openxmlformats.org/officeDocument/2006/relationships/slideLayout" Target="../slideLayouts/slideLayout4.xml"/><Relationship Id="rId50" Type="http://schemas.openxmlformats.org/officeDocument/2006/relationships/slideLayout" Target="../slideLayouts/slideLayout5.xml"/><Relationship Id="rId51" Type="http://schemas.openxmlformats.org/officeDocument/2006/relationships/slideLayout" Target="../slideLayouts/slideLayout6.xml"/><Relationship Id="rId52" Type="http://schemas.openxmlformats.org/officeDocument/2006/relationships/slideLayout" Target="../slideLayouts/slideLayout7.xml"/><Relationship Id="rId53" Type="http://schemas.openxmlformats.org/officeDocument/2006/relationships/slideLayout" Target="../slideLayouts/slideLayout8.xml"/><Relationship Id="rId54" Type="http://schemas.openxmlformats.org/officeDocument/2006/relationships/slideLayout" Target="../slideLayouts/slideLayout9.xml"/><Relationship Id="rId55" Type="http://schemas.openxmlformats.org/officeDocument/2006/relationships/slideLayout" Target="../slideLayouts/slideLayout10.xml"/><Relationship Id="rId56" Type="http://schemas.openxmlformats.org/officeDocument/2006/relationships/slideLayout" Target="../slideLayouts/slideLayout11.xml"/><Relationship Id="rId5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slideLayout" Target="../slideLayouts/slideLayout13.xml"/><Relationship Id="rId47" Type="http://schemas.openxmlformats.org/officeDocument/2006/relationships/slideLayout" Target="../slideLayouts/slideLayout14.xml"/><Relationship Id="rId48" Type="http://schemas.openxmlformats.org/officeDocument/2006/relationships/slideLayout" Target="../slideLayouts/slideLayout15.xml"/><Relationship Id="rId49" Type="http://schemas.openxmlformats.org/officeDocument/2006/relationships/slideLayout" Target="../slideLayouts/slideLayout16.xml"/><Relationship Id="rId50" Type="http://schemas.openxmlformats.org/officeDocument/2006/relationships/slideLayout" Target="../slideLayouts/slideLayout17.xml"/><Relationship Id="rId51" Type="http://schemas.openxmlformats.org/officeDocument/2006/relationships/slideLayout" Target="../slideLayouts/slideLayout18.xml"/><Relationship Id="rId52" Type="http://schemas.openxmlformats.org/officeDocument/2006/relationships/slideLayout" Target="../slideLayouts/slideLayout19.xml"/><Relationship Id="rId53" Type="http://schemas.openxmlformats.org/officeDocument/2006/relationships/slideLayout" Target="../slideLayouts/slideLayout20.xml"/><Relationship Id="rId54" Type="http://schemas.openxmlformats.org/officeDocument/2006/relationships/slideLayout" Target="../slideLayouts/slideLayout21.xml"/><Relationship Id="rId55" Type="http://schemas.openxmlformats.org/officeDocument/2006/relationships/slideLayout" Target="../slideLayouts/slideLayout22.xml"/><Relationship Id="rId56" Type="http://schemas.openxmlformats.org/officeDocument/2006/relationships/slideLayout" Target="../slideLayouts/slideLayout23.xml"/><Relationship Id="rId5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535800"/>
            <a:ext cx="9143640" cy="303840"/>
            <a:chOff x="0" y="6535800"/>
            <a:chExt cx="9143640" cy="303840"/>
          </a:xfrm>
        </p:grpSpPr>
        <p:grpSp>
          <p:nvGrpSpPr>
            <p:cNvPr id="1" name=""/>
            <p:cNvGrpSpPr/>
            <p:nvPr/>
          </p:nvGrpSpPr>
          <p:grpSpPr>
            <a:xfrm>
              <a:off x="0" y="6535800"/>
              <a:ext cx="4571640" cy="303840"/>
              <a:chOff x="0" y="6535800"/>
              <a:chExt cx="4571640" cy="303840"/>
            </a:xfrm>
          </p:grpSpPr>
          <p:sp>
            <p:nvSpPr>
              <p:cNvPr id="2" name=""/>
              <p:cNvSpPr/>
              <p:nvPr/>
            </p:nvSpPr>
            <p:spPr>
              <a:xfrm>
                <a:off x="4267080" y="6543360"/>
                <a:ext cx="304560" cy="29268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267080" y="6546960"/>
                <a:ext cx="304560" cy="29268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62160" y="6543360"/>
                <a:ext cx="304920" cy="29268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657600" y="6543360"/>
                <a:ext cx="304560" cy="29268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3657600" y="6546960"/>
                <a:ext cx="304560" cy="29268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3352680" y="6543360"/>
                <a:ext cx="304560" cy="29268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47760" y="6539400"/>
                <a:ext cx="304920" cy="29268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047760" y="6543360"/>
                <a:ext cx="304920" cy="29268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743200" y="6539400"/>
                <a:ext cx="304560" cy="29268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438280" y="6539400"/>
                <a:ext cx="304560" cy="29268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2438280" y="6543360"/>
                <a:ext cx="304560" cy="29268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2133360" y="6539400"/>
                <a:ext cx="304920" cy="29268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1523880" y="6539400"/>
                <a:ext cx="304560" cy="29268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523880" y="6543360"/>
                <a:ext cx="304560" cy="29268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8960" y="6539400"/>
                <a:ext cx="304920" cy="29268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914400" y="6535800"/>
                <a:ext cx="304560" cy="29268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914400" y="6539400"/>
                <a:ext cx="304560" cy="29268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09480" y="6535800"/>
                <a:ext cx="304560" cy="29268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04560" y="6535800"/>
                <a:ext cx="304920" cy="29268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04560" y="6539400"/>
                <a:ext cx="304920" cy="29268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6535800"/>
                <a:ext cx="304560" cy="29268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828800" y="6543360"/>
                <a:ext cx="304560" cy="29268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" name=""/>
            <p:cNvGrpSpPr/>
            <p:nvPr/>
          </p:nvGrpSpPr>
          <p:grpSpPr>
            <a:xfrm>
              <a:off x="4572000" y="6535800"/>
              <a:ext cx="4571640" cy="303840"/>
              <a:chOff x="4572000" y="6535800"/>
              <a:chExt cx="4571640" cy="303840"/>
            </a:xfrm>
          </p:grpSpPr>
          <p:sp>
            <p:nvSpPr>
              <p:cNvPr id="25" name=""/>
              <p:cNvSpPr/>
              <p:nvPr/>
            </p:nvSpPr>
            <p:spPr>
              <a:xfrm>
                <a:off x="8839080" y="6543360"/>
                <a:ext cx="304560" cy="29268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8839080" y="6546960"/>
                <a:ext cx="304560" cy="29268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534160" y="6543360"/>
                <a:ext cx="304560" cy="29268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229240" y="6543360"/>
                <a:ext cx="304560" cy="29268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229240" y="6546960"/>
                <a:ext cx="304560" cy="29268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924680" y="6543360"/>
                <a:ext cx="304560" cy="29268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19760" y="6539400"/>
                <a:ext cx="304560" cy="29268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19760" y="6543360"/>
                <a:ext cx="304560" cy="29268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314840" y="6539400"/>
                <a:ext cx="304560" cy="29268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010280" y="6539400"/>
                <a:ext cx="304560" cy="29268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010280" y="6543360"/>
                <a:ext cx="304560" cy="29268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705360" y="6539400"/>
                <a:ext cx="304560" cy="29268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6095880" y="6539400"/>
                <a:ext cx="304560" cy="29268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6095880" y="6543360"/>
                <a:ext cx="304560" cy="29268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90960" y="6539400"/>
                <a:ext cx="304560" cy="29268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486040" y="6535800"/>
                <a:ext cx="304560" cy="29268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486040" y="6539400"/>
                <a:ext cx="304560" cy="29268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81480" y="6535800"/>
                <a:ext cx="304560" cy="29268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4876560" y="6535800"/>
                <a:ext cx="304560" cy="29268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4876560" y="6539400"/>
                <a:ext cx="304560" cy="29268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4572000" y="6535800"/>
                <a:ext cx="304560" cy="29268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400440" y="6543360"/>
                <a:ext cx="304560" cy="29268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7" name=""/>
          <p:cNvGrpSpPr/>
          <p:nvPr/>
        </p:nvGrpSpPr>
        <p:grpSpPr>
          <a:xfrm>
            <a:off x="609480" y="533520"/>
            <a:ext cx="7901280" cy="609480"/>
            <a:chOff x="609480" y="533520"/>
            <a:chExt cx="7901280" cy="609480"/>
          </a:xfrm>
        </p:grpSpPr>
        <p:sp>
          <p:nvSpPr>
            <p:cNvPr id="48" name=""/>
            <p:cNvSpPr/>
            <p:nvPr/>
          </p:nvSpPr>
          <p:spPr>
            <a:xfrm>
              <a:off x="762120" y="1143000"/>
              <a:ext cx="761976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609480" y="533520"/>
              <a:ext cx="638280" cy="506160"/>
              <a:chOff x="609480" y="533520"/>
              <a:chExt cx="638280" cy="506160"/>
            </a:xfrm>
          </p:grpSpPr>
          <p:sp>
            <p:nvSpPr>
              <p:cNvPr id="50" name=""/>
              <p:cNvSpPr/>
              <p:nvPr/>
            </p:nvSpPr>
            <p:spPr>
              <a:xfrm>
                <a:off x="789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942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42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09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17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4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7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7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7872480" y="533520"/>
              <a:ext cx="638280" cy="506160"/>
              <a:chOff x="7872480" y="533520"/>
              <a:chExt cx="638280" cy="506160"/>
            </a:xfrm>
          </p:grpSpPr>
          <p:sp>
            <p:nvSpPr>
              <p:cNvPr id="59" name=""/>
              <p:cNvSpPr/>
              <p:nvPr/>
            </p:nvSpPr>
            <p:spPr>
              <a:xfrm>
                <a:off x="8052120" y="539640"/>
                <a:ext cx="304560" cy="50004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205840" y="538200"/>
                <a:ext cx="30168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205840" y="78588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872480" y="533520"/>
                <a:ext cx="216000" cy="50616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980480" y="538200"/>
                <a:ext cx="304920" cy="25092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977240" y="785880"/>
                <a:ext cx="308160" cy="253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910640" y="623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910640" y="785880"/>
                <a:ext cx="136440" cy="162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51"/>
              </a:spcBef>
              <a:buClr>
                <a:srgbClr val="eb933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888840" indent="-43956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293840" indent="-40320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81200" indent="-385920">
              <a:spcBef>
                <a:spcPts val="751"/>
              </a:spcBef>
              <a:buClr>
                <a:srgbClr val="bb932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70000" indent="-387360">
              <a:spcBef>
                <a:spcPts val="751"/>
              </a:spcBef>
              <a:buClr>
                <a:srgbClr val="eb933b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70000" indent="-38736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1388-B8D3-4370-AF3A-6E1DB48F7E23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6"/>
    <p:sldLayoutId id="2147483650" r:id="rId47"/>
    <p:sldLayoutId id="2147483651" r:id="rId48"/>
    <p:sldLayoutId id="2147483652" r:id="rId49"/>
    <p:sldLayoutId id="2147483653" r:id="rId50"/>
    <p:sldLayoutId id="2147483654" r:id="rId51"/>
    <p:sldLayoutId id="2147483655" r:id="rId52"/>
    <p:sldLayoutId id="2147483656" r:id="rId53"/>
    <p:sldLayoutId id="2147483657" r:id="rId54"/>
    <p:sldLayoutId id="2147483658" r:id="rId55"/>
    <p:sldLayoutId id="2147483659" r:id="rId56"/>
    <p:sldLayoutId id="2147483660" r:id="rId5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0" y="6505560"/>
            <a:ext cx="9143640" cy="304200"/>
            <a:chOff x="0" y="6505560"/>
            <a:chExt cx="9143640" cy="304200"/>
          </a:xfrm>
        </p:grpSpPr>
        <p:grpSp>
          <p:nvGrpSpPr>
            <p:cNvPr id="109" name=""/>
            <p:cNvGrpSpPr/>
            <p:nvPr/>
          </p:nvGrpSpPr>
          <p:grpSpPr>
            <a:xfrm>
              <a:off x="0" y="6505560"/>
              <a:ext cx="4571640" cy="304200"/>
              <a:chOff x="0" y="6505560"/>
              <a:chExt cx="4571640" cy="304200"/>
            </a:xfrm>
          </p:grpSpPr>
          <p:sp>
            <p:nvSpPr>
              <p:cNvPr id="110" name=""/>
              <p:cNvSpPr/>
              <p:nvPr/>
            </p:nvSpPr>
            <p:spPr>
              <a:xfrm>
                <a:off x="4267080" y="6513120"/>
                <a:ext cx="304560" cy="293040"/>
              </a:xfrm>
              <a:prstGeom prst="diamond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267080" y="6516720"/>
                <a:ext cx="304560" cy="293040"/>
              </a:xfrm>
              <a:prstGeom prst="diamond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962160" y="6513120"/>
                <a:ext cx="304920" cy="293040"/>
              </a:xfrm>
              <a:prstGeom prst="diamond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657600" y="6513120"/>
                <a:ext cx="304560" cy="293040"/>
              </a:xfrm>
              <a:prstGeom prst="diamond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657600" y="6516720"/>
                <a:ext cx="304560" cy="293040"/>
              </a:xfrm>
              <a:prstGeom prst="diamond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352680" y="6513120"/>
                <a:ext cx="304560" cy="293040"/>
              </a:xfrm>
              <a:prstGeom prst="diamond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047760" y="6509160"/>
                <a:ext cx="304920" cy="293040"/>
              </a:xfrm>
              <a:prstGeom prst="diamond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047760" y="6513120"/>
                <a:ext cx="304920" cy="293040"/>
              </a:xfrm>
              <a:prstGeom prst="diamond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743200" y="6509160"/>
                <a:ext cx="304560" cy="293040"/>
              </a:xfrm>
              <a:prstGeom prst="diamond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438280" y="6509160"/>
                <a:ext cx="304560" cy="293040"/>
              </a:xfrm>
              <a:prstGeom prst="diamond">
                <a:avLst/>
              </a:prstGeom>
              <a:blipFill rotWithShape="0">
                <a:blip r:embed="rId1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438280" y="6513120"/>
                <a:ext cx="304560" cy="293040"/>
              </a:xfrm>
              <a:prstGeom prst="diamond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33360" y="6509160"/>
                <a:ext cx="304920" cy="293040"/>
              </a:xfrm>
              <a:prstGeom prst="diamond">
                <a:avLst/>
              </a:pr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523880" y="6509160"/>
                <a:ext cx="304560" cy="293040"/>
              </a:xfrm>
              <a:prstGeom prst="diamond">
                <a:avLst/>
              </a:prstGeom>
              <a:blipFill rotWithShape="0">
                <a:blip r:embed="rId1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523880" y="6513120"/>
                <a:ext cx="304560" cy="293040"/>
              </a:xfrm>
              <a:prstGeom prst="diamond">
                <a:avLst/>
              </a:prstGeom>
              <a:blipFill rotWithShape="0">
                <a:blip r:embed="rId1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218960" y="6509160"/>
                <a:ext cx="304920" cy="293040"/>
              </a:xfrm>
              <a:prstGeom prst="diamond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14400" y="6505560"/>
                <a:ext cx="304560" cy="293040"/>
              </a:xfrm>
              <a:prstGeom prst="diamond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14400" y="6509160"/>
                <a:ext cx="304560" cy="293040"/>
              </a:xfrm>
              <a:prstGeom prst="diamond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09480" y="6505560"/>
                <a:ext cx="304560" cy="293040"/>
              </a:xfrm>
              <a:prstGeom prst="diamond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04560" y="6505560"/>
                <a:ext cx="304920" cy="293040"/>
              </a:xfrm>
              <a:prstGeom prst="diamond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04560" y="6509160"/>
                <a:ext cx="304920" cy="293040"/>
              </a:xfrm>
              <a:prstGeom prst="diamond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6505560"/>
                <a:ext cx="304560" cy="293040"/>
              </a:xfrm>
              <a:prstGeom prst="diamond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828800" y="6513120"/>
                <a:ext cx="304560" cy="293040"/>
              </a:xfrm>
              <a:prstGeom prst="diamond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572000" y="6505560"/>
              <a:ext cx="4571640" cy="304200"/>
              <a:chOff x="4572000" y="6505560"/>
              <a:chExt cx="4571640" cy="304200"/>
            </a:xfrm>
          </p:grpSpPr>
          <p:sp>
            <p:nvSpPr>
              <p:cNvPr id="133" name=""/>
              <p:cNvSpPr/>
              <p:nvPr/>
            </p:nvSpPr>
            <p:spPr>
              <a:xfrm>
                <a:off x="8839080" y="6513120"/>
                <a:ext cx="304560" cy="293040"/>
              </a:xfrm>
              <a:prstGeom prst="diamond">
                <a:avLst/>
              </a:prstGeom>
              <a:blipFill rotWithShape="0">
                <a:blip r:embed="rId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8839080" y="6516720"/>
                <a:ext cx="304560" cy="293040"/>
              </a:xfrm>
              <a:prstGeom prst="diamond">
                <a:avLst/>
              </a:pr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160" y="6513120"/>
                <a:ext cx="304560" cy="293040"/>
              </a:xfrm>
              <a:prstGeom prst="diamond">
                <a:avLst/>
              </a:pr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229240" y="6513120"/>
                <a:ext cx="304560" cy="293040"/>
              </a:xfrm>
              <a:prstGeom prst="diamond">
                <a:avLst/>
              </a:pr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229240" y="6516720"/>
                <a:ext cx="304560" cy="293040"/>
              </a:xfrm>
              <a:prstGeom prst="diamond">
                <a:avLst/>
              </a:prstGeom>
              <a:blipFill rotWithShape="0">
                <a:blip r:embed="rId2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24680" y="6513120"/>
                <a:ext cx="304560" cy="293040"/>
              </a:xfrm>
              <a:prstGeom prst="diamond">
                <a:avLst/>
              </a:prstGeom>
              <a:blipFill rotWithShape="0">
                <a:blip r:embed="rId2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19760" y="6509160"/>
                <a:ext cx="304560" cy="293040"/>
              </a:xfrm>
              <a:prstGeom prst="diamond">
                <a:avLst/>
              </a:prstGeom>
              <a:blipFill rotWithShape="0">
                <a:blip r:embed="rId3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7619760" y="6513120"/>
                <a:ext cx="304560" cy="293040"/>
              </a:xfrm>
              <a:prstGeom prst="diamond">
                <a:avLst/>
              </a:prstGeom>
              <a:blipFill rotWithShape="0">
                <a:blip r:embed="rId3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314840" y="6509160"/>
                <a:ext cx="304560" cy="293040"/>
              </a:xfrm>
              <a:prstGeom prst="diamond">
                <a:avLst/>
              </a:prstGeom>
              <a:blipFill rotWithShape="0">
                <a:blip r:embed="rId3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010280" y="6509160"/>
                <a:ext cx="304560" cy="293040"/>
              </a:xfrm>
              <a:prstGeom prst="diamond">
                <a:avLst/>
              </a:prstGeom>
              <a:blipFill rotWithShape="0">
                <a:blip r:embed="rId3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010280" y="6513120"/>
                <a:ext cx="304560" cy="293040"/>
              </a:xfrm>
              <a:prstGeom prst="diamond">
                <a:avLst/>
              </a:prstGeom>
              <a:blipFill rotWithShape="0">
                <a:blip r:embed="rId3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6705360" y="6509160"/>
                <a:ext cx="304560" cy="293040"/>
              </a:xfrm>
              <a:prstGeom prst="diamond">
                <a:avLst/>
              </a:prstGeom>
              <a:blipFill rotWithShape="0">
                <a:blip r:embed="rId3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095880" y="6509160"/>
                <a:ext cx="304560" cy="293040"/>
              </a:xfrm>
              <a:prstGeom prst="diamond">
                <a:avLst/>
              </a:prstGeom>
              <a:blipFill rotWithShape="0">
                <a:blip r:embed="rId3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5880" y="6513120"/>
                <a:ext cx="304560" cy="293040"/>
              </a:xfrm>
              <a:prstGeom prst="diamond">
                <a:avLst/>
              </a:prstGeom>
              <a:blipFill rotWithShape="0">
                <a:blip r:embed="rId3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90960" y="6509160"/>
                <a:ext cx="304560" cy="293040"/>
              </a:xfrm>
              <a:prstGeom prst="diamond">
                <a:avLst/>
              </a:prstGeom>
              <a:blipFill rotWithShape="0">
                <a:blip r:embed="rId3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486040" y="6505560"/>
                <a:ext cx="304560" cy="293040"/>
              </a:xfrm>
              <a:prstGeom prst="diamond">
                <a:avLst/>
              </a:prstGeom>
              <a:blipFill rotWithShape="0">
                <a:blip r:embed="rId3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486040" y="6509160"/>
                <a:ext cx="304560" cy="293040"/>
              </a:xfrm>
              <a:prstGeom prst="diamond">
                <a:avLst/>
              </a:prstGeom>
              <a:blipFill rotWithShape="0">
                <a:blip r:embed="rId4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81480" y="6505560"/>
                <a:ext cx="304560" cy="293040"/>
              </a:xfrm>
              <a:prstGeom prst="diamond">
                <a:avLst/>
              </a:prstGeom>
              <a:blipFill rotWithShape="0">
                <a:blip r:embed="rId4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876560" y="6505560"/>
                <a:ext cx="304560" cy="293040"/>
              </a:xfrm>
              <a:prstGeom prst="diamond">
                <a:avLst/>
              </a:prstGeom>
              <a:blipFill rotWithShape="0">
                <a:blip r:embed="rId4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876560" y="6509160"/>
                <a:ext cx="304560" cy="293040"/>
              </a:xfrm>
              <a:prstGeom prst="diamond">
                <a:avLst/>
              </a:prstGeom>
              <a:blipFill rotWithShape="0">
                <a:blip r:embed="rId4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572000" y="6505560"/>
                <a:ext cx="304560" cy="293040"/>
              </a:xfrm>
              <a:prstGeom prst="diamond">
                <a:avLst/>
              </a:prstGeom>
              <a:blipFill rotWithShape="0">
                <a:blip r:embed="rId4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00440" y="6513120"/>
                <a:ext cx="304560" cy="293040"/>
              </a:xfrm>
              <a:prstGeom prst="diamond">
                <a:avLst/>
              </a:prstGeom>
              <a:blipFill rotWithShape="0">
                <a:blip r:embed="rId4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609480" y="2362320"/>
            <a:ext cx="7925040" cy="761760"/>
            <a:chOff x="609480" y="2362320"/>
            <a:chExt cx="7925040" cy="761760"/>
          </a:xfrm>
        </p:grpSpPr>
        <p:sp>
          <p:nvSpPr>
            <p:cNvPr id="156" name=""/>
            <p:cNvSpPr/>
            <p:nvPr/>
          </p:nvSpPr>
          <p:spPr>
            <a:xfrm>
              <a:off x="766800" y="2362320"/>
              <a:ext cx="7599240" cy="0"/>
            </a:xfrm>
            <a:prstGeom prst="line">
              <a:avLst/>
            </a:prstGeom>
            <a:ln w="28440">
              <a:solidFill>
                <a:srgbClr val="f3c9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6800" y="3124080"/>
              <a:ext cx="7599240" cy="0"/>
            </a:xfrm>
            <a:prstGeom prst="line">
              <a:avLst/>
            </a:prstGeom>
            <a:ln w="28440">
              <a:solidFill>
                <a:srgbClr val="eb93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609480" y="2401920"/>
              <a:ext cx="804960" cy="676080"/>
              <a:chOff x="609480" y="2401920"/>
              <a:chExt cx="804960" cy="676080"/>
            </a:xfrm>
          </p:grpSpPr>
          <p:sp>
            <p:nvSpPr>
              <p:cNvPr id="159" name=""/>
              <p:cNvSpPr/>
              <p:nvPr/>
            </p:nvSpPr>
            <p:spPr>
              <a:xfrm>
                <a:off x="836640" y="2409840"/>
                <a:ext cx="38412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030320" y="2401920"/>
                <a:ext cx="384120" cy="34128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30320" y="273852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09480" y="2401920"/>
                <a:ext cx="27324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46280" y="2408400"/>
                <a:ext cx="38412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41240" y="2738520"/>
                <a:ext cx="38916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57360" y="2522520"/>
                <a:ext cx="172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57360" y="2738520"/>
                <a:ext cx="172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"/>
            <p:cNvGrpSpPr/>
            <p:nvPr/>
          </p:nvGrpSpPr>
          <p:grpSpPr>
            <a:xfrm>
              <a:off x="7770960" y="2401920"/>
              <a:ext cx="763560" cy="676080"/>
              <a:chOff x="7770960" y="2401920"/>
              <a:chExt cx="763560" cy="676080"/>
            </a:xfrm>
          </p:grpSpPr>
          <p:sp>
            <p:nvSpPr>
              <p:cNvPr id="168" name=""/>
              <p:cNvSpPr/>
              <p:nvPr/>
            </p:nvSpPr>
            <p:spPr>
              <a:xfrm>
                <a:off x="7985160" y="2409840"/>
                <a:ext cx="365040" cy="668160"/>
              </a:xfrm>
              <a:prstGeom prst="diamond">
                <a:avLst/>
              </a:prstGeom>
              <a:solidFill>
                <a:srgbClr val="f1e7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169120" y="2409840"/>
                <a:ext cx="365400" cy="33336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74" y="157"/>
                    </a:moveTo>
                    <a:lnTo>
                      <a:pt x="196" y="158"/>
                    </a:lnTo>
                    <a:lnTo>
                      <a:pt x="116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3c9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169120" y="2738520"/>
                <a:ext cx="365400" cy="334800"/>
              </a:xfrm>
              <a:custGeom>
                <a:avLst/>
                <a:gdLst/>
                <a:ahLst/>
                <a:rect l="l" t="t" r="r" b="b"/>
                <a:pathLst>
                  <a:path w="192" h="157">
                    <a:moveTo>
                      <a:pt x="73" y="1"/>
                    </a:moveTo>
                    <a:lnTo>
                      <a:pt x="192" y="0"/>
                    </a:lnTo>
                    <a:lnTo>
                      <a:pt x="113" y="157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bb93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770960" y="2401920"/>
                <a:ext cx="258480" cy="676080"/>
              </a:xfrm>
              <a:prstGeom prst="diamond">
                <a:avLst/>
              </a:prstGeom>
              <a:solidFill>
                <a:srgbClr val="f5b3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899480" y="2408400"/>
                <a:ext cx="365040" cy="334800"/>
              </a:xfrm>
              <a:custGeom>
                <a:avLst/>
                <a:gdLst/>
                <a:ahLst/>
                <a:rect l="l" t="t" r="r" b="b"/>
                <a:pathLst>
                  <a:path w="196" h="158">
                    <a:moveTo>
                      <a:pt x="69" y="158"/>
                    </a:moveTo>
                    <a:lnTo>
                      <a:pt x="196" y="158"/>
                    </a:lnTo>
                    <a:lnTo>
                      <a:pt x="1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896240" y="2738520"/>
                <a:ext cx="368280" cy="334800"/>
              </a:xfrm>
              <a:custGeom>
                <a:avLst/>
                <a:gdLst/>
                <a:ahLst/>
                <a:rect l="l" t="t" r="r" b="b"/>
                <a:pathLst>
                  <a:path w="194" h="158">
                    <a:moveTo>
                      <a:pt x="67" y="0"/>
                    </a:moveTo>
                    <a:lnTo>
                      <a:pt x="194" y="0"/>
                    </a:lnTo>
                    <a:lnTo>
                      <a:pt x="120" y="158"/>
                    </a:lnTo>
                    <a:lnTo>
                      <a:pt x="0" y="157"/>
                    </a:lnTo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816680" y="2522520"/>
                <a:ext cx="163800" cy="21600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4" y="0"/>
                    </a:moveTo>
                    <a:lnTo>
                      <a:pt x="0" y="102"/>
                    </a:lnTo>
                    <a:lnTo>
                      <a:pt x="86" y="102"/>
                    </a:lnTo>
                    <a:lnTo>
                      <a:pt x="44" y="0"/>
                    </a:lnTo>
                    <a:close/>
                  </a:path>
                </a:pathLst>
              </a:cu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816680" y="2738520"/>
                <a:ext cx="163800" cy="217440"/>
              </a:xfrm>
              <a:custGeom>
                <a:avLst/>
                <a:gdLst/>
                <a:ahLst/>
                <a:rect l="l" t="t" r="r" b="b"/>
                <a:pathLst>
                  <a:path w="86" h="102">
                    <a:moveTo>
                      <a:pt x="42" y="102"/>
                    </a:moveTo>
                    <a:lnTo>
                      <a:pt x="0" y="0"/>
                    </a:lnTo>
                    <a:lnTo>
                      <a:pt x="86" y="0"/>
                    </a:lnTo>
                    <a:lnTo>
                      <a:pt x="42" y="102"/>
                    </a:lnTo>
                    <a:close/>
                  </a:path>
                </a:pathLst>
              </a:custGeom>
              <a:solidFill>
                <a:srgbClr val="eb9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cc66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4"/>
          </p:nvPr>
        </p:nvSpPr>
        <p:spPr>
          <a:xfrm>
            <a:off x="45684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84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3720" cy="2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248E-C3FD-4A99-B921-631FEA285BE5}" type="slidenum">
              <a:rPr b="0" lang="ko-KR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70360" y="1058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6"/>
    <p:sldLayoutId id="2147483663" r:id="rId47"/>
    <p:sldLayoutId id="2147483664" r:id="rId48"/>
    <p:sldLayoutId id="2147483665" r:id="rId49"/>
    <p:sldLayoutId id="2147483666" r:id="rId50"/>
    <p:sldLayoutId id="2147483667" r:id="rId51"/>
    <p:sldLayoutId id="2147483668" r:id="rId52"/>
    <p:sldLayoutId id="2147483669" r:id="rId53"/>
    <p:sldLayoutId id="2147483670" r:id="rId54"/>
    <p:sldLayoutId id="2147483671" r:id="rId55"/>
    <p:sldLayoutId id="2147483672" r:id="rId56"/>
    <p:sldLayoutId id="2147483673" r:id="rId5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7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0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장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Verification Langu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1844640"/>
            <a:ext cx="87631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굴림"/>
              </a:rPr>
              <a:t>Aarti Gupta, NEC Laboratories Americ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굴림"/>
              </a:rPr>
              <a:t>Ali Alphan Bayazit, Princeton Univer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Arial"/>
                <a:ea typeface="굴림"/>
              </a:rPr>
              <a:t>Yogesh Mahajan, Princeton Universit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0720" y="5229360"/>
            <a:ext cx="3527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발 표 자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 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김   미   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네트워크 컴퓨팅 연구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B0AC-3DB0-4AC3-A3FC-9A20D2926D4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2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공식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form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property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check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finite state transition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으로 모형화되고 특성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emporal logic formula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표기되므로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검증은 그 공식이 그모형에서 참인지를 점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와 명세 모두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logic formula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로 모형화되고 그둘간의 충족관계가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prover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에 의하여 연역적으로 증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Theorem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쉽게 자동화되고 디버깅에 유용한 반증을 제공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infinite state system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성질을 갖고 있어 고도로 자동화되지 못하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새로운 사용자가 학습하기 어렵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상태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( state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컴포넌트의 개수에 따라 기하급수적으로 증가하는 상태 공간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( state space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갖는 문제점이 있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symbolic 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상태 집합을 기호적으로 조작하는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inary Decision Diagram ( BDD 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을 사용함으로써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scalability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는 개선되지만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BDD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의 메모리 확장으로 인하여 실패할 수 있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ounded model checking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은 제한된 길이의 반증을 찾기 위하여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Boolean satisfiability (SAT)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를 이용함으로써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버그를 더 잘 찾을 수 있으나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Arial"/>
                <a:ea typeface="굴림"/>
              </a:rPr>
              <a:t>증명을 얻기 위한 추가적인 추론이 필요하다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4916-27F6-408E-89D7-A39821ECDB3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3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단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assertion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기반 검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과 공식적 검증의 효과를 향상시키고 둘을 효과적으로  결합시키는  시스템적 수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설계 단계에서 설계자의 의도를 파악하기 위하여 특성을 공식적 명세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은 올바른 기능을 위배하는 지를 점검하기 위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으로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듈간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fa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명시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것은 해당 모듈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put interfa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imuli genera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번역되거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ed random simula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-solv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검증에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constraint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bstrac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듈에서는 명시적으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방법에서는 묵시적으로 처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ume-guarante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을 탐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듈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utput interface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ownstream modul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put interfa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수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68EA-C1F7-450B-8331-ACDB1EEF4D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의 공식적 명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 언어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rmal log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utomat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론에서 유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론상의 문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- expressiveness (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논리가 파악할 수 있는 특성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형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관련 특성을 점검하기 위한 복잡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논리를 더 많이 표현할 수록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을 점검하는 복잡성은 커진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적용상의 문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–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 편리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도구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0E71-59AE-4A1A-932D-C791E71CA6E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1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명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proposition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설계자에게 친숙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oolean log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oolea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Not / AND / OR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pressive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제한적이지만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b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 하드웨어 설계에 매우 적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ACC9-B1F8-4CCD-AC68-C341D6EC9B4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2   First-Order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술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predicate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의의 집합 원소에 대하여 유한하지 않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n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갖는 변수를 허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수 또는 실수를  추리하는 상위 레벨 시스템과 소프트웨어에 유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or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 하드웨어 설계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마이크로프로세서를 검증하기 위하여 사용하는 논리의 부분 집합에 대한 자동화된 의사결정 과정이 존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1AB7-DE48-410B-907D-44219FBEF1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3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tempor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2280" y="1341360"/>
            <a:ext cx="88124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동시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ncurrent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수행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ctive system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명세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전제 조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proposi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하여 레벨화된 상태 전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tate transition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으로 모형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전제 조건의 해석은 상태에 따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ynamicall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변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oolea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+ 4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지 시상 연산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always / eventually / next / unti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p : alway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p : eventually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Xp : next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Uq : p is true until q becomes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afety property :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나쁜 일은 일어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 ( !p1_critical + !p2_critical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동시에 일어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E70A-7277-4FC0-9143-A37DB8D4EE5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3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tempor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논리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52280" y="1341360"/>
            <a:ext cx="881244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veness property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좋은 일은 결국 일어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 ( request → F gra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자원을 요청하는 모든 요청은 결국은 수락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ecedence property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건의 순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 ( !p2_req U p1_req → !p2_grant U p1_grant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세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다 앞서서 자원을 요청하였으므로 자원을 일찍 수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상 논리의 다른 종류들은 시간이라는 관점에서 제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 Temporal Logic ( LT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상태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 sequen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 해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mputational Temporal Logic ( CT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어떤 상태로부터 가능한 계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e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해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pressive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측면에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서로 다른 특성을 가지므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비교 불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del chec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복잡성은 모형의 크기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지만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 크기는 기하급수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모형 점검 복잡성은 둘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n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0BE2-14CF-4226-BF0D-C5520640F34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4.4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정규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Regular ) and </a:t>
            </a:r>
            <a:r>
              <a:rPr b="1" lang="el-GR" sz="3200" spc="-1" strike="noStrike">
                <a:solidFill>
                  <a:srgbClr val="000000"/>
                </a:solidFill>
                <a:latin typeface="Arial"/>
                <a:ea typeface="굴림"/>
              </a:rPr>
              <a:t>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정규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52280" y="1341360"/>
            <a:ext cx="8991720" cy="417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상 논리가 순서의 정규적인 특성을 나타낼 수 없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한 또는 무한의 단어에 대한 상태 오토마타를 인지하는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규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regular express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지의 기본 연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concatenation) – “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선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choice) – “|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제한된 반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repetition) – “*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를 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 (request.(grant|error))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ra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rr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가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ques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의 교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굴림"/>
              </a:rPr>
              <a:t>ω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-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규식 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.V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형식이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  V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무한 반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종료되지 않는 시스템의 특성을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340000" y="42210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굴림"/>
                <a:ea typeface="굴림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067280" y="4221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굴림"/>
                <a:ea typeface="굴림"/>
              </a:rPr>
              <a:t>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F5E4-F49E-4375-ABA6-DDEE7C979E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하드웨어 검증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에 대한 검증 언어에 초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569B-C683-466E-8589-8E512D492BC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1   HDL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와 프로그래밍 언어와의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terface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2280" y="1341360"/>
            <a:ext cx="8667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는 표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구현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Verilog, 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하드웨어와 합성될 필요가 없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보다 상위 레벨에서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/C++, Perl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같은 소프트웨어 프로그래밍 언어로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준 프로그래밍 언어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rface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통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simula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통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터의 속도를 저하시키고 새로운 변수 타입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128-bits bus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정의하는 등의 고된 개발 노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에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V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상이한 엄격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severity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을 가지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c 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lo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명시적 구문은 없지만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“if”, “$display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유사한 효과 구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498F-0AF9-49D8-BBA3-DAC78530BD1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목       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1484280"/>
            <a:ext cx="777564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소  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검증 방법론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배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하드웨어 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소프트웨어 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임베디드 시스템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oC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에서의 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문 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0E0C-6EB0-40CB-8FDD-D4B193B4F25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1   HDL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와 프로그래밍 언어와의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interface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두개의 신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, B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동시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아니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바람직하지 않는 경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324000" y="2421000"/>
            <a:ext cx="3887640" cy="2051640"/>
            <a:chOff x="324000" y="2421000"/>
            <a:chExt cx="3887640" cy="2051640"/>
          </a:xfrm>
        </p:grpSpPr>
        <p:sp>
          <p:nvSpPr>
            <p:cNvPr id="313" name=""/>
            <p:cNvSpPr/>
            <p:nvPr/>
          </p:nvSpPr>
          <p:spPr>
            <a:xfrm>
              <a:off x="468360" y="2995560"/>
              <a:ext cx="374328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Assert ( A NAN B 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report “error: A &amp; B cannot both be 1”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severity 0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24000" y="242100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VHDL </a:t>
              </a: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단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4572000" y="2276640"/>
            <a:ext cx="4032360" cy="2959200"/>
            <a:chOff x="4572000" y="2276640"/>
            <a:chExt cx="4032360" cy="2959200"/>
          </a:xfrm>
        </p:grpSpPr>
        <p:sp>
          <p:nvSpPr>
            <p:cNvPr id="316" name=""/>
            <p:cNvSpPr/>
            <p:nvPr/>
          </p:nvSpPr>
          <p:spPr>
            <a:xfrm>
              <a:off x="4643280" y="2781360"/>
              <a:ext cx="3961080" cy="245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Always ( A or B ) 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if ( A &amp; B ) beg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$display (“error: A = B = 1”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$finish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en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en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72000" y="2276640"/>
              <a:ext cx="151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Verilog </a:t>
              </a:r>
              <a:r>
                <a:rPr b="0" lang="ko-KR" sz="1600" spc="-1" strike="noStrike">
                  <a:solidFill>
                    <a:srgbClr val="000000"/>
                  </a:solidFill>
                  <a:latin typeface="굴림"/>
                  <a:ea typeface="굴림"/>
                </a:rPr>
                <a:t>단언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F922-2FD6-44BD-BA82-9BE7E83C477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2   open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brar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proper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heck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고된 개발 노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재사용 가능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발에 관심 집중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로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cceller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 Verification Library ( OVL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독립된 언어가 아니라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Verilo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 기술서 내에 공동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를 점검하기 위한 모듈들의 집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BC88-9EF9-4BAB-BBC9-2183D84AD74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2   open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brary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2 : PCI Local Bu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rese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동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D, C/BE#, PAR, RST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움직이는 것을 방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8360" y="299556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_always master_reset ( clk, !rst_, ! | ( ad, cbe_, par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4000" y="2421000"/>
            <a:ext cx="511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Verilog’ OVL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굴림"/>
                <a:ea typeface="굴림"/>
              </a:rPr>
              <a:t>– </a:t>
            </a:r>
            <a:r>
              <a:rPr b="0" lang="ko-KR" sz="1600" spc="-1" strike="noStrike">
                <a:solidFill>
                  <a:srgbClr val="000000"/>
                </a:solidFill>
                <a:latin typeface="굴림"/>
                <a:ea typeface="굴림"/>
              </a:rPr>
              <a:t>각 신호에 대응하는 변수 존재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2280" y="3500280"/>
            <a:ext cx="8812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_alway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이브러리 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ster_rese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_alway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l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상승 모서리일 때마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!rst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일 때마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oni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다음의 파라미터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u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판단해야 한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i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d, cbe_, pa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itwise-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부정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!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 시물레이션동안 항상 유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hold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해달라는 간단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afe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B1FF-2971-4C6A-A0A4-0B07389EB4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2   open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Library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3 : PCI Local Bu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!stop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온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- 3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클럭 사이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me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되는지를 점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9640" y="2565360"/>
            <a:ext cx="792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_frame# (1, 1, 3)  check_frame_da ( clk, true, !stop_, frame_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52280" y="3500280"/>
            <a:ext cx="881244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추가적인 검증 도구의 필요없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log, VHDL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혼합 시뮬레이터와 함께 사용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므로 라이브러리 수정이 용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물레이션 속도를 저하시키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주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safe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점검에 사용되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live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공식적 검증에는 비효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전통적인 시뮬레이션 기반 에서 단언 기반 으로 변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3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의 옵션 파라미터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# (1,1,3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엄격성 수준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소 클럭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대 클럭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7B60-2B3D-4FB9-9FCD-936B1307F5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sity’s 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EEE DAS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준 검증 언어로 채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bject-oriente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래밍 구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pect-oriente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그래밍 지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–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본래의 코드를 변경하지 않고 환경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unctionali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조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로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구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명세 지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반 과 공식적 검증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둘다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B8F4-A15C-4764-8156-67096B762BD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4 : 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Ethernet fram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모형화하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%payloa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선언된 데이터 필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9640" y="2637000"/>
            <a:ext cx="727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truct payload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%id        :by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%data    :list of by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keep soft data.size()  in [ 45 .. 1499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31920" y="479736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%”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ield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앞에 붙이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게 보내지는 데이터를  나타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Keer sof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약속어는 변수값의 범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046B-771E-48D2-B6E8-F16AD603ADB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5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 정의 함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ially DU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게 전송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9640" y="2637000"/>
            <a:ext cx="7272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var bitList:  list of bi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itList = pack ( packing.low, my_frame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For each (b) in bitLis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‘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testbench.duv.transmit_stream0’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wait  cycle; 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52280" y="486900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ac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모든 데이터 필드를 비트들의 리스트로 모은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y_fram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ruct fram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인스턴스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3646-7553-4281-9150-8D227753F7C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3   Temporal </a:t>
            </a:r>
            <a:r>
              <a:rPr b="1" lang="en-US" sz="3200" spc="-1" strike="noStrike">
                <a:solidFill>
                  <a:srgbClr val="000000"/>
                </a:solidFill>
                <a:latin typeface="MD솔체"/>
                <a:ea typeface="MD솔체"/>
              </a:rPr>
              <a:t>e  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6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mast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 에 대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의 상태와 무관하게 현재의 데이터 전송 을 끝낼때까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ME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변경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39640" y="2637000"/>
            <a:ext cx="7272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xpect @new_irdy =&gt;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[  . . ] * ( ( not @irdy_rise) and ( not change (frame_1) 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@data_phase_complete } @sys.pci_cl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ut_error ( “Error, IRDY# or FRAME# changed”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    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efore current data phase completed.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31920" y="548964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들은 미리 정의되어 있다고 가정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@event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될 때마다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@new_irdy ), IRDY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eassert ( @irdy_rise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B1BA-8704-4057-AB37-D921AF50577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4  OpenVera and OVA 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ynopsy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Ver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++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구문이 유사하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unctionali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측면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비슷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Vera Assertion ( OVA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독립된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penVera suit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일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유사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heck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이브러리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IP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3C9B-7E8F-47B0-AB5B-C7307FF2F47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4  OpenVera and OVA 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7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0.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버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!stop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신호가 나온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 - 3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클럭 사이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frame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되는지를 점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2637000"/>
            <a:ext cx="56167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clock posedge  clk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vent  ch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f ( negedge  stop_ )  th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# [ 1..3 ] posedge  frame_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 frame_ch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:  check ( chk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31920" y="530064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샘플링 클럭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벤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응하는 동작의 명세에 주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f – the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현 작업이 프로그래밍 언어의 조건문과 유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#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ycle dela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1" action="ppaction://hlinksldjump"/>
          </p:cNvPr>
          <p:cNvSpPr/>
          <p:nvPr/>
        </p:nvSpPr>
        <p:spPr>
          <a:xfrm>
            <a:off x="6804000" y="2637000"/>
            <a:ext cx="1800360" cy="368280"/>
          </a:xfrm>
          <a:prstGeom prst="rect">
            <a:avLst/>
          </a:prstGeom>
          <a:solidFill>
            <a:srgbClr val="f3c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참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  23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811A-50AD-4675-B17D-8C457F4787A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.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    개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2280" y="1341360"/>
            <a:ext cx="899172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fication 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에서 명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pecifica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 제대로  구현하였는지를 살펴보는 과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는 설계자의 의도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자연어 문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언어 문서 등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0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장은 검증에 관련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나타내기 위한 공식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forma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문을 가진 검증언어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반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ynamic verificatio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방법 기반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tatic verification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7AB8-50E3-493F-9268-62E7F54C511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5  ForSpe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2280" y="1341360"/>
            <a:ext cx="8991720" cy="38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te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명세 와 모델링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rSpec Temporal Logic ( FT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근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규 언어 연산자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L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타일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들로 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큰 규모의 설계에 대한 모듈 검증에 적합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ume-gurante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패러다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를 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synchronous s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ccept ( boolean_expr &amp; clock ) in formula_ex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를 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asynchronous re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ject ( boolean_expr &amp; clock ) in formula_ex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근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ForSpe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구문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버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2.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추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히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temporal formul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개념에 추가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mpora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llowed_by, triggers, until, next, wn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56B8-F13A-410C-9888-A896E089562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공식적 특성 명세를 위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cceller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Specification Langage ( PSL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IBM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uga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언어로 부터 기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처음에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기반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L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기반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uga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버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2.0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기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Assertion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기반 검증을 위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LTL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장점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mantics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시뮬레이션 기반 방식에 자연스럽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즉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한번에 단독 경로를 추적한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TL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모델 점검 복잡성에서는 효과적이지만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 기반 방식을 지원하기 어렵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공식적 검증에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Optional Branching Extension ( OBE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을  통하여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PS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서 지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PS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특성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4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계층으로 구성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–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oolean layer, temporal layer, verification layer, modeling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정규식 연산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2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개 유형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        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trong suffix –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끝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!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붙어서 시뮬레이션을 끝낼 때까지 연산자를 유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        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week suffix - !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없는 경우로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ru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될 기회가 완전히 사라졌을 때에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                           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유지하지 않는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0274-CED6-4BDF-89A8-5AB80360EC8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8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0.3, 10.7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S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버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!stop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신호가 나온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 - 3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클럭 사이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frame_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되는지를 점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>
            <a:hlinkClick r:id="rId1" action="ppaction://hlinksldjump"/>
          </p:cNvPr>
          <p:cNvSpPr/>
          <p:nvPr/>
        </p:nvSpPr>
        <p:spPr>
          <a:xfrm>
            <a:off x="6804000" y="2637000"/>
            <a:ext cx="1800360" cy="368280"/>
          </a:xfrm>
          <a:prstGeom prst="rect">
            <a:avLst/>
          </a:prstGeom>
          <a:solidFill>
            <a:srgbClr val="f3c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참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  23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2" action="ppaction://hlinksldjump"/>
          </p:cNvPr>
          <p:cNvSpPr/>
          <p:nvPr/>
        </p:nvSpPr>
        <p:spPr>
          <a:xfrm>
            <a:off x="6804000" y="3284640"/>
            <a:ext cx="1800360" cy="368280"/>
          </a:xfrm>
          <a:prstGeom prst="rect">
            <a:avLst/>
          </a:prstGeom>
          <a:solidFill>
            <a:srgbClr val="f3c9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참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)  27 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9640" y="263700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 always ( !stop_ → eventually!  frame_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1920" y="414972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위의 명세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rame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되면 정성적이 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ventually!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연산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op_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온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– 3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이클내에서 동작하라는 명세를 못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A43C-6C37-4765-8A6F-04F42511CD3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9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request-acknowled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순서 다음에 꼭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8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번의 데이터 전송이 있는 특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39640" y="234936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lways { req; ack } |=&gt; { start_trans; data [=8]; end_trans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1920" y="3141720"/>
            <a:ext cx="88120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E ( Sugar Extended Regular Express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하여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c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간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|=&gt;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꼭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ne cycl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rt_tran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신호가 나온다는 특성을 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표기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[ =8 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꼭 연속일 필요가 없는 반복 연산자이고 인수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8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4360" y="4797360"/>
            <a:ext cx="69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{ !data [*]; data; !data[*] } [*8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31920" y="5445000"/>
            <a:ext cx="8812080" cy="8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각 특성의 샘플링 클럭 혹은 디폴트 클럭을 명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위의 예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[=8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등가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DA3-FEBF-40EB-BB64-9EC4CC66B5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3.6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특성 명세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0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미있는 주소 비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D[0]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데이터 전송 중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 되지 않도록 하는 특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2637000"/>
            <a:ext cx="828036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quence SERE_MEM_ADDR_PHASE = { frame_; !frame_ &amp;&amp; mem_chd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roperty PCI_VALID_MEM_BURST_ENCODING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lways {SERE_MEM_ADDR_PHASE} |→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{!ad[0]} abort  !rst_ @(posedge clk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PCI_VALID_MEM_BURST_ENCODIN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4941720"/>
            <a:ext cx="881208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|→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weak suffix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함축 연산자로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첫번째 순서가 올때마다 두번째 순서를 알고 자 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명세 내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equenc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약속어를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들은 단언문으로 주어지고 검증 도구에 의하여 점검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FF56-7621-4CCE-9C28-4499C690FDE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프트웨어 검증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시스템 어플리케이션에 관련된 소프트웨어 검증에 초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설계 산업과 비교하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 언어의 표준화에 소극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의 복잡성을 희소시키려는 노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소프트웨어의 정확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rrectness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loyd-Hoar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스타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유형으로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능 검증을 위하여 동작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ac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variants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선후 조건들을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행동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behaviora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을 위한 시상 논리 공식을 표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32DE-B941-4DD0-ACB2-C8439E6075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1  C/C++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2280" y="1341360"/>
            <a:ext cx="8812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루슨트 테크날리지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VeriSof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/C++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직접 명시된 단언에 대한 교착상태와 위반을 검색의 초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LAM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프로젝트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쓰여진 디바이스 드라이버의 정확성을 증명하기 위하여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rrectnes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는 요구사항을 제공하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L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러한 요구사항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afe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을 점검하는 오토마타를 구현하는 특별한 프로시저로 번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검증은 유한 상태 추상 모델을 구하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델 점검을 수행하고 필요하면 추상 모델을  개정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6C00-B7A6-4396-88D5-8B3D10A427C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2  Java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2280" y="1341360"/>
            <a:ext cx="8991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tended Static Checker for Java ( ESC/Java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점검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ype checking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수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일상적인 프로그램 오류를 파악하는 검증 조건들을 자동으로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러한 조건들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ackend theorem prov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조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자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heorem prove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사용하는 요구사항을 주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annota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로 제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7647-9965-4E3C-B30C-C3D53C6536D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2  Java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1 : PC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명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integer multiset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가지는 클래스 정의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9640" y="2205000"/>
            <a:ext cx="828036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  class Ba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      //@invariants 0&lt;=size &amp;&amp; size &lt;=elements.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3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  siz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[ ] ele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 @requires input != null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Bag ( int [ ] input ) {   ….. 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7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extractMin ()  { ……..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8 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5661000"/>
            <a:ext cx="88120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5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SC/Java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사용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2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매번 클래스 초기화시에 유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라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5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다음 작업에 대한 선조건을 명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ABDE-6C64-43F0-89F2-F395DD6E64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1.2  Java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프로그램 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ndera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JavaPathFinder ( JPF )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다양한 프로그램 분석 방법과 유한 상태 모델을 구하기 위하여 추상화를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ndera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프로젝트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ndera 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명세 언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BSL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개발에 초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A75D-D20E-40ED-B3A8-01849F1A1E2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1.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    개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최근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와 시스템 차원의 표준화 활동이 적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설계 언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Hardware Description Language : HD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대중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 Verilog, V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하드웨어 검증 언어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Hardware Verification Langage : HVL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등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e, OpenVera, Sugar/PSL, For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임베디드 어플리케이션의 검증 언어는 주로 표준 프로그래밍 언어를 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 C/C++,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모델링 언어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UML, SDL, Allo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의 검증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  SystemC, SpecC, SystemVerilo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C740-7276-47CC-ABD5-FC8793F361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4.2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소프트웨어 모델링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0" y="1341360"/>
            <a:ext cx="914400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Unified Modeling Language ( UM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객체기반 소프트웨어 시스템 설계 표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실시간 및 임베디드 시스템의 명세와 모델링에도 관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요구사항 명세를 위하여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Object Constraint Language ( OC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UM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일부로서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자동차 또는 항공기 어플리케이션에서 임베디드 소프트웨어 개발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UM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모델을 시뮬레이션하는  도구가 보편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통신 시스템에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pecification and Description Language ( SD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일상적인 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7A0A-4A2B-4933-8892-71A881FDF75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임베디드 시스템 검증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/ SoC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3645000"/>
            <a:ext cx="89917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++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기반의 모델링 플랫폼으로서 소프트웨어 모듈 뿐 아니라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RT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서의 하드웨어 모듈 추상화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스템 레벨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행동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behavioral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레벨을 지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DUV , testbench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작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플랫폼은 클래스 라이브러리 와 시뮬레이션 커널을 제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트랜잭션 기반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estbench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개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95280" y="155736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1 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시스템 차원의 모델링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39640" y="24922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1.1  SystemC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ystemC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검증 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22B1-759E-4E0F-8E76-7A325048E3C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1.2  Spec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2280" y="1484280"/>
            <a:ext cx="899172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기반으로 하는 실행가능한 모델링 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하드웨어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소프트웨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odesign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을 목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스템 레벨 설계에서 통신과 계산을 분명하게 분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8360" y="29242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1.3  SystemVerilog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SystemVerilog asse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3645000"/>
            <a:ext cx="8964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Verilog HDL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확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Acellera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가 표준한 버전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3.1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최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트랜잭션 레벨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estbench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개발을 위하여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C/C++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구조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포인터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클래스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상속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멀티 쓰레드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벤트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세마포어등 많은 특성들을 가져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assertion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기반 검증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ystemVerilog Assertions ( SVA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언어를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2AE-CBF1-411C-9F9A-EF6E92A6D8F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5.1.3  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단언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3 : request-acknowled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순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라미터 신호로 정의되어 있어 다수의 특성을 재사용 가능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39640" y="263700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quence req_ack  ( req,  del,  ack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// ack occurs within 1 to 3 cycles after req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req ## [1:3] 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nd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52280" y="4797360"/>
            <a:ext cx="899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## [1:3]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표기는 연관된 클럭이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 – 3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사이클임을 표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quenc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내부에 동적 지역 변수를 선언해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quenc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현재 실시동안 유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5B98-BDEB-4112-9487-8BDB4E2B914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5.1.3  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단언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4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파이프라인 레지스터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/O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행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깊이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16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 파이프라인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39640" y="2637000"/>
            <a:ext cx="828036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sequence pipe_operation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int   x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write_en,  (x = data_in ) ) |→ ##16  ( data_out == x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ndseq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52280" y="4797360"/>
            <a:ext cx="899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equenc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초기에 지역 변수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x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에 입력값을 보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16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사이클후에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data_out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값과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x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를 비교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B865-3DC7-46F9-A248-2B6596B54C6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5.1.3  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SystemVerilog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단언 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  <a:ea typeface="굴림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5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인수화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parameterized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 선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ncurrent asser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사용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39640" y="2276640"/>
            <a:ext cx="828036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property  mutex ( clk,  reset_n, a, b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@(posedge clk)  disable iff (reset_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! (a &amp; b )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Endprope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_mutex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ssert  property  (mutex ( clk_a, master_reset_n, write_en, read_en) 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300640"/>
            <a:ext cx="8991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disable iff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절은 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reset_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신호가 동작할 때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그특성을 사용불가로 만드는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mutex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특성을 의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write_e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read_e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은 동시에 작동할 수 없다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1005-8D1F-4011-8F97-B9CA334E70D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도메인에 특화된 시스템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5280" y="141300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5.2.1   Synchronous </a:t>
            </a:r>
            <a:r>
              <a:rPr b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언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2280" y="2276640"/>
            <a:ext cx="881244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Esterel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은 동기방식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reactive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시스템의 설계를 위한 프로그래밍 언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정교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clocking ,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예외처리 기법을 포함하는 다수의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프로세서들을 병렬 합성하기 위한 제어 측면을 기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잘 정의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emantics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를 연관된 컴파일러가 자동으로 소프트웨어 모듈에 대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C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코드를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하드웨어 모듈에 대해서는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FSM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을 구현하는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boolean gate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레벨의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netlists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을 생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표준 시뮬레이션 또는 모델 검사는 합성된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FSM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에서 수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ynchrony hypothesis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는 무한대로 빠르게 작동할 수 있다고 가정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2B11-F335-4251-908A-0435FF7D4EB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.1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동기식 언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xample 10.16 :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주석화된 어플리케이션 코드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eadline constrai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2276640"/>
            <a:ext cx="5327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  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2     await  A;  %{# Y = clock (last A)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3     call F ( );  % {# Fmin &lt; CPU &lt; Fmax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4     %{#  0 &lt; clock ( last A ) &lt; d1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5   End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6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7   loo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8      await  B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9      call G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( );  % {# Gmin &lt; CPU &lt; Gmax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0     %{#  0 &lt; Y &lt; d2 %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1  End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84720" y="2205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함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F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는 사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가 도착한 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1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시간 단위 이내에 끝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084720" y="3429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함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G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는 사건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A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가 도착한 후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d2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시간 단위 이내에 끝난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56360" y="4941720"/>
            <a:ext cx="273528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이러한 제한조건은 라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4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10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에 명시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함수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F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와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G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의 소요되는 실행시간은 라인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3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과 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  <a:ea typeface="굴림"/>
              </a:rPr>
              <a:t>9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  <a:ea typeface="굴림"/>
              </a:rPr>
              <a:t>에 제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A981-28A1-44BD-8A9C-9191055487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.2  Hybrid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스템용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52280" y="1341360"/>
            <a:ext cx="89917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디지털과 아날로그 컴포넌트의 상호 연결을 요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자동차 제어기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항공기 시스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봇 시스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제어공장 제어기 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안전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safety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민감하고 검증에 관심 고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고전적인 제어 이론적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ntrol-theoretic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방법과 오토마타 기반의 방법으로  검증 방식을 구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제어 이론 방식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MATLA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반 도구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imulink / Stateflow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델링 언어가 범용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아날로그 영역을 모델링하는 표준 제어 공학 컴포넌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디지털 제어기를 모델링하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tatechart-lik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언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MATLAB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은 미분방정식으로 표기되는 연속적인 행위에 대한 분석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최적화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에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오토마타 기반 방식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temporal logic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으로 표시되는 특성들을 보존하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Hybrid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시스템의 디지털 추상화에 사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많은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model checke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들이 있는데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예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) Hytech, Uppaal, Kronos, Cha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C4CF-E813-4B36-92B2-73811F8B915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5.2.2  Hybrid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스템용 언어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52280" y="1341360"/>
            <a:ext cx="8991720" cy="21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정확성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correctness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요구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bad state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의 집합을 피하고 모델링 언어 자체 구문을 사용하여 명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model checker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는 모든 도달가능한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states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이 안전하다는 것을 조사하기 위하여 정확한 또는 적절한 도달성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( reachability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분석을 수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모델링과 분석 도구들 간에 공유할 수 있는 </a:t>
            </a:r>
            <a:r>
              <a:rPr b="1" lang="en-US" sz="1800" spc="-1" strike="noStrike">
                <a:solidFill>
                  <a:srgbClr val="000099"/>
                </a:solidFill>
                <a:latin typeface="굴림"/>
                <a:ea typeface="굴림"/>
              </a:rPr>
              <a:t>Hybrid Systems Interchange Format ( HSIF ) </a:t>
            </a:r>
            <a:r>
              <a:rPr b="1" lang="ko-KR" sz="1800" spc="-1" strike="noStrike">
                <a:solidFill>
                  <a:srgbClr val="000099"/>
                </a:solidFill>
                <a:latin typeface="굴림"/>
                <a:ea typeface="굴림"/>
              </a:rPr>
              <a:t>표준 추구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A8C7-DE16-4C1C-AE56-600C5E12EE10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 방법론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2916360" y="1989000"/>
            <a:ext cx="3600360" cy="3926520"/>
            <a:chOff x="2916360" y="1989000"/>
            <a:chExt cx="3600360" cy="3926520"/>
          </a:xfrm>
        </p:grpSpPr>
        <p:sp>
          <p:nvSpPr>
            <p:cNvPr id="228" name=""/>
            <p:cNvSpPr/>
            <p:nvPr/>
          </p:nvSpPr>
          <p:spPr>
            <a:xfrm>
              <a:off x="3132000" y="1989000"/>
              <a:ext cx="31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functional 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132000" y="2708280"/>
              <a:ext cx="295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algorithm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16360" y="3357720"/>
              <a:ext cx="36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igister transfer level (RT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37080" y="4076640"/>
              <a:ext cx="158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e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19640" y="4797360"/>
              <a:ext cx="23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nsistor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419640" y="551664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ysical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500720" y="242100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500720" y="3068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00720" y="371628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500720" y="4508640"/>
              <a:ext cx="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00720" y="5229360"/>
              <a:ext cx="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39640" y="126828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lt;&lt; </a:t>
            </a: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설계 과정 </a:t>
            </a: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1763640" y="1773360"/>
            <a:ext cx="1224000" cy="4575600"/>
            <a:chOff x="1763640" y="1773360"/>
            <a:chExt cx="1224000" cy="4575600"/>
          </a:xfrm>
        </p:grpSpPr>
        <p:sp>
          <p:nvSpPr>
            <p:cNvPr id="241" name=""/>
            <p:cNvSpPr/>
            <p:nvPr/>
          </p:nvSpPr>
          <p:spPr>
            <a:xfrm>
              <a:off x="2411280" y="2133720"/>
              <a:ext cx="0" cy="3816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763640" y="2924280"/>
              <a:ext cx="503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a9"/>
                  </a:solidFill>
                  <a:latin typeface="Arial"/>
                  <a:ea typeface="굴림"/>
                </a:rPr>
                <a:t>추상화 수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79640" y="177336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high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79640" y="595008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low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7093080" y="1773360"/>
            <a:ext cx="1006200" cy="4646880"/>
            <a:chOff x="7093080" y="1773360"/>
            <a:chExt cx="1006200" cy="4646880"/>
          </a:xfrm>
        </p:grpSpPr>
        <p:sp>
          <p:nvSpPr>
            <p:cNvPr id="246" name=""/>
            <p:cNvSpPr/>
            <p:nvPr/>
          </p:nvSpPr>
          <p:spPr>
            <a:xfrm>
              <a:off x="7596360" y="3068640"/>
              <a:ext cx="50292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a9"/>
                  </a:solidFill>
                  <a:latin typeface="Arial"/>
                  <a:ea typeface="굴림"/>
                </a:rPr>
                <a:t>상세화 수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451640" y="2205000"/>
              <a:ext cx="0" cy="3816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164360" y="6021360"/>
              <a:ext cx="790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m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093080" y="177336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Arial"/>
                  <a:ea typeface="굴림"/>
                </a:rPr>
                <a:t>l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F24-50A4-43D9-B5D3-9E0F8B1175A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문    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0920" y="1341360"/>
            <a:ext cx="8893080" cy="25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설계 검증 방법중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imulation-based verificatio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과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formal verification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의 차이점은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은 하드웨어와 소프트웨어의 기능 검증을 하는 것이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DUV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에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input stimuli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를 제공하여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utput response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정확성을 점검하는 것이 시뮬레이션 기반 검증방법이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 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시뮬레이션과 대조적으로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, formal verification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는 모든 가능한 입력 시나리오에 대하여 주어진 명세를 기준으로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DUV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의 공식적 수학 모델이 정확함을 점검하기 위하여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static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분석을 수행한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79280" y="4221000"/>
            <a:ext cx="8964720" cy="21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SoCs, </a:t>
            </a:r>
            <a:r>
              <a:rPr b="1" lang="ko-KR" sz="2000" spc="-1" strike="noStrike">
                <a:solidFill>
                  <a:srgbClr val="000099"/>
                </a:solidFill>
                <a:latin typeface="굴림"/>
                <a:ea typeface="굴림"/>
              </a:rPr>
              <a:t>임베디드 시스템들의 시스템 차원의 검증에 필요한 것은 </a:t>
            </a: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굴림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굴림"/>
                <a:ea typeface="굴림"/>
              </a:rPr>
              <a:t>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시스템의 복잡성 증가현상에 대한 해법이 필요하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상위 레벨에서의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abstraction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을 설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      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할 수 있는 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Modeling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언어가 필요하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UML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은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object-oriented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방식으로 실시간 임베디드 시스템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설계에 사용되고 있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또한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,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트랜잭션 기반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testbench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를 개발하기 위하여 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verification library </a:t>
            </a:r>
            <a:r>
              <a:rPr b="1" lang="ko-KR" sz="1600" spc="-1" strike="noStrike">
                <a:solidFill>
                  <a:srgbClr val="000099"/>
                </a:solidFill>
                <a:latin typeface="굴림"/>
                <a:ea typeface="굴림"/>
              </a:rPr>
              <a:t>가 필요하다</a:t>
            </a:r>
            <a:r>
              <a:rPr b="1" lang="en-US" sz="1600" spc="-1" strike="noStrike">
                <a:solidFill>
                  <a:srgbClr val="000099"/>
                </a:solidFill>
                <a:latin typeface="굴림"/>
                <a:ea typeface="굴림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1C0B-8259-4DBF-B257-3B922983C0C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 방법론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26828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lt;&lt; </a:t>
            </a: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설계와 검증의 관계 </a:t>
            </a:r>
            <a:r>
              <a:rPr b="1" lang="en-US" sz="2400" spc="-1" strike="noStrike">
                <a:solidFill>
                  <a:srgbClr val="0000a9"/>
                </a:solidFill>
                <a:latin typeface="Arial"/>
                <a:ea typeface="굴림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87280" y="1989000"/>
            <a:ext cx="0" cy="4464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4360" y="3355920"/>
            <a:ext cx="5029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설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8101080" y="1916280"/>
            <a:ext cx="0" cy="446544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101080" y="2924280"/>
            <a:ext cx="503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검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a9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619280" y="1988280"/>
            <a:ext cx="4103640" cy="4429440"/>
            <a:chOff x="1619280" y="1988280"/>
            <a:chExt cx="4103640" cy="4429440"/>
          </a:xfrm>
        </p:grpSpPr>
        <p:sp>
          <p:nvSpPr>
            <p:cNvPr id="257" name=""/>
            <p:cNvSpPr/>
            <p:nvPr/>
          </p:nvSpPr>
          <p:spPr>
            <a:xfrm>
              <a:off x="1619280" y="198828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619280" y="292320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microarchitectu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619280" y="385992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RT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19280" y="457884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gate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619280" y="5299560"/>
              <a:ext cx="237492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transistor net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619280" y="6018840"/>
              <a:ext cx="2376360" cy="398880"/>
            </a:xfrm>
            <a:prstGeom prst="rect">
              <a:avLst/>
            </a:prstGeom>
            <a:solidFill>
              <a:srgbClr val="eb9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굴림"/>
                </a:rPr>
                <a:t>physical layou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122560" y="2349360"/>
              <a:ext cx="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122560" y="3284640"/>
              <a:ext cx="144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124000" y="4219560"/>
              <a:ext cx="1800" cy="360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24000" y="5011560"/>
              <a:ext cx="1800" cy="3607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124000" y="5732640"/>
              <a:ext cx="180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3130560" y="5732640"/>
              <a:ext cx="144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3130560" y="4292640"/>
              <a:ext cx="1440" cy="28728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3130560" y="3284640"/>
              <a:ext cx="1440" cy="57600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3130560" y="5011200"/>
              <a:ext cx="1440" cy="2876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3130560" y="2349000"/>
              <a:ext cx="0" cy="5749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46560" y="566100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  <a:ea typeface="굴림"/>
                </a:rPr>
                <a:t>Are they equivalen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46560" y="421956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  <a:ea typeface="굴림"/>
                </a:rPr>
                <a:t>Are they equivalen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346560" y="4940280"/>
              <a:ext cx="237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cc0099"/>
                  </a:solidFill>
                  <a:latin typeface="Arial"/>
                  <a:ea typeface="굴림"/>
                </a:rPr>
                <a:t>Are they equivalent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46560" y="3284640"/>
              <a:ext cx="2376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  <a:ea typeface="굴림"/>
                </a:rPr>
                <a:t>Does it implement the microarchitecture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274920" y="2349360"/>
              <a:ext cx="2376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00"/>
                  </a:solidFill>
                  <a:latin typeface="Arial"/>
                  <a:ea typeface="굴림"/>
                </a:rPr>
                <a:t>Does it meet the specs 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5580000" y="2276640"/>
            <a:ext cx="504720" cy="1439640"/>
          </a:xfrm>
          <a:custGeom>
            <a:avLst/>
            <a:gdLst>
              <a:gd name="textAreaLeft" fmla="*/ 0 w 504720"/>
              <a:gd name="textAreaRight" fmla="*/ 182160 w 504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80000" y="4365720"/>
            <a:ext cx="504720" cy="1439640"/>
          </a:xfrm>
          <a:custGeom>
            <a:avLst/>
            <a:gdLst>
              <a:gd name="textAreaLeft" fmla="*/ 0 w 504720"/>
              <a:gd name="textAreaRight" fmla="*/ 182160 w 504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56360" y="2708280"/>
            <a:ext cx="122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perty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156360" y="472428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quivalenc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C92E-FF7B-4E21-9B6F-2882A333DA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1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뮬레이션 기반 검증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1341360"/>
            <a:ext cx="899172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은 하드웨어와 시스템 차원의 설계에서 기능적 검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반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ynamic verification 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뮬레이션 기법의 성공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개발로써 자동화가 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enerator of testcase, checker or monitor of output response, coverage analyzer of design functionalit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로 구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내부 설계내용에 관한 관찰여부에 따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black-box, white-box, gray-bo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에 대한 모든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case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시뮬레이션하는 것은 불가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irected 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설계 초기에 설계자의 의도에 관점을 맞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case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생성한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nstrained random 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andom stimuli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생성하므로써 설계 후반에 오류를 찾아주는 예상치못한 상황에 대한 검증에 유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code covera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준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ement/branch/toggle/expression co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unction coverag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준은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state/transition covetage of Finite State Machine ( FSM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C747-FE14-4462-A6EE-C491B35F1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1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시뮬레이션 기반 검증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이 복잡해짐에 따라 추상화 상위 레벨에서 설계가 중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ansac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하위 레벨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ask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들로 구성되어 상위 레벨에서의 논리적 작업을 충족시킨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shared bus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gen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ad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의 검증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ansactio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반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개발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상위와 하위 레벨 사이에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ransactors/BFMs ( Bus Functional Model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라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daptor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사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과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개발하는 일은 지루하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추상화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object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기반 특성을 지원하는 언어가 필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이러한 성질이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HD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에는 결여되어 있으므로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testbench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언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HVL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시스템 차원의 모델링 언어의 발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DA66-4F2F-4FAE-9EEA-29E42118D4B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2280" y="380880"/>
            <a:ext cx="8991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2.2  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공식적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 formal ) </a:t>
            </a:r>
            <a:r>
              <a:rPr b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검증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52280" y="1341360"/>
            <a:ext cx="8991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5360" bIns="4536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Testcas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대한 설계 검증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DUV : design under verification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의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ynamic respons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의존하지 않는다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모든 가능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input scenario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주어진 명세의 정확성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correctness )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점검하기 위하여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설계 검증을 공식적인 수학 모형을 사용하여 분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equivalence chec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DUV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가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ference desig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과 등가인지를 점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예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)  RTL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서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gate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레벨 설계로의 논리 합성 작업동안 에러가 없다는 것을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               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점검하는 자동화된 하드웨어 설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reference design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을 이용할 수 없거나 최상위 모델의 정확성이 점검될 필요가 있다면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정확성이라는 특성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( property )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에 대한 설계 요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property checking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은 설계가 공식적 명세로 표기된 정확성 특성을 만족하는지를 점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특성을 표기하기 위하여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formal logic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또는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  <a:ea typeface="굴림"/>
              </a:rPr>
              <a:t>automata theory </a:t>
            </a:r>
            <a:r>
              <a:rPr b="1" lang="ko-KR" sz="2000" spc="-1" strike="noStrike">
                <a:solidFill>
                  <a:srgbClr val="000099"/>
                </a:solidFill>
                <a:latin typeface="Arial"/>
                <a:ea typeface="굴림"/>
              </a:rPr>
              <a:t>를 이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285-C520-494E-9612-F25C5D9C172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0T00:39:26Z</dcterms:created>
  <dc:creator>kimmiok</dc:creator>
  <dc:description/>
  <dc:language>en-US</dc:language>
  <cp:lastModifiedBy>SEC</cp:lastModifiedBy>
  <dcterms:modified xsi:type="dcterms:W3CDTF">2006-09-23T02:40:40Z</dcterms:modified>
  <cp:revision>180</cp:revision>
  <dc:subject/>
  <dc:title>class-2006-2</dc:title>
</cp:coreProperties>
</file>