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B7FC6-819D-4631-A9DA-D8D9F57906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" y="37659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C2895-3333-4305-9A68-C5F2C19606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096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55290-588C-4A62-A558-60A60A319B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780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00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780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4EC80-574C-4665-ABEB-D5532027B1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648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B046-1E5B-419D-9361-FD139B427C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71096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000" y="37659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71096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6772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67800" y="9075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800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6772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67800" y="3765960"/>
            <a:ext cx="26661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45755-F258-4F8C-8D06-39B7ACD670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5E216-B0BA-4B40-A7EA-CD65544BCF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297BC-ACB8-4A81-8748-30135542FB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26560" y="115560"/>
            <a:ext cx="648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4634-7AEC-47F6-9769-1C72ECE54A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05160-4634-42E2-B03A-EA353D011E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0960" y="37659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FE39-299C-49B6-82E5-6C27E416A0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0960" y="907560"/>
            <a:ext cx="404064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8000" y="3765960"/>
            <a:ext cx="8280360" cy="26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C9015-0B28-4777-A2C5-8E5145825A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876720" y="6533640"/>
            <a:ext cx="2133720" cy="27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41DE-F0B2-4109-A201-2BF53A63A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-36360" y="0"/>
            <a:ext cx="576000" cy="6858000"/>
          </a:xfrm>
          <a:prstGeom prst="rect">
            <a:avLst/>
          </a:prstGeom>
          <a:solidFill>
            <a:srgbClr val="ccecff">
              <a:alpha val="3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19080" y="200160"/>
            <a:ext cx="191880" cy="18072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53966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203040" y="368280"/>
            <a:ext cx="192240" cy="18108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53966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6524640"/>
            <a:ext cx="9142560" cy="66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63504" dir="1938390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92280"/>
            <a:ext cx="9142560" cy="66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63504" dir="19383909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246960" y="6548400"/>
            <a:ext cx="23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CAD &amp; SoC Design La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58560" y="2420640"/>
            <a:ext cx="709308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휴먼엑스포"/>
              </a:rPr>
              <a:t>Click to edit the title text format</a:t>
            </a:r>
            <a:endParaRPr b="1" i="1" lang="en-US" sz="3600" spc="-1" strike="noStrike">
              <a:solidFill>
                <a:srgbClr val="000000"/>
              </a:solidFill>
              <a:latin typeface="휴먼엑스포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877080" y="6359400"/>
          <a:ext cx="2089080" cy="498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77080" y="6359400"/>
                    <a:ext cx="2089080" cy="49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" name=""/>
          <p:cNvGrpSpPr/>
          <p:nvPr/>
        </p:nvGrpSpPr>
        <p:grpSpPr>
          <a:xfrm>
            <a:off x="250920" y="765000"/>
            <a:ext cx="8546760" cy="139320"/>
            <a:chOff x="250920" y="765000"/>
            <a:chExt cx="8546760" cy="139320"/>
          </a:xfrm>
        </p:grpSpPr>
        <p:sp>
          <p:nvSpPr>
            <p:cNvPr id="49" name=""/>
            <p:cNvSpPr/>
            <p:nvPr/>
          </p:nvSpPr>
          <p:spPr>
            <a:xfrm>
              <a:off x="250920" y="765000"/>
              <a:ext cx="8546760" cy="69840"/>
            </a:xfrm>
            <a:prstGeom prst="rect">
              <a:avLst/>
            </a:prstGeom>
            <a:gradFill rotWithShape="0">
              <a:gsLst>
                <a:gs pos="0">
                  <a:srgbClr val="00cc00">
                    <a:alpha val="25098"/>
                  </a:srgbClr>
                </a:gs>
                <a:gs pos="100000">
                  <a:srgbClr val="d6eeb8">
                    <a:alpha val="24313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 flipV="1">
              <a:off x="459000" y="881640"/>
              <a:ext cx="8154000" cy="21960"/>
            </a:xfrm>
            <a:prstGeom prst="rect">
              <a:avLst/>
            </a:prstGeom>
            <a:gradFill rotWithShape="0">
              <a:gsLst>
                <a:gs pos="0">
                  <a:srgbClr val="00cc00">
                    <a:alpha val="25098"/>
                  </a:srgbClr>
                </a:gs>
                <a:gs pos="100000">
                  <a:srgbClr val="d6eeb8">
                    <a:alpha val="24313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79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24360" y="6098400"/>
            <a:ext cx="8546760" cy="138960"/>
            <a:chOff x="324360" y="6098400"/>
            <a:chExt cx="8546760" cy="138960"/>
          </a:xfrm>
        </p:grpSpPr>
        <p:sp>
          <p:nvSpPr>
            <p:cNvPr id="52" name=""/>
            <p:cNvSpPr/>
            <p:nvPr/>
          </p:nvSpPr>
          <p:spPr>
            <a:xfrm rot="10800000">
              <a:off x="324360" y="6167880"/>
              <a:ext cx="8546760" cy="69480"/>
            </a:xfrm>
            <a:prstGeom prst="rect">
              <a:avLst/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d6eeb8">
                    <a:alpha val="24313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 rot="10800000">
              <a:off x="509040" y="6098040"/>
              <a:ext cx="8154000" cy="21960"/>
            </a:xfrm>
            <a:prstGeom prst="rect">
              <a:avLst/>
            </a:prstGeom>
            <a:gradFill rotWithShape="0">
              <a:gsLst>
                <a:gs pos="0">
                  <a:srgbClr val="008000">
                    <a:alpha val="25098"/>
                  </a:srgbClr>
                </a:gs>
                <a:gs pos="100000">
                  <a:srgbClr val="d6eeb8">
                    <a:alpha val="24313"/>
                  </a:srgbClr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4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" name=""/>
          <p:cNvSpPr/>
          <p:nvPr/>
        </p:nvSpPr>
        <p:spPr>
          <a:xfrm>
            <a:off x="386640" y="6381720"/>
            <a:ext cx="238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333399"/>
                </a:solidFill>
                <a:latin typeface="굴림"/>
              </a:rPr>
              <a:t>CAD &amp; SoC Design Lab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휴먼엑스포"/>
              </a:rPr>
              <a:t>Click to edit the outline text format</a:t>
            </a:r>
            <a:endParaRPr b="1" i="1" lang="en-US" sz="2400" spc="-1" strike="noStrike">
              <a:solidFill>
                <a:srgbClr val="000000"/>
              </a:solidFill>
              <a:latin typeface="휴먼엑스포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9280" y="2133360"/>
            <a:ext cx="8425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Real-Time Embedded OS :</a:t>
            </a:r>
            <a:br>
              <a:rPr sz="3600"/>
            </a:b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휴먼엑스포"/>
              </a:rPr>
              <a:t>Standards and Perspectives</a:t>
            </a:r>
            <a:endParaRPr b="1" i="1" lang="en-US" sz="3600" spc="-1" strike="noStrike">
              <a:solidFill>
                <a:srgbClr val="000000"/>
              </a:solidFill>
              <a:latin typeface="휴먼엑스포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295280" y="38098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휴먼엑스포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200" spc="-1" strike="noStrike">
              <a:solidFill>
                <a:srgbClr val="000000"/>
              </a:solidFill>
              <a:latin typeface="휴먼엑스포"/>
            </a:endParaRPr>
          </a:p>
        </p:txBody>
      </p:sp>
      <p:sp>
        <p:nvSpPr>
          <p:cNvPr id="94" name=""/>
          <p:cNvSpPr/>
          <p:nvPr/>
        </p:nvSpPr>
        <p:spPr>
          <a:xfrm>
            <a:off x="6084720" y="4437000"/>
            <a:ext cx="23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imes New Roman"/>
              </a:rPr>
              <a:t>Pyen, Seung man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332000" y="3213000"/>
            <a:ext cx="6119640" cy="1152720"/>
          </a:xfrm>
          <a:prstGeom prst="ellipse">
            <a:avLst/>
          </a:prstGeom>
          <a:solidFill>
            <a:srgbClr val="00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1.2.2 Process and Thread Mode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: program in execu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share memory, but communicate each oth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parated activit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isted of program text, data, resources, and status of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led heavy-weight 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692360" y="3502080"/>
            <a:ext cx="115236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tatu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3286080"/>
            <a:ext cx="122400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tex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1" name=""/>
          <p:cNvSpPr/>
          <p:nvPr/>
        </p:nvSpPr>
        <p:spPr>
          <a:xfrm>
            <a:off x="3564000" y="4005360"/>
            <a:ext cx="122400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"/>
          <p:cNvSpPr/>
          <p:nvPr/>
        </p:nvSpPr>
        <p:spPr>
          <a:xfrm>
            <a:off x="5508720" y="3502080"/>
            <a:ext cx="1224000" cy="3603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"/>
          <p:cNvSpPr/>
          <p:nvPr/>
        </p:nvSpPr>
        <p:spPr>
          <a:xfrm>
            <a:off x="2843280" y="3645000"/>
            <a:ext cx="72072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"/>
          <p:cNvSpPr/>
          <p:nvPr/>
        </p:nvSpPr>
        <p:spPr>
          <a:xfrm>
            <a:off x="4788000" y="3573360"/>
            <a:ext cx="720720" cy="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4140360" y="3718080"/>
            <a:ext cx="0" cy="287280"/>
          </a:xfrm>
          <a:prstGeom prst="line">
            <a:avLst/>
          </a:prstGeom>
          <a:ln w="64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"/>
          <p:cNvSpPr/>
          <p:nvPr/>
        </p:nvSpPr>
        <p:spPr>
          <a:xfrm>
            <a:off x="3983400" y="450864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8B84-A8ED-4F40-8F34-E7D2C68F2DF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Provide parallel processing like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Faster to switch context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Share memory and communicate through memor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Called light-weight proces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ingle thread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ultiThrea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2266920" y="2781360"/>
            <a:ext cx="1009800" cy="358560"/>
          </a:xfrm>
          <a:prstGeom prst="rect">
            <a:avLst/>
          </a:prstGeom>
          <a:solidFill>
            <a:srgbClr val="00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"/>
          <p:cNvSpPr/>
          <p:nvPr/>
        </p:nvSpPr>
        <p:spPr>
          <a:xfrm>
            <a:off x="1835280" y="393228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"/>
          <p:cNvSpPr/>
          <p:nvPr/>
        </p:nvSpPr>
        <p:spPr>
          <a:xfrm>
            <a:off x="2986200" y="3932280"/>
            <a:ext cx="72072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"/>
          <p:cNvSpPr/>
          <p:nvPr/>
        </p:nvSpPr>
        <p:spPr>
          <a:xfrm>
            <a:off x="6084720" y="2781360"/>
            <a:ext cx="1079640" cy="358560"/>
          </a:xfrm>
          <a:prstGeom prst="rect">
            <a:avLst/>
          </a:prstGeom>
          <a:solidFill>
            <a:srgbClr val="00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"/>
          <p:cNvSpPr/>
          <p:nvPr/>
        </p:nvSpPr>
        <p:spPr>
          <a:xfrm>
            <a:off x="5653080" y="393228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"/>
          <p:cNvSpPr/>
          <p:nvPr/>
        </p:nvSpPr>
        <p:spPr>
          <a:xfrm>
            <a:off x="6804000" y="3932280"/>
            <a:ext cx="72072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in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5923080" y="3355920"/>
          <a:ext cx="434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23080" y="3355920"/>
                    <a:ext cx="434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 flipH="1">
            <a:off x="2553840" y="3139920"/>
            <a:ext cx="7308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2411280" y="3429000"/>
          <a:ext cx="52236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1280" y="3429000"/>
                    <a:ext cx="52236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946920" y="3355920"/>
          <a:ext cx="43488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46920" y="3355920"/>
                    <a:ext cx="434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2" name=""/>
          <p:cNvSpPr/>
          <p:nvPr/>
        </p:nvSpPr>
        <p:spPr>
          <a:xfrm flipH="1">
            <a:off x="6227280" y="3139920"/>
            <a:ext cx="14292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"/>
          <p:cNvSpPr/>
          <p:nvPr/>
        </p:nvSpPr>
        <p:spPr>
          <a:xfrm>
            <a:off x="6804000" y="3139920"/>
            <a:ext cx="216000" cy="21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"/>
          <p:cNvSpPr/>
          <p:nvPr/>
        </p:nvSpPr>
        <p:spPr>
          <a:xfrm>
            <a:off x="1692360" y="4583160"/>
            <a:ext cx="2232000" cy="431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"/>
          <p:cNvSpPr/>
          <p:nvPr/>
        </p:nvSpPr>
        <p:spPr>
          <a:xfrm>
            <a:off x="1692360" y="5014800"/>
            <a:ext cx="2232000" cy="432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"/>
          <p:cNvSpPr/>
          <p:nvPr/>
        </p:nvSpPr>
        <p:spPr>
          <a:xfrm>
            <a:off x="1692360" y="5446800"/>
            <a:ext cx="2232000" cy="1006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"/>
          <p:cNvSpPr/>
          <p:nvPr/>
        </p:nvSpPr>
        <p:spPr>
          <a:xfrm>
            <a:off x="1692360" y="465444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4654440"/>
            <a:ext cx="64800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9" name=""/>
          <p:cNvSpPr/>
          <p:nvPr/>
        </p:nvSpPr>
        <p:spPr>
          <a:xfrm>
            <a:off x="3132000" y="4654440"/>
            <a:ext cx="64800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il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"/>
          <p:cNvSpPr/>
          <p:nvPr/>
        </p:nvSpPr>
        <p:spPr>
          <a:xfrm>
            <a:off x="1763640" y="5040360"/>
            <a:ext cx="93672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"/>
          <p:cNvSpPr/>
          <p:nvPr/>
        </p:nvSpPr>
        <p:spPr>
          <a:xfrm>
            <a:off x="2916360" y="5049720"/>
            <a:ext cx="93636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"/>
          <p:cNvSpPr/>
          <p:nvPr/>
        </p:nvSpPr>
        <p:spPr>
          <a:xfrm>
            <a:off x="2411280" y="5589720"/>
            <a:ext cx="360360" cy="647640"/>
          </a:xfrm>
          <a:prstGeom prst="lightningBol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"/>
          <p:cNvSpPr/>
          <p:nvPr/>
        </p:nvSpPr>
        <p:spPr>
          <a:xfrm>
            <a:off x="1835280" y="393372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npu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"/>
          <p:cNvSpPr/>
          <p:nvPr/>
        </p:nvSpPr>
        <p:spPr>
          <a:xfrm>
            <a:off x="786600" y="580716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threa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"/>
          <p:cNvSpPr/>
          <p:nvPr/>
        </p:nvSpPr>
        <p:spPr>
          <a:xfrm>
            <a:off x="154764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"/>
          <p:cNvSpPr/>
          <p:nvPr/>
        </p:nvSpPr>
        <p:spPr>
          <a:xfrm>
            <a:off x="5508720" y="4556160"/>
            <a:ext cx="2158920" cy="4316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"/>
          <p:cNvSpPr/>
          <p:nvPr/>
        </p:nvSpPr>
        <p:spPr>
          <a:xfrm>
            <a:off x="5508720" y="4987800"/>
            <a:ext cx="718920" cy="746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8" name=""/>
          <p:cNvSpPr/>
          <p:nvPr/>
        </p:nvSpPr>
        <p:spPr>
          <a:xfrm>
            <a:off x="5508720" y="5734080"/>
            <a:ext cx="71892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9" name=""/>
          <p:cNvSpPr/>
          <p:nvPr/>
        </p:nvSpPr>
        <p:spPr>
          <a:xfrm>
            <a:off x="5508720" y="462744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cod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0" name=""/>
          <p:cNvSpPr/>
          <p:nvPr/>
        </p:nvSpPr>
        <p:spPr>
          <a:xfrm>
            <a:off x="6227640" y="4627440"/>
            <a:ext cx="64800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1" name=""/>
          <p:cNvSpPr/>
          <p:nvPr/>
        </p:nvSpPr>
        <p:spPr>
          <a:xfrm>
            <a:off x="6948360" y="4627440"/>
            <a:ext cx="64800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il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2" name=""/>
          <p:cNvSpPr/>
          <p:nvPr/>
        </p:nvSpPr>
        <p:spPr>
          <a:xfrm>
            <a:off x="5546880" y="501336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3" name=""/>
          <p:cNvSpPr/>
          <p:nvPr/>
        </p:nvSpPr>
        <p:spPr>
          <a:xfrm>
            <a:off x="5546880" y="537372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4" name=""/>
          <p:cNvSpPr/>
          <p:nvPr/>
        </p:nvSpPr>
        <p:spPr>
          <a:xfrm>
            <a:off x="5651640" y="5734080"/>
            <a:ext cx="360360" cy="647640"/>
          </a:xfrm>
          <a:prstGeom prst="lightningBol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"/>
          <p:cNvSpPr/>
          <p:nvPr/>
        </p:nvSpPr>
        <p:spPr>
          <a:xfrm>
            <a:off x="6229440" y="4987800"/>
            <a:ext cx="718920" cy="746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6" name=""/>
          <p:cNvSpPr/>
          <p:nvPr/>
        </p:nvSpPr>
        <p:spPr>
          <a:xfrm>
            <a:off x="6229440" y="5734080"/>
            <a:ext cx="71892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7" name=""/>
          <p:cNvSpPr/>
          <p:nvPr/>
        </p:nvSpPr>
        <p:spPr>
          <a:xfrm>
            <a:off x="6267600" y="501336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8" name=""/>
          <p:cNvSpPr/>
          <p:nvPr/>
        </p:nvSpPr>
        <p:spPr>
          <a:xfrm>
            <a:off x="6267600" y="537372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9" name=""/>
          <p:cNvSpPr/>
          <p:nvPr/>
        </p:nvSpPr>
        <p:spPr>
          <a:xfrm>
            <a:off x="6372360" y="5734080"/>
            <a:ext cx="360360" cy="647640"/>
          </a:xfrm>
          <a:prstGeom prst="lightningBol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0" name=""/>
          <p:cNvSpPr/>
          <p:nvPr/>
        </p:nvSpPr>
        <p:spPr>
          <a:xfrm>
            <a:off x="6950160" y="4987800"/>
            <a:ext cx="718920" cy="746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1" name=""/>
          <p:cNvSpPr/>
          <p:nvPr/>
        </p:nvSpPr>
        <p:spPr>
          <a:xfrm>
            <a:off x="6950160" y="5734080"/>
            <a:ext cx="71892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2" name=""/>
          <p:cNvSpPr/>
          <p:nvPr/>
        </p:nvSpPr>
        <p:spPr>
          <a:xfrm>
            <a:off x="6988320" y="501336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regist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3" name=""/>
          <p:cNvSpPr/>
          <p:nvPr/>
        </p:nvSpPr>
        <p:spPr>
          <a:xfrm>
            <a:off x="6988320" y="5373720"/>
            <a:ext cx="647640" cy="36036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tac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4" name=""/>
          <p:cNvSpPr/>
          <p:nvPr/>
        </p:nvSpPr>
        <p:spPr>
          <a:xfrm>
            <a:off x="7093080" y="5734080"/>
            <a:ext cx="360360" cy="647640"/>
          </a:xfrm>
          <a:prstGeom prst="lightningBol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C0E3-162A-4C36-971B-0CB18D8E44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11.2.3 processor scheduling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Tradeoffs between real-time predictability, implementation complexity, and overhe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First in, First out with priority class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Fixed priority schedu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Never changes thread priorities at runtim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Known as  round – robin schedu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Earliest deadline fir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Executes the thread with the nearest deadlin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poradic serv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uitable for aperiodic event handling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ain scheduling parame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Execution capac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Replenishment perio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AF5B2-DF5C-4F7D-90AA-85243D4E13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11.2.4 interprocess synchronization and communication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ynchronization data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Two operations for semaphore( like push and pop operation for stack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P : wait ope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V : signal oper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oncurrency construct for process synchron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e responsibility -&gt; compil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onitors are a programming language constru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Hided the data structu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X.wait : suspended until another process invokes x.sign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X.signal : resume one suspended process by x.wai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FD7C4-4A15-4164-A9C0-6D9A80CEDB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ssage Pass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require a shared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tended to distributed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908000" y="2620800"/>
            <a:ext cx="1151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2" name=""/>
          <p:cNvSpPr/>
          <p:nvPr/>
        </p:nvSpPr>
        <p:spPr>
          <a:xfrm>
            <a:off x="3059280" y="276372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"/>
          <p:cNvSpPr/>
          <p:nvPr/>
        </p:nvSpPr>
        <p:spPr>
          <a:xfrm>
            <a:off x="5651640" y="2620800"/>
            <a:ext cx="1150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"/>
          <p:cNvSpPr/>
          <p:nvPr/>
        </p:nvSpPr>
        <p:spPr>
          <a:xfrm>
            <a:off x="3046680" y="2836800"/>
            <a:ext cx="60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sen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"/>
          <p:cNvSpPr/>
          <p:nvPr/>
        </p:nvSpPr>
        <p:spPr>
          <a:xfrm>
            <a:off x="4397400" y="2763720"/>
            <a:ext cx="82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receiv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"/>
          <p:cNvSpPr/>
          <p:nvPr/>
        </p:nvSpPr>
        <p:spPr>
          <a:xfrm>
            <a:off x="1908000" y="4492800"/>
            <a:ext cx="115128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A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"/>
          <p:cNvSpPr/>
          <p:nvPr/>
        </p:nvSpPr>
        <p:spPr>
          <a:xfrm>
            <a:off x="3059280" y="46353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"/>
          <p:cNvSpPr/>
          <p:nvPr/>
        </p:nvSpPr>
        <p:spPr>
          <a:xfrm>
            <a:off x="5651640" y="4492800"/>
            <a:ext cx="1150920" cy="502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Program B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"/>
          <p:cNvSpPr/>
          <p:nvPr/>
        </p:nvSpPr>
        <p:spPr>
          <a:xfrm>
            <a:off x="3021120" y="470844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enque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"/>
          <p:cNvSpPr/>
          <p:nvPr/>
        </p:nvSpPr>
        <p:spPr>
          <a:xfrm>
            <a:off x="4609800" y="4691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굴림"/>
              </a:rPr>
              <a:t>dequeu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"/>
          <p:cNvSpPr/>
          <p:nvPr/>
        </p:nvSpPr>
        <p:spPr>
          <a:xfrm>
            <a:off x="3851280" y="4491000"/>
            <a:ext cx="7207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0" y="463536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"/>
          <p:cNvSpPr/>
          <p:nvPr/>
        </p:nvSpPr>
        <p:spPr>
          <a:xfrm>
            <a:off x="3448800" y="2133720"/>
            <a:ext cx="18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assage pass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"/>
          <p:cNvSpPr/>
          <p:nvPr/>
        </p:nvSpPr>
        <p:spPr>
          <a:xfrm>
            <a:off x="3329640" y="4005360"/>
            <a:ext cx="262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Messaging and Queuing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812B-B1B1-4A3A-8815-D2000EC4E7F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POSIX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Portable Operating system Interface for Computing Environmen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First published between 1988 and 199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ncludes over 30 individual standards and covers a wide range of topi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XSH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Defines a standard operating system interface and environment, including real-time extens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Notes on portability, error handling and error recove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1 Attribute objects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Are devised to support future standardization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Without requiring that the functions operating on them be chang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n order to be us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Attribute object must be first initialized – pthread_attr_init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Destoryed by invoking the pthread_attr_destroy function on 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F15BB-5AA2-4C9F-9FCC-9400CA208DE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2 Multithreading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reate the new 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thread_create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Creates a new thread within a process, sets up a thread identifi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After creation, the thread immediately starts executin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erminate the new 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By returning from its main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By calling the pthread_exit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By accepting a cancellation request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Process and thread scheduling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o select a specific polic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ched_setscheduler function set both the scheduling policy and parameter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ched_getscheduler reads the scheduling policy and paramet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re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thread_setchedparam, pthread_getschedparam func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chduling polic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First in, First out (SCHED_FIF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Round robins(SCHED_RR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Optionally, the sporadic server scheduler (SCHED_SPORADIC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68508-727E-4481-BAE1-F1E408303B6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4 Real-Time signals and asynchronous events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SO C standard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rovide a mechanism to convey information to a process or thread when it is not necessarily waiting for inpu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EEE Std 1003.1-2001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Extends the signal mechanism to make it suitable for real-ime handling of exceptional condition and ev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An error occurring during the execution of the process (ex, memory –invalid pointer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Various system and hardware failure , such as a power failur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A2964-60D4-4372-9A69-59573424C5E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5 interprocess synchronization and communication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tandard are the semaphore and the message queu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Multithreading suppor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Message Que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Mq_open fun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Either creates or opens a message queue and connects it with the calling proces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Mq_close fun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Removes the association between queue descriptor and its message 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Mq_send and mq_receive fun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Functions send and receive a message to and from a message queu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Semaph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Unnamed semaph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Created by the sem_init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Named semaph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Created and accessed by the sem_open fun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em_wait function – P operation on the semaph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em_post function – V operation on the semaph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em_getvalue function – returns the current value of a semaphor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00AE6-DD63-4601-96F4-0AFEBCCD41A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3. The POSIX Standar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6 thread-specific data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All threads belonging to the same process share the same address 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o share access to all their global dat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Only the information allocated on the thread’s stack, such as function arguments and local variab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--&gt; So defining the concept of thread-specific da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3.7 memory management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The standard able to lock part or all of address space in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By mlock and mlockall fun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revents from paged out in case of using the virtual mem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The lock is no longer neede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nvoke either the munlock or the munlockal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685FD-C838-4543-A0A0-FB4024F9E2F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tent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 introduction &amp; background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2 Operating System Architecture and Functions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3 The POSIX standard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4 Real-time, Open-source Operating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5 Virtual-Machine Operating Systems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432A5-1F7D-4D5E-AF5F-B88451E9F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400" spc="-1" strike="noStrike">
                <a:solidFill>
                  <a:srgbClr val="000000"/>
                </a:solidFill>
                <a:latin typeface="Times New Roman"/>
              </a:rPr>
              <a:t>4. Real-Time, Open-source Operating Sytem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Open-source Real-time operating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e source code of an open-source real-time operating system can be used both to develop real-world application, and for study and experiment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Open-source operating system have no purchasing cost and are inherently royalty fre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e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oordinated by Red H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Based on a modular, layered real-time kern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ompatible with the POS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Not supprt multiple processes with independent address spa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uClinu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Stripped-down version of the Linux operating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o run on microcontroll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Arial"/>
              </a:rPr>
              <a:t>RT-linux and RTA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e clear separation between the real-time and nonreal-time domai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Small monolitic real-time kern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Real-time tasks operate in a protecte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Linux kernel (nonreal-time kerne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72A4E-BF2E-4202-A3A6-794929B311C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 Virtual-Machine Operating System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5.1 Related Work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First introduced by Meyer and Seawright in the CP-4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P-67 IBM 360/6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Including I/O device, but MMU virtualization wasnot attempte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MMU virtualization was added by A. Auroux, CP-67 evolved into IBM produ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Commercial virtualization product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Vmwar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2000" spc="-1" strike="noStrike">
                <a:solidFill>
                  <a:srgbClr val="000000"/>
                </a:solidFill>
                <a:latin typeface="Verdana"/>
              </a:rPr>
              <a:t>5.2 Views of processor State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The execution of each machine instr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Depends on processor stat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Arial"/>
              </a:rPr>
              <a:t>Internal processor state depends on the mode the process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User-mode 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Privileged-mode view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7A87-F68A-4445-A8C3-43C5F7C15CA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5. Virtual-Machine Operating System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5.3 Operating Principle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key differen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traditional operating system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fines user-written programs to run in user mode onl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access privileged mode by means of a system cal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MM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ports virtual processors that can run either in user or in privileged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real, physical processor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processor mode – the physical processor is running 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virtual processor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irtual processor is running i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CD002-FE09-43A2-B96C-BCC7380728E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1. introduction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Real-time computer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imely availability of computations results is as important as their correctnes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Embedded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al-purpose computer system built into a larger devi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ually not programmable by the end us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The difference between general purpose and embedded system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bedded syste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ss produced, so the cost is an important design go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ttery-pow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enhance battery life, simple hardware architec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ify the hardware architecture, reducing clock speed, minimize mem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56515-8F68-40AD-BBDD-D65E5A6E978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Dual-mode operation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mode – execution done on behalf of a us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visor mode or system mode – execution done on behalf of 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rivileged Instruction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d only in system mo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rved for use by 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 the processors state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es input/output devi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es between process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111400"/>
            <a:ext cx="1341360" cy="812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굴림"/>
              </a:rPr>
              <a:t>CPU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2133720"/>
            <a:ext cx="1660680" cy="842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OS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5724360" y="2060640"/>
            <a:ext cx="1727280" cy="842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2268360" y="1557360"/>
            <a:ext cx="2232360" cy="554040"/>
          </a:xfrm>
          <a:custGeom>
            <a:avLst/>
            <a:gdLst>
              <a:gd name="textAreaLeft" fmla="*/ 390600 w 2232360"/>
              <a:gd name="textAreaRight" fmla="*/ 1618560 w 223236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4643280" y="2924280"/>
            <a:ext cx="2521080" cy="576000"/>
          </a:xfrm>
          <a:custGeom>
            <a:avLst/>
            <a:gdLst>
              <a:gd name="textAreaLeft" fmla="*/ 441000 w 2521080"/>
              <a:gd name="textAreaRight" fmla="*/ 1827720 w 252108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2268000" y="2923920"/>
            <a:ext cx="2232360" cy="554040"/>
          </a:xfrm>
          <a:custGeom>
            <a:avLst/>
            <a:gdLst>
              <a:gd name="textAreaLeft" fmla="*/ 390600 w 2232360"/>
              <a:gd name="textAreaRight" fmla="*/ 1618560 w 2232360"/>
              <a:gd name="textAreaTop" fmla="*/ 74160 h 554040"/>
              <a:gd name="textAreaBottom" fmla="*/ 479880 h 554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4427640" y="1483920"/>
            <a:ext cx="2520720" cy="576360"/>
          </a:xfrm>
          <a:custGeom>
            <a:avLst/>
            <a:gdLst>
              <a:gd name="textAreaLeft" fmla="*/ 441000 w 2520720"/>
              <a:gd name="textAreaRight" fmla="*/ 1827720 w 2520720"/>
              <a:gd name="textAreaTop" fmla="*/ 77040 h 576360"/>
              <a:gd name="textAreaBottom" fmla="*/ 4993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"/>
          <p:cNvSpPr/>
          <p:nvPr/>
        </p:nvSpPr>
        <p:spPr>
          <a:xfrm>
            <a:off x="847080" y="310212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ystem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7212960" y="3141720"/>
            <a:ext cx="6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"/>
          <p:cNvSpPr/>
          <p:nvPr/>
        </p:nvSpPr>
        <p:spPr>
          <a:xfrm>
            <a:off x="3724560" y="3645000"/>
            <a:ext cx="182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Shared resourc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8315-8C50-485E-AD36-9D33569A9A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System call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321300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3213000"/>
            <a:ext cx="2016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2575440" y="30290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tra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"/>
          <p:cNvSpPr/>
          <p:nvPr/>
        </p:nvSpPr>
        <p:spPr>
          <a:xfrm>
            <a:off x="2608920" y="1712880"/>
            <a:ext cx="81792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………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call(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……</a:t>
            </a: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3132000" y="3716280"/>
            <a:ext cx="935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"/>
          <p:cNvSpPr/>
          <p:nvPr/>
        </p:nvSpPr>
        <p:spPr>
          <a:xfrm>
            <a:off x="3706920" y="3933720"/>
            <a:ext cx="934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2482920" y="5013360"/>
            <a:ext cx="934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1979640" y="2276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197964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220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"/>
          <p:cNvSpPr/>
          <p:nvPr/>
        </p:nvSpPr>
        <p:spPr>
          <a:xfrm>
            <a:off x="5148360" y="2205000"/>
            <a:ext cx="0" cy="30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419640" y="530064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979640" y="5084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979640" y="3284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"/>
          <p:cNvSpPr/>
          <p:nvPr/>
        </p:nvSpPr>
        <p:spPr>
          <a:xfrm>
            <a:off x="4932360" y="3068640"/>
            <a:ext cx="934920" cy="576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interrupt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"/>
          <p:cNvSpPr/>
          <p:nvPr/>
        </p:nvSpPr>
        <p:spPr>
          <a:xfrm>
            <a:off x="5641920" y="2421000"/>
            <a:ext cx="131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USER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"/>
          <p:cNvSpPr/>
          <p:nvPr/>
        </p:nvSpPr>
        <p:spPr>
          <a:xfrm>
            <a:off x="5522760" y="4365720"/>
            <a:ext cx="145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굴림"/>
              </a:rPr>
              <a:t>Kernel Mo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67641-E0CD-41E9-825D-28E3107499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11.2.1 overall system architecture</a:t>
            </a: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nolithic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oldest desig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mplicity, very low process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 a whole runs in privileged mode, running in user mode by executing the </a:t>
            </a:r>
            <a:r>
              <a:rPr b="1" i="1" lang="en-US" sz="1400" spc="-1" strike="noStrike">
                <a:solidFill>
                  <a:srgbClr val="00cc00"/>
                </a:solidFill>
                <a:latin typeface="Arial"/>
              </a:rPr>
              <a:t>system cal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instr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rupt handling is done directly in the kern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rupt handling code is a priority higher than the priority of all other task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further reduce processor overhead on small systems, it is possible to run in supervisor m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yered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refinement and generalization of the monolithic syste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ganize the operating system as a hierarchy of layer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tenance easi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S code is easier to read and understa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ner structure of a layer can be changed without interfering with other lay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B5094-D63A-4A66-AD2F-75EBC912EF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kernel system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ucing to an absolute minimum the amount of privileged OS cod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asier to manage and maintai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communication between OS and applic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y sending a message to the OS server and waiting for a repl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main purpose of the microkernel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handle the communication between application and serv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enforce a security policy on such communic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 perform some critical OS functions such a accessing I/O device regi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tributed system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inct machines connected by a communication network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7B3AF-43C1-4277-BEFB-C0BC8268BC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2781360"/>
            <a:ext cx="2016360" cy="212400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1413000"/>
            <a:ext cx="2016360" cy="1247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5002200"/>
            <a:ext cx="2016360" cy="876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2276640"/>
            <a:ext cx="0" cy="74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"/>
          <p:cNvSpPr/>
          <p:nvPr/>
        </p:nvSpPr>
        <p:spPr>
          <a:xfrm>
            <a:off x="1763640" y="3068640"/>
            <a:ext cx="863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1187280" y="3789360"/>
            <a:ext cx="79236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3789360"/>
            <a:ext cx="792360" cy="216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"/>
          <p:cNvSpPr/>
          <p:nvPr/>
        </p:nvSpPr>
        <p:spPr>
          <a:xfrm>
            <a:off x="1258920" y="4292640"/>
            <a:ext cx="720720" cy="217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"/>
          <p:cNvSpPr/>
          <p:nvPr/>
        </p:nvSpPr>
        <p:spPr>
          <a:xfrm>
            <a:off x="2411280" y="4292640"/>
            <a:ext cx="792360" cy="217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du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"/>
          <p:cNvSpPr/>
          <p:nvPr/>
        </p:nvSpPr>
        <p:spPr>
          <a:xfrm>
            <a:off x="2916360" y="4005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"/>
          <p:cNvSpPr/>
          <p:nvPr/>
        </p:nvSpPr>
        <p:spPr>
          <a:xfrm>
            <a:off x="1979640" y="3860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"/>
          <p:cNvSpPr/>
          <p:nvPr/>
        </p:nvSpPr>
        <p:spPr>
          <a:xfrm>
            <a:off x="1979640" y="44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"/>
          <p:cNvSpPr/>
          <p:nvPr/>
        </p:nvSpPr>
        <p:spPr>
          <a:xfrm>
            <a:off x="2195640" y="36464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2781360"/>
            <a:ext cx="2016000" cy="212400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"/>
          <p:cNvSpPr/>
          <p:nvPr/>
        </p:nvSpPr>
        <p:spPr>
          <a:xfrm>
            <a:off x="3924360" y="1413000"/>
            <a:ext cx="2016000" cy="1247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"/>
          <p:cNvSpPr/>
          <p:nvPr/>
        </p:nvSpPr>
        <p:spPr>
          <a:xfrm>
            <a:off x="3924360" y="5002200"/>
            <a:ext cx="2016000" cy="876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"/>
          <p:cNvSpPr/>
          <p:nvPr/>
        </p:nvSpPr>
        <p:spPr>
          <a:xfrm>
            <a:off x="4932360" y="2276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"/>
          <p:cNvSpPr/>
          <p:nvPr/>
        </p:nvSpPr>
        <p:spPr>
          <a:xfrm>
            <a:off x="4500720" y="2924280"/>
            <a:ext cx="86328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"/>
          <p:cNvSpPr/>
          <p:nvPr/>
        </p:nvSpPr>
        <p:spPr>
          <a:xfrm>
            <a:off x="5292720" y="4437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"/>
          <p:cNvSpPr/>
          <p:nvPr/>
        </p:nvSpPr>
        <p:spPr>
          <a:xfrm>
            <a:off x="284760" y="2046240"/>
            <a:ext cx="6836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"/>
          <p:cNvSpPr/>
          <p:nvPr/>
        </p:nvSpPr>
        <p:spPr>
          <a:xfrm>
            <a:off x="214200" y="3860640"/>
            <a:ext cx="7628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mod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"/>
          <p:cNvSpPr/>
          <p:nvPr/>
        </p:nvSpPr>
        <p:spPr>
          <a:xfrm>
            <a:off x="6732720" y="2781360"/>
            <a:ext cx="2016000" cy="212400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1413000"/>
            <a:ext cx="2016000" cy="12477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gra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"/>
          <p:cNvSpPr/>
          <p:nvPr/>
        </p:nvSpPr>
        <p:spPr>
          <a:xfrm>
            <a:off x="6732720" y="5002200"/>
            <a:ext cx="2016000" cy="876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"/>
          <p:cNvSpPr/>
          <p:nvPr/>
        </p:nvSpPr>
        <p:spPr>
          <a:xfrm>
            <a:off x="7740720" y="2276640"/>
            <a:ext cx="0" cy="749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"/>
          <p:cNvSpPr/>
          <p:nvPr/>
        </p:nvSpPr>
        <p:spPr>
          <a:xfrm>
            <a:off x="7308720" y="3068640"/>
            <a:ext cx="86364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"/>
          <p:cNvSpPr/>
          <p:nvPr/>
        </p:nvSpPr>
        <p:spPr>
          <a:xfrm>
            <a:off x="7740720" y="36464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"/>
          <p:cNvSpPr/>
          <p:nvPr/>
        </p:nvSpPr>
        <p:spPr>
          <a:xfrm>
            <a:off x="1310400" y="9144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monolithic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"/>
          <p:cNvSpPr/>
          <p:nvPr/>
        </p:nvSpPr>
        <p:spPr>
          <a:xfrm>
            <a:off x="4450680" y="94788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layere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6936840" y="947880"/>
            <a:ext cx="16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Client/server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4500720" y="3571920"/>
            <a:ext cx="863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"/>
          <p:cNvSpPr/>
          <p:nvPr/>
        </p:nvSpPr>
        <p:spPr>
          <a:xfrm>
            <a:off x="4932360" y="335592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4356000" y="4005360"/>
            <a:ext cx="13683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Memory and I/O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Device Manag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4508640"/>
            <a:ext cx="1008000" cy="36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scheduling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0" name=""/>
          <p:cNvSpPr/>
          <p:nvPr/>
        </p:nvSpPr>
        <p:spPr>
          <a:xfrm>
            <a:off x="4932360" y="386064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48690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8172360" y="3357720"/>
            <a:ext cx="287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"/>
          <p:cNvSpPr/>
          <p:nvPr/>
        </p:nvSpPr>
        <p:spPr>
          <a:xfrm>
            <a:off x="8172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845964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8082360" y="1468800"/>
            <a:ext cx="1121760" cy="70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"/>
          <p:cNvSpPr/>
          <p:nvPr/>
        </p:nvSpPr>
        <p:spPr>
          <a:xfrm>
            <a:off x="7979760" y="1924200"/>
            <a:ext cx="934560" cy="655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Display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굴림"/>
              </a:rPr>
              <a:t>server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E05D5-9602-4B06-B101-82C820CD96E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6560" y="115560"/>
            <a:ext cx="648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2. operating system architecture and functions</a:t>
            </a:r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000" y="907560"/>
            <a:ext cx="828036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rtual machi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eatu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virtual machine provides an interface identical to the underlying bare hardwa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OS creates the illusion of multiple processes, each executing on its own processor with its own mem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irtual machine monit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tches all interrupt request and then redirect to OS handl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vides complete protection of system resources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nce each virtual machine is isolated from all other virtual machi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1476360" y="3500280"/>
            <a:ext cx="1008000" cy="1224000"/>
          </a:xfrm>
          <a:prstGeom prst="rect">
            <a:avLst/>
          </a:prstGeom>
          <a:solidFill>
            <a:srgbClr val="d6eeb8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processes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1476360" y="4724280"/>
            <a:ext cx="100800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476360" y="5445000"/>
            <a:ext cx="1008000" cy="5050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"/>
          <p:cNvSpPr/>
          <p:nvPr/>
        </p:nvSpPr>
        <p:spPr>
          <a:xfrm>
            <a:off x="1979640" y="443700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2050920" y="450864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788000" y="3429000"/>
            <a:ext cx="936360" cy="1655280"/>
            <a:chOff x="4788000" y="3429000"/>
            <a:chExt cx="936360" cy="1655280"/>
          </a:xfrm>
        </p:grpSpPr>
        <p:sp>
          <p:nvSpPr>
            <p:cNvPr id="185" name=""/>
            <p:cNvSpPr/>
            <p:nvPr/>
          </p:nvSpPr>
          <p:spPr>
            <a:xfrm>
              <a:off x="4788000" y="3429000"/>
              <a:ext cx="936360" cy="827280"/>
            </a:xfrm>
            <a:prstGeom prst="rect">
              <a:avLst/>
            </a:prstGeom>
            <a:solidFill>
              <a:srgbClr val="d6eeb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processe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88000" y="4256280"/>
              <a:ext cx="936360" cy="486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788000" y="4743360"/>
              <a:ext cx="936360" cy="340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VM1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321520" y="411012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724360" y="3429000"/>
            <a:ext cx="936720" cy="1655280"/>
            <a:chOff x="5724360" y="3429000"/>
            <a:chExt cx="936720" cy="1655280"/>
          </a:xfrm>
        </p:grpSpPr>
        <p:sp>
          <p:nvSpPr>
            <p:cNvPr id="190" name=""/>
            <p:cNvSpPr/>
            <p:nvPr/>
          </p:nvSpPr>
          <p:spPr>
            <a:xfrm>
              <a:off x="5724360" y="3429000"/>
              <a:ext cx="936720" cy="827280"/>
            </a:xfrm>
            <a:prstGeom prst="rect">
              <a:avLst/>
            </a:prstGeom>
            <a:solidFill>
              <a:srgbClr val="d6eeb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processe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724360" y="4256280"/>
              <a:ext cx="936720" cy="486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24360" y="4743360"/>
              <a:ext cx="936720" cy="340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VM2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58240" y="411012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6659640" y="3429000"/>
            <a:ext cx="936720" cy="1655280"/>
            <a:chOff x="6659640" y="3429000"/>
            <a:chExt cx="936720" cy="1655280"/>
          </a:xfrm>
        </p:grpSpPr>
        <p:sp>
          <p:nvSpPr>
            <p:cNvPr id="195" name=""/>
            <p:cNvSpPr/>
            <p:nvPr/>
          </p:nvSpPr>
          <p:spPr>
            <a:xfrm>
              <a:off x="6659640" y="3429000"/>
              <a:ext cx="936720" cy="827280"/>
            </a:xfrm>
            <a:prstGeom prst="rect">
              <a:avLst/>
            </a:prstGeom>
            <a:solidFill>
              <a:srgbClr val="d6eeb8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processes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9640" y="4256280"/>
              <a:ext cx="936720" cy="486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kernel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9640" y="4743360"/>
              <a:ext cx="936720" cy="340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굴림"/>
                </a:rPr>
                <a:t>VM3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193520" y="4110120"/>
              <a:ext cx="0" cy="29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4788000" y="5084640"/>
            <a:ext cx="2808360" cy="719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Virtual machin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implementation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5805360"/>
            <a:ext cx="2808360" cy="432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굴림"/>
              </a:rPr>
              <a:t>hardware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"/>
          <p:cNvSpPr/>
          <p:nvPr/>
        </p:nvSpPr>
        <p:spPr>
          <a:xfrm>
            <a:off x="3028320" y="4437000"/>
            <a:ext cx="135108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Programming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굴림"/>
              </a:rPr>
              <a:t>interfac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482920" y="4653000"/>
            <a:ext cx="50328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84720" y="429264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"/>
          <p:cNvSpPr/>
          <p:nvPr/>
        </p:nvSpPr>
        <p:spPr>
          <a:xfrm>
            <a:off x="1083600" y="6080040"/>
            <a:ext cx="201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Non-virtual Machi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"/>
          <p:cNvSpPr/>
          <p:nvPr/>
        </p:nvSpPr>
        <p:spPr>
          <a:xfrm>
            <a:off x="5349600" y="6237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굴림"/>
              </a:rPr>
              <a:t>Virtual Machin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8DA5E-418C-449E-9674-F3ECDE7695A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08:48:21Z</dcterms:created>
  <dc:creator>Jin-Suk Youn</dc:creator>
  <dc:description/>
  <dc:language>en-US</dc:language>
  <cp:lastModifiedBy>ING</cp:lastModifiedBy>
  <dcterms:modified xsi:type="dcterms:W3CDTF">2006-09-20T02:31:15Z</dcterms:modified>
  <cp:revision>1732</cp:revision>
  <dc:subject/>
  <dc:title>슬라이드 1</dc:title>
</cp:coreProperties>
</file>