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6.wmf" ContentType="image/x-wmf"/>
  <Override PartName="/ppt/media/image15.png" ContentType="image/png"/>
  <Override PartName="/ppt/media/image14.png" ContentType="image/png"/>
  <Override PartName="/ppt/media/image1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BDBD-1573-4893-8743-D283798C5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1BDF-1589-440A-9BBF-6B97F9122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4289-72F0-4E1E-B099-0E3934E00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743A-91DC-493E-A2C7-51E74DB81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1AC23-C6D2-4244-AB80-A6D38E01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DA386-AB86-4882-8CA5-E15CB8AB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5FA9-4D43-45CC-BD76-2C3FF752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F4EA-EAD4-4DDC-A71A-C6B81C20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0923-3715-41CB-9B96-2A252EA50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BB59-A331-4751-B15D-E9DBFA80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26711-37A6-4375-8C5C-5FC5EB7C9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5ABF-087E-4376-BCF7-44D4168FE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2D51-E421-45AF-BE72-4995399A0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4ED80-5F2F-402E-B9A2-F196EE23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9C0DC-F43F-4E6B-B3B9-F920AFE2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DC5F6-1ECA-46F2-8DC9-62EE3FFE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AEBAF-5A5E-4573-92BA-05F121FC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95C5-6C10-4D10-8182-001BCB54A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FF17-D117-4513-B5B3-50484D80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5687-B898-440B-A3F9-9EA1F8FA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CBEC-04FB-4963-9FE4-FB494E84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1090-BD11-402D-A8CA-1B20A61F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786-B4EF-4226-8899-F0AE3967E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BF36-C90A-46F3-B675-8A69E55D4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cccc66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F763-A826-4964-9FEA-DD53732E06A7}" type="datetime">
              <a:rPr b="0" lang="en-US" sz="1600" spc="-1" strike="noStrike">
                <a:solidFill>
                  <a:srgbClr val="cccc66"/>
                </a:solidFill>
                <a:latin typeface="Comic Sans MS"/>
              </a:rPr>
              <a:t>07/28/26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9999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9900"/>
                </a:solidFill>
                <a:latin typeface="Comic Sans MS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767426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CC9F0-0930-44A6-9B73-898C66F44DEC}" type="slidenum">
              <a:rPr b="1" lang="en-US" sz="1600" spc="-1" strike="noStrike">
                <a:solidFill>
                  <a:srgbClr val="767426"/>
                </a:solidFill>
                <a:latin typeface="Comic Sans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Verdana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9E86D-1B7F-4F8E-A038-EE52895E89E9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  <a:ea typeface="휴먼엑스포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휴먼엑스포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9D03D-7928-4D8C-B708-48D362E76265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468360" y="1267920"/>
            <a:ext cx="9144000" cy="13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Verdana"/>
              </a:rPr>
              <a:t>       </a:t>
            </a:r>
            <a:r>
              <a:rPr b="0" lang="en-US" sz="3600" spc="-1" strike="noStrike">
                <a:solidFill>
                  <a:srgbClr val="999900"/>
                </a:solidFill>
                <a:latin typeface="Verdana"/>
              </a:rPr>
              <a:t>Determining Bounds </a:t>
            </a:r>
            <a:br>
              <a:rPr sz="3600"/>
            </a:br>
            <a:r>
              <a:rPr b="0" lang="en-US" sz="3600" spc="-1" strike="noStrike">
                <a:solidFill>
                  <a:srgbClr val="999900"/>
                </a:solidFill>
                <a:latin typeface="Verdana"/>
              </a:rPr>
              <a:t>                           on Execution Times</a:t>
            </a:r>
            <a:endParaRPr b="0" lang="en-US" sz="36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Jung Chanmi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06.09.27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ache-Behavior Prediction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Cach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Three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Block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Associa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Fully assoc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A block can reside in </a:t>
            </a:r>
            <a:r>
              <a:rPr b="1" i="1" lang="ko-KR" sz="1800" spc="-1" strike="noStrike">
                <a:solidFill>
                  <a:srgbClr val="000000"/>
                </a:solidFill>
                <a:latin typeface="Arial"/>
              </a:rPr>
              <a:t>any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cache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Direct mapp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A block can reside in </a:t>
            </a:r>
            <a:r>
              <a:rPr b="1" i="1" lang="ko-KR" sz="1800" spc="-1" strike="noStrike">
                <a:solidFill>
                  <a:srgbClr val="000000"/>
                </a:solidFill>
                <a:latin typeface="Arial"/>
              </a:rPr>
              <a:t>exactly one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X-way set associ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A block can reside in </a:t>
            </a:r>
            <a:r>
              <a:rPr b="1" i="1" lang="ko-KR" sz="1800" spc="-1" strike="noStrike">
                <a:solidFill>
                  <a:srgbClr val="000000"/>
                </a:solidFill>
                <a:latin typeface="Arial"/>
              </a:rPr>
              <a:t>exactly X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 l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FEC-553D-40C9-8A46-FABB0F95528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9F9CF7-A20A-4F5F-977E-82EB995741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ache-Behavior Prediction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cache is full and the processor requests further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acement strate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RU (Least Recently U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 (First In First O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EE22-25A1-41CB-863D-56BFED1A7DB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69EE8-1292-44DA-88B2-F983F70876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ache-Behavior Prediction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ully associative caches with LRU replacement strategy in this pa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979640" y="3068640"/>
            <a:ext cx="4897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1649-C100-4DDD-9B36-5E6D8FFAD83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0B480-DD56-4A7D-9605-9E97E56D6F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ache-Behavior Prediction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a set of memory blocks th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re in the c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given program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termine all memory blocks that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y be in the ca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a given program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EFAA-1EC4-478E-A44E-93C360F84A5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B2666-75B0-4557-A1C1-2405140391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ache-Behavior Prediction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195640" y="2781360"/>
            <a:ext cx="4464000" cy="268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2F04-FB84-4D1E-9A5D-B645DD00F57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2E2636-723E-455C-A24E-336BC991D59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ache-Behavior Prediction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Seman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24000" y="2852640"/>
            <a:ext cx="5256360" cy="292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1CA-102F-4FA8-AAA4-DF389563C4D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9956B-404A-44A3-B7A3-EA62BA95B0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Pipeline Analysis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nd out how instructions move through the pipe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cycle they spend in the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peline analysis regards abstract execution of sequences of instructions on abstract pip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ecution of programs on abstract pipelines produces abstract traces ( sequences of abstract states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B64-9D05-4E47-B8A1-7C4EBA0123E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4B0205-E371-48D3-BB9D-BB6CC5179C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Pipeline Analysis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Architecture without Timing Anoma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th in-ord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worst case contribute to the program’s global executi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fe to assume the local worst cases for unknown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B80E-CFB5-4954-8395-71D962B5C22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4CE32-AB02-492B-8544-D0E471A725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Pipeline Analysis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s with Timing Anoma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-of-order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worst cases contribute worst-case times of the global execution tim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more 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3429000"/>
            <a:ext cx="4680000" cy="27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BE40-F1B0-4183-976A-57D98EE5456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66E75-9C1F-4C09-8B34-9789B8E55B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Pipeline Analysis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peline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basis for pipeline analysis is a model of an abstract version of the processor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rs have concrete pipelines described in VH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iminate many components of a concrete pipeline that are not relevant for the timing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ing an abstract pipeline is a complex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B6F6-5953-4D86-8D30-1243C3F6BF0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E4569-E86B-4459-9BDA-223E7EBAC6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Index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 Behavior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pelin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Analysis Using Integer Linear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 (not recomme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1AC3-5323-4518-932B-5A33A985F24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71ABB-8304-4962-A54F-31DF4A6C20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Pipeline Analysis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Pipeline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The ColdFire MCF 5307 pip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Fetch pip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</a:rPr>
              <a:t>Fetches instructions form memory or the 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</a:rPr>
              <a:t>Execution pip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</a:rPr>
              <a:t>Executes 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140360" y="1484280"/>
            <a:ext cx="4319280" cy="468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6851-5808-460B-AC69-9EE60F4A90BD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40A505-A6A5-466A-9DD2-EF0D7277C2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Pipeline Analysis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Models of Abstract Pip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abstract pipeline state consists of several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i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gn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ignal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be instantaneous or delay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instantaneous signals between units are used to transport information between the unit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3630600" cy="47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ABB2-9B9C-466E-928A-4A5F2E081157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C11C44-4BE7-4E14-B342-2CF8084849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Verdana"/>
              </a:rPr>
              <a:t>Path Analysis Using </a:t>
            </a:r>
            <a:br>
              <a:rPr sz="4000"/>
            </a:br>
            <a:r>
              <a:rPr b="0" lang="en-US" sz="4000" spc="-1" strike="noStrike">
                <a:solidFill>
                  <a:srgbClr val="999900"/>
                </a:solidFill>
                <a:latin typeface="Verdana"/>
              </a:rPr>
              <a:t>Integer Linear Programming</a:t>
            </a:r>
            <a:endParaRPr b="0" lang="en-US" sz="40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tructure of a program and the set of program paths can be mapped to an ILP in a very natural w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LP consists of two pa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ost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trai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func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e number of CPU cy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ecution count of one basis b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427640" y="2565360"/>
            <a:ext cx="4392360" cy="250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EAF2-1E0E-4BBD-AEA5-2BBA4F750709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37BBC-4B5C-40AD-AAB8-3EA0FAE2B1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Summary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리얼타임에서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execution time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bound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를 정하는 것은 중요한 일이다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하지만 시스템이 복잡해짐에 따라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bound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를 정하는 것이 어려워지고 있다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이 논문에서는 어떤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execution time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bound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를 정하기 위해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가지 분석방법을 제시한다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첫째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. Cache prediction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을 통한 분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둘째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. PipeLine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분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셋째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. ILP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를 이용한 경로 분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86C7-AE98-4626-9D23-B2F30C8219D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1BAA55-CAE1-44DA-BC35-51A8846D77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999900"/>
                </a:solidFill>
                <a:latin typeface="Verdana"/>
              </a:rPr>
              <a:t>추가 설명</a:t>
            </a: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!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지난 이야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Real-Time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에서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execution time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bound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를 정하는 것은 중요한 일이다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(hard real time)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하지만 시스템이 복잡해짐에 따라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bound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를 정하는 것이 어려워지고 있다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이 논문에서는 어떤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task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execution time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bound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를 정하기 위해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가지 분석방법을 제시한다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99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Cache predictio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을 통한 분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99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PipeLin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을 통한 분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99cc00"/>
              </a:buClr>
              <a:buSzPct val="6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ILP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를 이용한 경로 분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86DB-DDAB-4D23-96AA-EB1E6F06853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14ECAD-81B1-4A52-8ED6-D0F76C3B7E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ache Prediction</a:t>
            </a:r>
            <a:r>
              <a:rPr b="0" lang="zh-CN" sz="4400" spc="-1" strike="noStrike">
                <a:solidFill>
                  <a:srgbClr val="999900"/>
                </a:solidFill>
                <a:latin typeface="Verdana"/>
              </a:rPr>
              <a:t>을 통한 분석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How to statically precompute cache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d"/>
                </a:solidFill>
                <a:latin typeface="Arial"/>
                <a:ea typeface="TimesNewRomanPSMT"/>
              </a:rPr>
              <a:t>Mus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TimesNewRomanPSMT"/>
              </a:rPr>
              <a:t>For each program point (and calling context), find out which blocks </a:t>
            </a:r>
            <a:r>
              <a:rPr b="0" lang="ko-KR" sz="2000" spc="-1" strike="noStrike">
                <a:solidFill>
                  <a:srgbClr val="3333cd"/>
                </a:solidFill>
                <a:latin typeface="Arial"/>
                <a:ea typeface="TimesNewRomanPSMT"/>
              </a:rPr>
              <a:t>are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TimesNewRomanPSMT"/>
              </a:rPr>
              <a:t>in the ca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3333cd"/>
                </a:solidFill>
                <a:latin typeface="Arial"/>
                <a:ea typeface="TimesNewRomanPSMT"/>
              </a:rPr>
              <a:t>May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TimesNewRomanPSMT"/>
              </a:rPr>
              <a:t>For each program point (and calling context), find out which blocks </a:t>
            </a:r>
            <a:r>
              <a:rPr b="0" lang="ko-KR" sz="2000" spc="-1" strike="noStrike">
                <a:solidFill>
                  <a:srgbClr val="3333cd"/>
                </a:solidFill>
                <a:latin typeface="Arial"/>
                <a:ea typeface="TimesNewRomanPSMT"/>
              </a:rPr>
              <a:t>may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TimesNewRomanPSMT"/>
              </a:rPr>
              <a:t>be in the ca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TimesNewRomanPSMT"/>
              </a:rPr>
              <a:t>Complement says what </a:t>
            </a:r>
            <a:r>
              <a:rPr b="0" lang="ko-KR" sz="1800" spc="-1" strike="noStrike">
                <a:solidFill>
                  <a:srgbClr val="3333cd"/>
                </a:solidFill>
                <a:latin typeface="Arial"/>
                <a:ea typeface="TimesNewRomanPSMT"/>
              </a:rPr>
              <a:t>is not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TimesNewRomanPSMT"/>
              </a:rPr>
              <a:t>in the ca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685F-5C56-43A2-9B8F-A60C1B1725F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13FBC-6BFC-4D99-98B4-C48C3F66BF7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ache Prediction</a:t>
            </a:r>
            <a:r>
              <a:rPr b="0" lang="zh-CN" sz="4400" spc="-1" strike="noStrike">
                <a:solidFill>
                  <a:srgbClr val="999900"/>
                </a:solidFill>
                <a:latin typeface="Verdana"/>
              </a:rPr>
              <a:t>을 통한 분석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-Cache and May-Cach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d"/>
                </a:solidFill>
                <a:latin typeface="Arial"/>
              </a:rPr>
              <a:t>Must Analy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termines saf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ache h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redicted cache hit reduce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WC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d"/>
                </a:solidFill>
                <a:latin typeface="Arial"/>
                <a:ea typeface="TimesNewRomanPSMT"/>
              </a:rPr>
              <a:t>May Analys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NewRomanPSMT"/>
              </a:rPr>
              <a:t>determines saf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NewRomanPS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NewRomanPSMT"/>
              </a:rPr>
              <a:t>about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NewRomanPSMT"/>
              </a:rPr>
              <a:t>cache mi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predicted cache miss increase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BC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NewRomanPSMT"/>
                <a:ea typeface="TimesNewRomanPS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NewRomanPSMT"/>
                <a:ea typeface="TimesNewRomanPS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457C-D71F-4E53-8B65-7333B115F2C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E3A144-48F3-4910-9FBE-DCA43440F61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ache Prediction</a:t>
            </a:r>
            <a:r>
              <a:rPr b="0" lang="zh-CN" sz="4400" spc="-1" strike="noStrike">
                <a:solidFill>
                  <a:srgbClr val="999900"/>
                </a:solidFill>
                <a:latin typeface="Verdana"/>
              </a:rPr>
              <a:t>을 통한 분석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 Analysis : Join (Mu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763640" y="2349360"/>
            <a:ext cx="5488200" cy="3683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717C-4A9A-4479-9094-AC8099F43F5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26A0F-F00F-4C04-A70B-B3B455809F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ache Prediction</a:t>
            </a:r>
            <a:r>
              <a:rPr b="0" lang="zh-CN" sz="4400" spc="-1" strike="noStrike">
                <a:solidFill>
                  <a:srgbClr val="999900"/>
                </a:solidFill>
                <a:latin typeface="Verdana"/>
              </a:rPr>
              <a:t>을 통한 분석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 Analysis : Join (Ma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6912000" cy="3411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0C59-2B80-462C-9F38-C6DB1D04F77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555C1B-31E5-49AA-AF21-81E29BB3ACB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Cache Prediction</a:t>
            </a:r>
            <a:r>
              <a:rPr b="0" lang="zh-CN" sz="4400" spc="-1" strike="noStrike">
                <a:solidFill>
                  <a:srgbClr val="999900"/>
                </a:solidFill>
                <a:latin typeface="Verdana"/>
              </a:rPr>
              <a:t>을 통한 분석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ion to WC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about cache contents sharpens tim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908000" y="2781360"/>
            <a:ext cx="5543640" cy="32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F1FC-D73F-46C5-A2EF-B07D4A56197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DC9B30-D581-447C-B824-740E3775AF5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Abstract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5075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Run-time guarantees play an important role in the area of Embedded System. (hard real ti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Schedulability analysis has to be perform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Schedulability analysis require upper bounds for the execution times of all task in the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The bounds must be </a:t>
            </a:r>
            <a:r>
              <a:rPr b="1" i="1" lang="ko-KR" sz="2400" spc="-1" strike="noStrike">
                <a:solidFill>
                  <a:srgbClr val="000000"/>
                </a:solidFill>
                <a:latin typeface="Arial"/>
              </a:rPr>
              <a:t>Safe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i="1" lang="ko-KR" sz="2400" spc="-1" strike="noStrike">
                <a:solidFill>
                  <a:srgbClr val="000000"/>
                </a:solidFill>
                <a:latin typeface="Arial"/>
              </a:rPr>
              <a:t>T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Modern MP architecture is so~ </a:t>
            </a:r>
            <a:r>
              <a:rPr b="1" lang="ko-KR" sz="2800" spc="-1" strike="noStrike">
                <a:solidFill>
                  <a:srgbClr val="000000"/>
                </a:solidFill>
                <a:latin typeface="Arial"/>
              </a:rPr>
              <a:t>compl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hard to analysis of the timing behavior of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How to compute safely &amp; precise bounds on the execution times~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A62F-C80E-4BCE-BC76-FFEF31D7EEB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A47A6-795A-409E-B1FA-DB81665CC3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Pipeline</a:t>
            </a:r>
            <a:r>
              <a:rPr b="0" lang="zh-CN" sz="4400" spc="-1" strike="noStrike">
                <a:solidFill>
                  <a:srgbClr val="999900"/>
                </a:solidFill>
                <a:latin typeface="Verdana"/>
              </a:rPr>
              <a:t>을 통한 분석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create a pipelin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Starting point: </a:t>
            </a:r>
            <a:r>
              <a:rPr b="0" lang="en-US" sz="2400" spc="-1" strike="noStrike">
                <a:solidFill>
                  <a:srgbClr val="ff0000"/>
                </a:solidFill>
                <a:latin typeface="TimesNewRomanPSMT"/>
                <a:ea typeface="TimesNewRomanPSMT"/>
              </a:rPr>
              <a:t>Concrete model </a:t>
            </a:r>
            <a:r>
              <a:rPr b="0" lang="en-US" sz="24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of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First build </a:t>
            </a:r>
            <a:r>
              <a:rPr b="0" lang="en-US" sz="2400" spc="-1" strike="noStrike">
                <a:solidFill>
                  <a:srgbClr val="ff0000"/>
                </a:solidFill>
                <a:latin typeface="TimesNewRomanPSMT"/>
                <a:ea typeface="TimesNewRomanPSMT"/>
              </a:rPr>
              <a:t>reduced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NewRomanPSMT"/>
                <a:ea typeface="TimesNewRomanPSMT"/>
              </a:rPr>
              <a:t>Then build </a:t>
            </a:r>
            <a:r>
              <a:rPr b="0" lang="en-US" sz="2400" spc="-1" strike="noStrike">
                <a:solidFill>
                  <a:srgbClr val="ff0000"/>
                </a:solidFill>
                <a:latin typeface="TimesNewRomanPSMT"/>
                <a:ea typeface="TimesNewRomanPSMT"/>
              </a:rPr>
              <a:t>abstract timing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E921-495A-4B63-86B0-C72E68662DF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D910D0-C403-4D63-9214-2D47BBBA16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Pipeline</a:t>
            </a:r>
            <a:r>
              <a:rPr b="0" lang="zh-CN" sz="4400" spc="-1" strike="noStrike">
                <a:solidFill>
                  <a:srgbClr val="999900"/>
                </a:solidFill>
                <a:latin typeface="Verdana"/>
              </a:rPr>
              <a:t>을 통한 분석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3705120" cy="3587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364000" y="2060640"/>
            <a:ext cx="2795760" cy="374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4A3-33A4-4C34-8405-0D4DBF85822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FBBB8-B169-41DF-B92B-C710A6AED5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Pipeline</a:t>
            </a:r>
            <a:r>
              <a:rPr b="0" lang="zh-CN" sz="4400" spc="-1" strike="noStrike">
                <a:solidFill>
                  <a:srgbClr val="999900"/>
                </a:solidFill>
                <a:latin typeface="Verdana"/>
              </a:rPr>
              <a:t>을 통한 분석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tract Instruction-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397560" cy="41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4D85-7424-440F-9D10-5F0EAFC83D6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F02EC-F2B2-47BA-9E08-995C40387B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ILP</a:t>
            </a:r>
            <a:r>
              <a:rPr b="0" lang="zh-CN" sz="4400" spc="-1" strike="noStrike">
                <a:solidFill>
                  <a:srgbClr val="999900"/>
                </a:solidFill>
                <a:latin typeface="Verdana"/>
              </a:rPr>
              <a:t>를 이용한 경로 분석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MT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SymbolMT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P solver maximizes this function to determine the WC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971640" y="1916280"/>
            <a:ext cx="6912000" cy="10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0C76-366D-4338-BACE-A479ECE70E7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840B51-40BA-448D-8A58-963972F53F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ILP</a:t>
            </a:r>
            <a:r>
              <a:rPr b="0" lang="zh-CN" sz="4400" spc="-1" strike="noStrike">
                <a:solidFill>
                  <a:srgbClr val="999900"/>
                </a:solidFill>
                <a:latin typeface="Verdana"/>
              </a:rPr>
              <a:t>를 이용한 경로 분석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(simplified constrain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116000" y="2133720"/>
            <a:ext cx="6624720" cy="414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C161-3B39-4474-8BC5-87C63A2919A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75A1C-A9E1-4854-AD21-27B0191E92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Q&amp;A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C5A7-2A3B-4C5B-AD2F-64D963F29B5E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1521E-BF83-44B3-9505-C87FB646B2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Quiz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1. Cache prediction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방식에서 사용하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방식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가지를 제시하고 이것이 궁극적으로 뜻하는 바가 무엇인지 서술 하시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1. Must analysi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방식과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nalysis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방식이 있으며 전자분석 방식은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안에 특정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이 존재한다는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에 관한 정보를 알려주는 분석이며 후자는 분석결과 나온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안의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ock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이외의 것을 참조하면 항상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che mis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가 난다는 것을 알려주는 분석이다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0877-A601-4209-A756-00A45E35E0F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FC110-D353-40B2-99C2-1FAAC5F634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Quiz (cont’d)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Q2.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다음 그림은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ILP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를 이용한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Path analysis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방식이다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여기서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의 실행 회수가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일때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Worst Case Execution Time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을 아래 공식을 이용하여 구하여라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36957" b="0"/>
          <a:stretch/>
        </p:blipFill>
        <p:spPr>
          <a:xfrm>
            <a:off x="900000" y="3068640"/>
            <a:ext cx="3240360" cy="32194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643280" y="3141720"/>
            <a:ext cx="3961080" cy="58428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5508720" y="3716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굴림"/>
              </a:rPr>
              <a:t>공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4003-CE39-4B12-9202-EE90E64CA4F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9B3325-993F-45CF-9AA0-4420A26914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Quiz (cont’d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2.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방정식의 해를 구하면 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c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의 실행회수는 오른쪽 하단과 같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그러므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한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한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를 한번 실행하여 수행하는 것이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9cycles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로 가장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st case execution tim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를 가진다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4648320" y="1599840"/>
            <a:ext cx="4038480" cy="45306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rcRect l="63049" t="0" r="0" b="0"/>
          <a:stretch/>
        </p:blipFill>
        <p:spPr>
          <a:xfrm>
            <a:off x="5219640" y="1844640"/>
            <a:ext cx="31543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ACE9-4DB5-47AB-A2CC-2E4E20A212E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D33F64-5C3D-4808-9C07-3A2FDBE068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Introduction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Upper Bounds (WCETs)!!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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 Key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It has to be </a:t>
            </a:r>
            <a:r>
              <a:rPr b="1" i="1" lang="ko-KR" sz="2400" spc="-1" strike="noStrike">
                <a:solidFill>
                  <a:srgbClr val="000000"/>
                </a:solidFill>
                <a:latin typeface="Arial"/>
              </a:rPr>
              <a:t>Safe~!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1" i="1" lang="ko-KR" sz="2400" spc="-1" strike="noStrike">
                <a:solidFill>
                  <a:srgbClr val="000000"/>
                </a:solidFill>
                <a:latin typeface="Arial"/>
              </a:rPr>
              <a:t>Tight~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The state space is too large to explore all possible executions, So! Determine the exact Worst, best-case executio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977080" cy="208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B2156-92C6-4C87-9963-D29756A7521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A7B388-2FA2-4936-8290-3213E9C37B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Introduction (cont)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modern MP architectures cache, pipelines, and all kinds of speculation are key features for improving performance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mplex~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xecution time of individual instructions and the contribution of one execution of an instruction can vary wid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nstruction go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ooth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the pip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goes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rong~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9848-1A33-43DD-8CBE-8FD7FD27B4C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78F82-64F4-4F61-A140-6DB2F1A105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Introduction (cont)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692360" y="2133720"/>
            <a:ext cx="5905440" cy="357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7370-F417-4E45-83AC-4A77C3A4F4C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64782A-09C5-4C92-807E-95FDADEEF4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Introduction (cont)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ing acc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 that increase in execution time ex) cache mi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ming penal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Cycle ex) cache miss pena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predict or exclude timing accid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information about the execution hi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luding timing accidents = decreasing the upper b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! Exception case (timing anoma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C65B-C2C4-4B58-9118-E9B86F8474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A7CC9-2B9D-4365-B5C4-7964E67D3C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Introduction (cont)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ol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5832360" cy="3317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7DDE-AEBC-4D93-9F9A-513F43F9900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7CDED-0169-4624-956B-0F37040462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Verdana"/>
              </a:rPr>
              <a:t>Introduction (cont)</a:t>
            </a:r>
            <a:endParaRPr b="0" lang="en-US" sz="4400" spc="-1" strike="noStrike">
              <a:solidFill>
                <a:srgbClr val="9999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</a:rPr>
              <a:t>Timing Anoma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Contra-intuitive influences of the </a:t>
            </a:r>
            <a:r>
              <a:rPr b="1" i="1" lang="ko-KR" sz="2400" spc="-1" strike="noStrike">
                <a:solidFill>
                  <a:srgbClr val="000000"/>
                </a:solidFill>
                <a:latin typeface="Arial"/>
              </a:rPr>
              <a:t>local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execution time of one instruction on the </a:t>
            </a:r>
            <a:r>
              <a:rPr b="1" i="1" lang="ko-KR" sz="2400" spc="-1" strike="noStrike">
                <a:solidFill>
                  <a:srgbClr val="000000"/>
                </a:solidFill>
                <a:latin typeface="Arial"/>
              </a:rPr>
              <a:t>global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</a:rPr>
              <a:t> execution time of the whol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x) a locally faster execution of an instruction can lead to a globally longer execution time of the whole progr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</a:rPr>
              <a:t>Ex) a cache miss may actually speed up program exect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ESoC Lab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F1F-FEFF-4AA3-99FA-1099A9EDA04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9CB23-AFD8-41C7-A935-9B54660203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2T09:19:43Z</dcterms:created>
  <dc:creator>Chanmin</dc:creator>
  <dc:description/>
  <dc:language>en-US</dc:language>
  <cp:lastModifiedBy>Chanmin</cp:lastModifiedBy>
  <dcterms:modified xsi:type="dcterms:W3CDTF">2006-10-11T06:16:42Z</dcterms:modified>
  <cp:revision>23</cp:revision>
  <dc:subject/>
  <dc:title>       Determining Bounds                             on Execution Times</dc:title>
</cp:coreProperties>
</file>