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2314-B527-40D1-BF70-6EC9ECB548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35845-1BBF-4A9C-BD3D-EC6B2D2C08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83331-E92F-4293-96B8-0D88FFA7B3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658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316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89964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658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316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D8B6B-826C-406B-9281-AED8B4017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04D26-CAA0-4874-919F-E2F7240963C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810BF-495A-4210-B2D8-9804F382BFB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36DFB-2A19-47F9-9894-23873BA5CD3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69837-BE4B-49BB-A188-66B652E039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9D0CC-5CC7-47F0-A529-0B46F08C267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00000" y="115920"/>
            <a:ext cx="8244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FEA86-348E-46F4-A494-3673E0EF27C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E98910-9425-4376-BECC-B8C7184199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A569-FDFC-4DC3-BDF3-28C2E9B815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80B56-6DD3-4618-A38B-52CC3FEB989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05B35-EA9E-4900-9725-7AA8755E25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E052-1E9E-4942-AF93-9A954446B4E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8C9B80-CFFA-4B6D-B48F-2E46A756C5A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658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1600" y="105264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9964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658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31600" y="3873600"/>
            <a:ext cx="253872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1346E-6E0F-43E9-A4F2-E7372E3347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E7321-E232-4A08-9FD8-158B5E5F7B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0C24-8A8E-4577-BAD4-348CB7A4FE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80AEA-CE08-4976-9C52-DD886B5D90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00000" y="115920"/>
            <a:ext cx="824400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171A1-7BE9-4676-B198-EDE50718D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45E0-0725-4148-9784-7D264C2FE7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9920" y="387360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9D53C-8754-4B3D-A815-D91C5AA177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9920" y="1052640"/>
            <a:ext cx="38476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899640" y="3873600"/>
            <a:ext cx="788508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C8891-23D5-4F49-BA25-BAAA0FBC67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56000" y="6462720"/>
            <a:ext cx="213336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D681-52C6-4A39-B362-B1BFB1379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920" y="0"/>
            <a:ext cx="826920" cy="685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271440"/>
            <a:ext cx="191880" cy="181080"/>
          </a:xfrm>
          <a:prstGeom prst="rect">
            <a:avLst/>
          </a:prstGeom>
          <a:solidFill>
            <a:srgbClr val="ff9900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507960" y="439560"/>
            <a:ext cx="192240" cy="18108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841320"/>
            <a:ext cx="9142560" cy="6660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63504" dir="1938390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7" name=""/>
          <p:cNvGraphicFramePr/>
          <p:nvPr/>
        </p:nvGraphicFramePr>
        <p:xfrm>
          <a:off x="7308720" y="6354720"/>
          <a:ext cx="1619280" cy="503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08720" y="6354720"/>
                    <a:ext cx="16192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0560" y="1125360"/>
            <a:ext cx="7093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7020000" y="6308640"/>
          <a:ext cx="1944720" cy="463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20000" y="6308640"/>
                    <a:ext cx="19447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2"/>
          <p:cNvSpPr>
            <a:spLocks noGrp="1"/>
          </p:cNvSpPr>
          <p:nvPr>
            <p:ph type="sldNum" idx="2"/>
          </p:nvPr>
        </p:nvSpPr>
        <p:spPr>
          <a:xfrm>
            <a:off x="2987280" y="6381720"/>
            <a:ext cx="213372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5E2A-381C-4C38-A743-83DA2AA13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imes New Roman"/>
              <a:buChar char="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414440"/>
            <a:ext cx="842472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Embedded Systems</a:t>
            </a:r>
            <a:br>
              <a:rPr sz="3200"/>
            </a:b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CHAPTER 2: Real-Time in Embedded Systems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4221000"/>
            <a:ext cx="845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CAD &amp; SoC Lab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ko-KR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Hong Gi Hoon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5FE4F-7175-4743-959F-7F6F6218D9F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3 Execution Strategi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wo main execution paradigms for RTS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ime-triggered and event-trigge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ime-trigger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hen using timed-triggered execution, activities occur at predefined instances of tim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vent-trigger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In an event-triggered execution, actions are triggered by event occurren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ime-triggered dependability and event-triggered flexibilit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593A-F40A-41F8-BD49-3A06AB97BF6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4 Component-Based Desig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BD, a software component is used to encapsulate some functionality. That functionality is only accessed through the interface of the component. A system is composed by assembling a set of components and connecting their interfa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A1FBB-8C41-49DF-BBD3-BB3F2015D2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2.5 Tools for Design of RT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ML (United Modeling Languag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UML’s focus is mainly on client-server solutions, and it has proven inapt for RTSs desig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tend UM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tend UML with constructs suitable for real-time programs have emerge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D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he fundamental model of computation is the message-box mode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or more resource constrained hard RT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Arcticus System, TTTech, and Vecto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ML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Within the near future UML2 will become an adopted standard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ECAB3-11BC-4AB8-A9E7-AB1EB6C9F2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 Real-Time Operating System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Using a general-purpose OS when developing RTSs has several drawbacks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High resource utiliza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Difficult to access hardware and devices in a timely mann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Lack of services to allow timing sensitive interactions between different process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3D785-91C2-4524-AA36-CB4AD1BDD7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3.1 Typical Properties of RTO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As a general rule of thumb one can say that RTOSs ar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Suitable for resource constrained environm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Giving the application programmer easy access to hardware featur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viding services that allow implementation of timing sensitive cod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ailored to fit the embedded systems development proce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E7970-4CC3-42F4-819D-E511CEF80DD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.2 Mechanisms for Real-Tim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ne of the most important functions of an RTOS is to arbitrate access to shared resourc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two most obvious resource that the RTOS manages access to are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PU – that is, the RTOS should allow processes to execute in a predictable mann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hared memory areas – that is, the RTOS should resolve contention to shared memory in a way that gives predictable tim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5ADBD-CBFC-4DD9-A5D6-553214B0414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.2 Mechanisms for Real-Tim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3.2.1 Priority Inheritance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riority inheritance protocol (PIP) makes a low priority task inherit the priority of any higher priority task that becomes blocked on a resource locked by the lower priority tas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IP is not adequate for hard RTS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3.2.2 Priority Ceiling Inheritance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riority ceiling protocol (PCP) associates a ceiling value that is equal to the highest priority of any task that may lock the resourc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RTOS scheduler will manipulate task priorities to avoid the problems of PIP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561DC-D12F-44FD-AE67-F1F21AF86A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3.2 Mechanisms for Real-Tim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3.2.3 Immediate Ceiling Priority Inheritance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immediate inheritance protocol (IIP) also associates, to each resource, a ceiling value that is equal to the highest priority of any task that may lock the resource. However, different from PCP, in IIP a task is immediately assigned the ceiling priority of the resource it is locking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817C7-9318-4187-B12C-F36E625150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3.3 Commercial RTO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 rich set of primitives provid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) Tornado/VxWorks, LYNX, OSE, QNX, RT-Linux, and Thread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A smaller set of primitives provid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) the research RTOS Asterix and the commercial RTOS SSX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Standard API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any of the commercial RTOSs provide standard API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Ex) RT-POSIX, OSEK, APEX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B41B3-9E80-40AE-9CB9-C1504FAF40D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 Real-Time Schedul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ditionally, real-time schedulers are divided in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ffl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nlin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schedulers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line schedulers make all scheduling decisions before the system is execu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ine schedulers, on the other hand, decide during execution, based on various parameters, which task should execute at any given tim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8ADB3-6F24-4EEE-9AA5-5CCEB223EFA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Content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1 Introductio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2 Design of RTS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3 Real-Time Operating System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4 Real-Time Scheduling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  <a:ea typeface="굴림"/>
              </a:rPr>
              <a:t>2.5 Real-Time Communications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56487-B342-49F5-9EED-B353D0E13741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1 Introduction to Scheduling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A RTS can be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preemptive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nonpreemptive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a preemptive system, tasks can preempt each other, letting the task with the highest priority execut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a nonpreemptive system a task that has been allowed to start will execute until its comple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asks can be categorized into either being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periodic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sporadic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aperiodic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ypically, tasks that perform measurements are periodic, collecting some value(s) every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 time uni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 sporadic task is typically reacting to an event/interrup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ually aperiodics are triggered by interrup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68B8-4063-4D55-931D-FA5BC8B733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2 Offline Scheduler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ffline Schedulers (table-driven schedulers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schedulers create a schedule (the table) before the system is started (offline)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 runtime, a dispatcher follows schedule, and makes sure that tasks are only executing at their predetermined time slo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fline schedules are commonly used to implement the time-triggered execution paradig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96D9E-402D-4513-A908-AE5DAF36AE7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3 Online Scheduler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ing policies that make their scheduling decisions during runtime are classified a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online schedul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chedulers that base their scheduling decisions on task priorities are also calle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riority-based schedul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0393C-91C6-4634-AD40-6552A014673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4.3.1 Priority-Based Scheduler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ing priority-based schedulers the flexibility is increased, since the schedule is created onlin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Fixed-Priority Scheduling (FPS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arliest Deadline First (EDF)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FP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orities are assigned to the tasks before execution (offline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ask with the highest priority among all tasks that are available for execution is scheduled for execu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ing EDF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ask with the nearest (earliest) deadline among all available task is selected for execu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CC43-D7A7-4E38-91AF-C300D5E7CA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4.3.2 Scheduling with Aperiodic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In order for the priority-based schedulers to cope with aperiodic tasks, different service methods have been presented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se services are implemented using special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 task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ing FPS, for instance, the Sporadic Server (SS) is presented by Sprunt et a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ing EDF, Dynamic Sporadic Server (DSS) extends 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Other EDF-based schedulers are the Constant Bandwidth Server (CBS), presented by Abeni and Buttazzo, and the Total Bandwidth Server (TBS) by Spuri and Buttazzo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8427C-3542-4326-8C5A-6FCB15B4EF5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5 Real-Time Communication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Real-time communication aims at providing timely and deterministic communication of data between distributed device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re are real-time communication networks of different types, ranging from small fieldbus-based control systems to large Ethernet/Internet distributed applications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In this section we give a brief introduction to communications in general and real-time communications in particular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AC3F7-9192-42FB-985A-C30B6C83817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5.1 Communication Techniqu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SMA/CD (Carrier Sense Multiple Access/ Collision Detection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SMA/CD is used, for example, in Etherne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SMA/CA (Carrier Sense Multiple Access/ Collision Avoidance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amples of networks that implement CSMA/CA are Controller Area Networks (CAN) and ARINC 62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DM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One example of a TDMA-based real-time network is TTP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oke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okens are used in, for example, Profibu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Mini slotting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Mini slotting can be found in, for example, FlexRay and ARINC 62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FF096-9073-4B4D-AEE0-6F74DED4E9A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Fieldbuses are a family of factory communication networks that have evolved as a response to the demand to reduce cabling costs in factory automation system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ieldbuses used in the automotive industry are, for example, CAN, TT-CAN, TTP, LIN, and FlexR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avionics, ARINC is one of the frequently used communication stand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fibus is widely used in automation and robotic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trains TCN and WorldFIP are very popular communication technologi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75EA8-E128-4FC5-8F81-96390152676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1 Controller Area Net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Controller Area Network (CAN) was standardized by the International Standardisation Organisation (ISO) in 1993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oday CAN is a widely used fieldbu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AN is an event-triggered broadcast bus designed to operate at speeds of up to 1 Mb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AN is using a fixed-priority based arbitration mechanism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CAN is a collision-avoidance broadcast bus. (so-called CSMA/CA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3F257-463E-412B-A997-36B98F83E28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2.2 Time-Triggered C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me-triggered communication on CAN (TT-CAN) is a standardized session layer extension to the original C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 TT-CAN, the exchange of message is controlled by the temporal progression of time, and all nodes are following a predefined static schedule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t is also possible to support original event-triggered CAN traffic together with the time-triggered traffic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static schedule is based on a time division (TDMA)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ral semiconductor vendors are manufacturing TT-CAN compliant device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67382-6EFD-4F08-A218-91DFB52D2FD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1 Introdu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re is no commonly agreed upon definition fo what a RTS is, but the following characterization is (almost) universally accepted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TSs are computer systems that physically interact with the real worl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RTSs have requirements on the timing of these interactio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Real-time requirements typically express that an interaction should occur within specified timing bound. This is quite different from requiring the interaction to be as fast as possible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AB36-1F37-473A-8149-B8C43D1090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00000" y="1052640"/>
            <a:ext cx="80647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3 Flexible Time-Triggered CAN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lexible time-triggered communication on CAN (FTT-CAN) provides a way to schedule CAN in a time-triggered fashion with support for event-triggered traffic as wel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TT-CAN supports both periodic and aperiodic traffic by dividing the EC into two part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TT-CAN is still mainly an academic communication protocol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9C3BF-F6FE-402C-B592-583F6CFC20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4 Time-Triggered Protoco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Time-Triggered Protocol Class C (TTP/C) is a a TDMA based communication network intended for truly hard real-time communicatio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TP/C is available for network speeds of up to 25Mb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TP/C is part of the Time-Triggered Architecture (TTA) by Kopetz, which is designed for safety critical application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TP/C has support for fault tolerance, clock synchronization, membership services, fast error detection, and consistency check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For the less hard RTSs, there exists a scaled-down version of TTP/C called TTP/A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E3A5-2B3D-45CF-9979-E9E4CFB836D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5 Local Interconnect Net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Local Interconnect Network LIN, was developed by the LIN Consortium as a low cost alternative for small network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IN is cheaper than, for example, CA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LIN is using the UART/SCI interface hardware, and transmission speeds are possible up to 20 Kbps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he traffic is sent in a time-triggered fash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6 FlexRa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FlexRay was proposed in 1999 by several major automotive manufacturers, for example, Daimler-Chrysler and BMW, as a competitive next generation fieldbus replacing CAN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6FBB-4097-4BCA-971E-53DAB4365C6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2.6 ARINC 629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 avionic and aerospace communication systems, the ARINC 429 standard and its newer ARINC 629 successor are the most commonly used communication systems toda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INC 629 supports both periodic and sporadic communication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us is scheduled in bus cycles, which in turn are divided in two parts.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arbitration of message is based on collision avoidance using mini-slotting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twork speeds as high as 2Mbp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21D9-44D8-4F0D-B53F-EFCACD331FE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8 Profibu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fibus is used in process automation and robotic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re are three different version of Profibu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Profibus-DP, Profibus-PA, Profibus-FM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Profibus is available with data rates up to 12Mb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2.9 Train Communication Network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Train Communication Network (TCN) is widely used in trains, and implements the IEC 61275 standard as well as the IEEE 1473 stand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TCN is composed of two networks: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The Wire Train Bus (WTB) and the Multifunction Vehicle Bus (MVB)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The WTB’s network data rate is up to 1 Mb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Times New Roman"/>
              </a:rPr>
              <a:t>The MVB’s data rate is 1.5 Mbps.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F18E6-06D5-43EA-A85A-78A24CBE38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5.2 Fieldbuse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9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Times New Roman"/>
              </a:rPr>
              <a:t>2.5.2.10 WorldFIP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e WorldFIP is a very popular communication network in train control system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WorldFIP is based on the Producer-Distributor-Consumers (PDC) communication mode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Currently, network speeds are as high as 5Mbp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WorldFIP protocol defines an application layer that includes PDC- and messaging-servic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178EE-FCA9-4787-8A7C-8A7698A17FE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7854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Ethernet is not originally developed for real-time communication since the original intention with Ethernet is to maximaze throughput (bandwidth)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However, nowadays, a big effort is being made in order to provide real-time communication using Ethernet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C846-83E9-4C64-B4EC-79A6CF0F151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1 TDM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 simple solution would be to eliminate the occurrence of collisions on the network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is has been explored by, for example, Kopetz et al., using a TDMA protocol on top of Ether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2 Usage of Token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nother solution to eliminate the occurrence of collisions is the usage of token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oken-based solutions on the Ethernet also eliminates collisions, but is not compatible with standard hardware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97A24-A622-4B2A-A0E8-B0D1F04AD07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3 Modified Collision Resolution Algorithm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Using standard Ethernet controllers, the modified collision resolution algorithm is nondeterministic.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order to make a deterministic modified collision resolution algorithm, a mojor modification of the Ethernet controllers is requir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4 Virtual Time and Window Protoco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BEC73-54FD-4A48-846A-2A9C5D9299E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5 Master/Slav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s a part of the FTT framework, FTT Ethernet is proposed as a master/multislave protocol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5.3.6 Traffic Smoothing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raffic smoothing can be used to eliminate bursts of traffic that have severe impact on the timely delivery of message packets on the Ether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raffic smoothing could be a solution for soft RTS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B1D41-5E19-467E-8DD4-E0B10EA90D6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1 Introdu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- and </a:t>
            </a:r>
            <a:r>
              <a:rPr b="1" i="1" lang="ko-KR" sz="2800" spc="-1" strike="noStrike">
                <a:solidFill>
                  <a:srgbClr val="000000"/>
                </a:solidFill>
                <a:latin typeface="Times New Roman"/>
              </a:rPr>
              <a:t>Soft</a:t>
            </a: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- RTS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A system that is designed to meet strict timing requirements is often referred to as a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hard RTS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) engine control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contrast, systems for which occasional timing failures are acceptable are termed </a:t>
            </a: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soft RTS</a:t>
            </a: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Times New Roman"/>
              </a:rPr>
              <a:t>Ex) banking system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5D8DC-3F3D-4169-94E8-3348628EB4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Verdana"/>
              </a:rPr>
              <a:t>2.5.3 Ethernet for Real-Time Communincation</a:t>
            </a:r>
            <a:endParaRPr b="1" i="1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3.7 Black Burst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lack burst is implementing a collision avoidance protocol on Ethernet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en a station want to submit a message, the station waits until the network is idle, no traffic is being transmitt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5.3.8 Switche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y using these switches, a collision free network is provid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ever, this requires new hardware supporting the IEEE 802.1p standar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6A9AA-9B3C-4DF3-938D-A2E98615138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5.4 Wireless Communica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re are no commercially available wireless communication protocols providing real-time guarantee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day, a big effort is being made (as with Ethernet) to provide real-time guarantees for wireless communication, possibly by using ether WLAN or Bluetooth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9115E-D8C7-4C3B-B429-5D08BB46085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3200" spc="-1" strike="noStrike">
                <a:solidFill>
                  <a:srgbClr val="000000"/>
                </a:solidFill>
                <a:latin typeface="Verdana"/>
              </a:rPr>
              <a:t>2.2 Design of RTSs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This section presents some important architectural issues for embedded RTSs, together with some supporting commercial tools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985B4-15DF-42FD-AC28-F68F28CED8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1 Reference Architecture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"/>
          <p:cNvSpPr/>
          <p:nvPr/>
        </p:nvSpPr>
        <p:spPr>
          <a:xfrm>
            <a:off x="900000" y="1052640"/>
            <a:ext cx="4392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Figure 2.1 is a model of any computer-based system interacting with an external environment via sensors and actuators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4076640"/>
            <a:ext cx="7632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HY헤드라인M"/>
              </a:rPr>
              <a:t>The simplest RTS is a single processor, but in many cases the RTS is a distributed computer system consisting of a set of processors interconnected by a communications networks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651640" y="1268280"/>
          <a:ext cx="2814480" cy="25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51640" y="1268280"/>
                    <a:ext cx="2814480" cy="25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39108B-3DE0-401B-ACE3-A88598BEAF2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2 Models of Intera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mpone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y type of software unit, such as a task or a modul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dictable and unpredictable model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dictable models are have a more predictable and robust behavior with respect to timing than other model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ipes-and-filter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ublisher-subscrib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lackboard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predictable models increase the (timing) unpredictability of the system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lient-serv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SzPct val="13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ssage boxe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EF2F6-EBB1-4AED-B479-E1AEB1F6FE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2 Models of Interaction</a:t>
            </a: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2.2.1 Pipes-and-Filter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In this model, both data and control flow is specified using input and output ports of component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2.2.2 Publisher-Subscrib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publisher-subscriber model is similar to the pipes-and-filters model but it usually decouples data and control flow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Times New Roman"/>
              </a:rPr>
              <a:t>2.2.2.3 Blackboard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Times New Roman"/>
              </a:rPr>
              <a:t>The blackboard model allows variables to be published on a globally available balckboard area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2705C-E331-4914-8808-00DDDC4A82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00000" y="115920"/>
            <a:ext cx="8244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2.2.2 Models of Interaction</a:t>
            </a:r>
            <a:endParaRPr b="1" i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99640" y="1052640"/>
            <a:ext cx="7885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.2.4 Client-Server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client-server model, a client asynchronously invokes the service of a server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lient-server model has inherently unpredictable timing. Since services are invoked asynchronously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200000"/>
              <a:buFont typeface="Times New Roman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2.2.5 Message Box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150000"/>
              <a:buFont typeface="Times New Roman"/>
              <a:buChar char="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component can have a set of message boxes, and components communicate by posting messages in each other message boxes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FB15D-EA6C-40C4-9A96-D3557140291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48:21Z</dcterms:created>
  <dc:creator>Jin-Suk Youn</dc:creator>
  <dc:description/>
  <dc:language>en-US</dc:language>
  <cp:lastModifiedBy>guru</cp:lastModifiedBy>
  <dcterms:modified xsi:type="dcterms:W3CDTF">2006-09-13T03:51:27Z</dcterms:modified>
  <cp:revision>1073</cp:revision>
  <dc:subject/>
  <dc:title>슬라이드 1</dc:title>
</cp:coreProperties>
</file>