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8.png" ContentType="image/png"/>
  <Override PartName="/ppt/media/image19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3.jpeg" ContentType="image/jpeg"/>
  <Override PartName="/ppt/media/image28.wmf" ContentType="image/x-wmf"/>
  <Override PartName="/ppt/media/image25.wmf" ContentType="image/x-wmf"/>
  <Override PartName="/ppt/media/image41.wmf" ContentType="image/x-wmf"/>
  <Override PartName="/ppt/media/image33.wmf" ContentType="image/x-wmf"/>
  <Override PartName="/ppt/media/image30.wmf" ContentType="image/x-wmf"/>
  <Override PartName="/ppt/media/image45.png" ContentType="image/png"/>
  <Override PartName="/ppt/media/image42.wmf" ContentType="image/x-wmf"/>
  <Override PartName="/ppt/media/image31.wmf" ContentType="image/x-wmf"/>
  <Override PartName="/ppt/media/image43.wmf" ContentType="image/x-wmf"/>
  <Override PartName="/ppt/media/image44.png" ContentType="image/png"/>
  <Override PartName="/ppt/media/image32.wmf" ContentType="image/x-wmf"/>
  <Override PartName="/ppt/media/image47.png" ContentType="image/png"/>
  <Override PartName="/ppt/media/image34.wmf" ContentType="image/x-wmf"/>
  <Override PartName="/ppt/media/image39.wmf" ContentType="image/x-wmf"/>
  <Override PartName="/ppt/media/image9.wmf" ContentType="image/x-wmf"/>
  <Override PartName="/ppt/media/image46.wmf" ContentType="image/x-wmf"/>
  <Override PartName="/ppt/media/image11.wmf" ContentType="image/x-wmf"/>
  <Override PartName="/ppt/media/image13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8.wmf" ContentType="image/x-wmf"/>
  <Override PartName="/ppt/media/image4.jpeg" ContentType="image/jpeg"/>
  <Override PartName="/ppt/media/image40.png" ContentType="image/png"/>
  <Override PartName="/ppt/media/image38.wmf" ContentType="image/x-wmf"/>
  <Override PartName="/ppt/media/image5.wmf" ContentType="image/x-wmf"/>
  <Override PartName="/ppt/media/image35.wmf" ContentType="image/x-wmf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6321C-01A0-497D-A149-1D518FBC9A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CA02A-0BE3-455F-A936-076BBD1A77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B1044-3D5C-421E-84D5-107398A69B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2BF6C-8147-476C-89C8-0A720B0034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99DBE-D711-4C1E-9296-1101B128610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790FB-DF24-4B4F-8766-155D564F7BC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EF54F-D583-4874-ADB9-3DF1E3FCCF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47786-2694-4259-9B27-BCB3A3C81A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DF877-E8CC-40DB-89D0-C21FF2C4EF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7CFAF-1354-4614-A177-B55EEFBBFC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A372C-F106-4E46-8CA4-78DE179411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1F52E-97B4-42A9-AC89-0443642BC3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굴림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3004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3004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3004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477120"/>
            <a:ext cx="7772400" cy="176040"/>
          </a:xfrm>
          <a:prstGeom prst="rect">
            <a:avLst/>
          </a:prstGeom>
          <a:gradFill rotWithShape="0">
            <a:gsLst>
              <a:gs pos="0">
                <a:srgbClr val="efefff"/>
              </a:gs>
              <a:gs pos="100000">
                <a:srgbClr val="00008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433440"/>
            <a:ext cx="7772400" cy="176040"/>
          </a:xfrm>
          <a:prstGeom prst="rect">
            <a:avLst/>
          </a:prstGeom>
          <a:gradFill rotWithShape="0">
            <a:gsLst>
              <a:gs pos="0">
                <a:srgbClr val="00008c"/>
              </a:gs>
              <a:gs pos="100000">
                <a:srgbClr val="efe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8154000" y="633816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BC8B-8F5B-4D72-8EBC-FAC3AA726FA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굴림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33440"/>
            <a:ext cx="7772400" cy="176040"/>
          </a:xfrm>
          <a:prstGeom prst="rect">
            <a:avLst/>
          </a:prstGeom>
          <a:gradFill rotWithShape="0">
            <a:gsLst>
              <a:gs pos="0">
                <a:srgbClr val="00008c"/>
              </a:gs>
              <a:gs pos="100000">
                <a:srgbClr val="efe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477120"/>
            <a:ext cx="7772400" cy="176040"/>
          </a:xfrm>
          <a:prstGeom prst="rect">
            <a:avLst/>
          </a:prstGeom>
          <a:gradFill rotWithShape="0">
            <a:gsLst>
              <a:gs pos="0">
                <a:srgbClr val="efefff"/>
              </a:gs>
              <a:gs pos="100000">
                <a:srgbClr val="00008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DF21-97AC-407F-B36A-81B368E6B4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4" marL="1827360" algn="ctr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5" marL="182736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6" marL="182736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3.wmf"/><Relationship Id="rId2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earch.naver.com/search.naver?where=idetail&amp;query=%BC%AD%B9%F6&amp;a=dsi&amp;r=1&amp;u=http%3A%2F%2Fkm.naver.com%2Flist%2Fview_detail.php%3Fdir_id%3D50201%26docid%3D1633636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earch.naver.com/search.naver?where=idetail&amp;query=%BC%AD%B9%F6&amp;a=dsi&amp;r=2&amp;u=http%3A%2F%2Fkm.naver.com%2Flist%2Fview_detail.php%3Fdir_id%3D50201%26docid%3D1644122" TargetMode="External"/><Relationship Id="rId5" Type="http://schemas.openxmlformats.org/officeDocument/2006/relationships/image" Target="../media/image3.jpeg"/><Relationship Id="rId6" Type="http://schemas.openxmlformats.org/officeDocument/2006/relationships/hyperlink" Target="http://imagesearch.naver.com/search.naver?where=idetail&amp;query=%BC%AD%B9%F6&amp;a=dsi&amp;r=3&amp;u=http%3A%2F%2Fkm.naver.com%2Flist%2Fview_detail.php%3Fdir_id%3D50201%26docid%3D1644123" TargetMode="External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굴림"/>
              </a:rPr>
              <a:t>Deadline Assignment in a Distributed Soft Real-Time System</a:t>
            </a: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Ben Kao, Princeton Universit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Hector Garcia-Molina, Stanford Universit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Seok-hee Ha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DMC Lab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굴림"/>
              </a:rPr>
              <a:t>Base Model cont’d</a:t>
            </a: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430280" y="1600200"/>
            <a:ext cx="62834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굴림"/>
              </a:rPr>
              <a:t>Base Model cont’d</a:t>
            </a: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ask X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Deadline and slac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lexibilit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he more flexible a task is, the less stringent is its timing constrai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4491000" cy="1712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484360" y="4149720"/>
            <a:ext cx="3230640" cy="4302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843280" y="4869000"/>
            <a:ext cx="2403360" cy="4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굴림"/>
              </a:rPr>
              <a:t>Base Model cont’d</a:t>
            </a: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ask X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tag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The issue of tardy tasks (overload management policy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o abort X as soon as it misses its deadline, under the assumption that whatever it was doing is now useles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o continue to process X, under the assumption “better late than never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In this paper, we focus on the no abortion cas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979640" y="2637000"/>
            <a:ext cx="4778280" cy="4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굴림"/>
              </a:rPr>
              <a:t>SDA Strategies</a:t>
            </a: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Ultimate Deadline (UD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Problem with U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he time for the execution of a later-stage subtask (   ) is considered slack to an earlier stage (   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564000" y="2276640"/>
            <a:ext cx="1790640" cy="387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7502400" y="3311640"/>
          <a:ext cx="289080" cy="28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02400" y="3311640"/>
                    <a:ext cx="289080" cy="28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5889600" y="3595680"/>
          <a:ext cx="174600" cy="287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89600" y="3595680"/>
                    <a:ext cx="17460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굴림"/>
              </a:rPr>
              <a:t>SDA Strategies cont’d</a:t>
            </a: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Effective Deadline (ED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Problem common to both UD and E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ll the remaining slack of T is allocated to the currently active subtask (   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059280" y="2060640"/>
            <a:ext cx="2943000" cy="66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3613320" y="3589200"/>
          <a:ext cx="176040" cy="28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13320" y="3589200"/>
                    <a:ext cx="17604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굴림"/>
              </a:rPr>
              <a:t>SDA Strategies cont’d</a:t>
            </a: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Equal Slack (EQ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Each subtask should have its fair share of its global task’s slack to avoid discrimination and to allow enough slack for final-stage subtask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Equal Flexibility (EQF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ubtasks of the same global task do not have equal slack but equal flexibilit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6435720" cy="699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900000" y="4508640"/>
            <a:ext cx="758664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굴림"/>
              </a:rPr>
              <a:t>SDA strategies cont’d</a:t>
            </a: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31960" y="2057400"/>
            <a:ext cx="4964040" cy="2898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796000" y="2997360"/>
            <a:ext cx="260496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굴림"/>
              </a:rPr>
              <a:t>Simulation Model</a:t>
            </a: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Simple mod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Simulator is written in the simulation language DeNe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Each simulation experiment consists of two simulation runs, each lasting one million time units (at least 100,000 tasks are generated per run, many more for high load experiments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The 95% confidence interval is 0.35 percentage point for the missed deadlines figures shown in later section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굴림"/>
              </a:rPr>
              <a:t>Simulation Model cont’d</a:t>
            </a: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Nod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k (homogeneous) nod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earliest-deadline-first (EDF) with no preemp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Minimum-laxity-firs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he task with the least slack is served fir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굴림"/>
              </a:rPr>
              <a:t>Simulation Model cont’d</a:t>
            </a: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Local Task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Generated at each node according to a Poisson distribution with mean interarrival time          time uni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Total average arrival rate of k nodes :         per unit tim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Execution times of local tasks are exponentially distributed with mean           time uni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Rate of work 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Range of slack of local tasks 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084720" y="2349360"/>
          <a:ext cx="719280" cy="37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2349360"/>
                    <a:ext cx="719280" cy="37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6012000" y="2708280"/>
          <a:ext cx="647640" cy="38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2708280"/>
                    <a:ext cx="64764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3276720" y="3716280"/>
          <a:ext cx="1296720" cy="39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3716280"/>
                    <a:ext cx="129672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4140360" y="3357720"/>
          <a:ext cx="792000" cy="398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40360" y="3357720"/>
                    <a:ext cx="792000" cy="39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5219640" y="4076640"/>
          <a:ext cx="1081080" cy="393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219640" y="4076640"/>
                    <a:ext cx="108108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굴림"/>
              </a:rPr>
              <a:t>Contents</a:t>
            </a: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Background and Motiva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Goals and Contribution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lated Work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Base Mod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DA Strategi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imulation Mod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Other System Properti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굴림"/>
              </a:rPr>
              <a:t>Simulation Model cont’d</a:t>
            </a: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Global Task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Generated as a single stream of Poisson process with mean interarrival time         time unit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All global tasks consist of m subtask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Execution times of the subtasks all follow the same exponential distribution with mean equal to           time unit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Total execution times of global tasks follow an m-stage Erlang distribution with mean            time unit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Rate of work 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Assumption that nodes are equally likely to be chosen as the execution node of a subtas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Relative flexibility of global tasks with respect to local tasks 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Range of slacks of global tasks 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919760" y="3255840"/>
          <a:ext cx="649080" cy="26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9760" y="3255840"/>
                    <a:ext cx="64908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924360" y="3860640"/>
          <a:ext cx="792000" cy="29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24360" y="3860640"/>
                    <a:ext cx="792000" cy="2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132000" y="4149720"/>
          <a:ext cx="1224000" cy="30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2000" y="4149720"/>
                    <a:ext cx="1224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8072280" y="5095800"/>
          <a:ext cx="792360" cy="26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072280" y="5095800"/>
                    <a:ext cx="792360" cy="26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5076720" y="5762520"/>
          <a:ext cx="432000" cy="308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76720" y="5762520"/>
                    <a:ext cx="432000" cy="3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2268360" y="5373720"/>
          <a:ext cx="2210040" cy="482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68360" y="5373720"/>
                    <a:ext cx="221004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4859280" y="5300640"/>
          <a:ext cx="2209680" cy="482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59280" y="5300640"/>
                    <a:ext cx="220968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2340000" y="6021360"/>
          <a:ext cx="1828800" cy="432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340000" y="6021360"/>
                    <a:ext cx="18288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859280" y="6021360"/>
          <a:ext cx="1828800" cy="432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859280" y="6021360"/>
                    <a:ext cx="18288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203640" y="2349360"/>
          <a:ext cx="576360" cy="2732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203640" y="2349360"/>
                    <a:ext cx="576360" cy="2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굴림"/>
              </a:rPr>
              <a:t>Simulation Model cont’d</a:t>
            </a: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System Loa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Normalized loa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For a stable system, we hav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Frac_loca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5148360" y="3213000"/>
          <a:ext cx="1008000" cy="2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3213000"/>
                    <a:ext cx="1008000" cy="2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2627280" y="2565360"/>
          <a:ext cx="3168720" cy="58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7280" y="2565360"/>
                    <a:ext cx="316872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2556000" y="4005360"/>
          <a:ext cx="37447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56000" y="4005360"/>
                    <a:ext cx="37447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굴림"/>
              </a:rPr>
              <a:t>Simulation Model cont’d</a:t>
            </a: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681200" y="1600200"/>
            <a:ext cx="5411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굴림"/>
              </a:rPr>
              <a:t>Analysis</a:t>
            </a: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Baseline Experimen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High loa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Significant differen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ocal-local, local-global, and global-globa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 SDA strategy only affects subtask deadlines, not local tasks – local-global and global-globa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Light loa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ittle differen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굴림"/>
              </a:rPr>
              <a:t>Analysis cont’d</a:t>
            </a: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187280" y="1916280"/>
            <a:ext cx="6839280" cy="34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굴림"/>
              </a:rPr>
              <a:t>Analysis cont’d</a:t>
            </a: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UD vs EQF: Their different treatment of global task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965160" indent="-507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Figure 4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-457200">
              <a:spcBef>
                <a:spcPts val="451"/>
              </a:spcBef>
              <a:buClr>
                <a:srgbClr val="000000"/>
              </a:buClr>
              <a:buFont typeface="굴림"/>
              <a:buAutoNum type="roman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Under UD and high loads, global tasks miss many more deadlines than local task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3" marL="1828800" indent="-457200">
              <a:spcBef>
                <a:spcPts val="451"/>
              </a:spcBef>
              <a:buClr>
                <a:srgbClr val="000000"/>
              </a:buClr>
              <a:buFont typeface="굴림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Discrimination Hypothesi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4" marL="2284560" indent="-457200">
              <a:spcBef>
                <a:spcPts val="451"/>
              </a:spcBef>
              <a:buClr>
                <a:srgbClr val="000000"/>
              </a:buClr>
              <a:buFont typeface="굴림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UD would assign too much slack to early subtask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4" marL="2284560" indent="-457200">
              <a:spcBef>
                <a:spcPts val="451"/>
              </a:spcBef>
              <a:buClr>
                <a:srgbClr val="000000"/>
              </a:buClr>
              <a:buFont typeface="굴림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Figure 5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(II) Strategy EQF significantly improves the performance of global tasks (high load), but still local tasks have a better chance of meeting their deadline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- “fair playing field”, but global tasks somehow still hur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굴림"/>
              </a:rPr>
              <a:t>Analysis cont’d</a:t>
            </a: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24000" y="2276640"/>
            <a:ext cx="4248000" cy="31320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498920" y="2244600"/>
            <a:ext cx="439416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굴림"/>
              </a:rPr>
              <a:t>Analysis cont’d</a:t>
            </a: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Why                   ?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If there is no discrimination under EQF, why are global tasks still performing poorly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here are two phenomena affecting the series of subtask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Beneficial to global task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30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If one subtasks finishes early, its leftover slack is inherited by the subtasks that follow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30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Later subtasks will tend to have even more slac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Detrimental to tight task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30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If a global task has little slack to begin with, it may miss an early sub-deadline, robbing slack from the following subtasks, and making things even worse for the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30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he poor get poorer while the rich get richer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835280" y="1700280"/>
          <a:ext cx="1709640" cy="38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700280"/>
                    <a:ext cx="17096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굴림"/>
              </a:rPr>
              <a:t>Analysis cont’d</a:t>
            </a: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037200" cy="35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굴림"/>
              </a:rPr>
              <a:t>Analysis cont’d</a:t>
            </a: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e effect of slack and the number of subtasks of a global task (m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To evaluate the gains of EQF over U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굴림"/>
              </a:rPr>
              <a:t>Background</a:t>
            </a: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Distributed Soft Real-Time System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Radar Surveillance System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9640" y="3213000"/>
            <a:ext cx="1657440" cy="8575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3429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076720" y="3429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020000" y="342900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411280" y="4005360"/>
            <a:ext cx="57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4211640" y="4005360"/>
            <a:ext cx="574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156360" y="4005360"/>
            <a:ext cx="574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870480" y="443700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ada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2851560" y="443700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Vision syste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5036040" y="443700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3164040" y="285264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굴림"/>
              </a:rPr>
              <a:t>Subtas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716400" y="285264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굴림"/>
              </a:rPr>
              <a:t>Subtas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5037480" y="285264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굴림"/>
              </a:rPr>
              <a:t>Subtas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6909120" y="2852640"/>
            <a:ext cx="10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굴림"/>
              </a:rPr>
              <a:t>Subtas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6588000" y="4437000"/>
            <a:ext cx="18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Expert syste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굴림"/>
              </a:rPr>
              <a:t>Analysis cont’d</a:t>
            </a: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767640" cy="2880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187280" y="4194000"/>
            <a:ext cx="6769440" cy="2664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042920" y="4194000"/>
            <a:ext cx="6913800" cy="26640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4"/>
          <a:stretch/>
        </p:blipFill>
        <p:spPr>
          <a:xfrm>
            <a:off x="1042920" y="4076640"/>
            <a:ext cx="69138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굴림"/>
              </a:rPr>
              <a:t>Other System Properties</a:t>
            </a: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Previous assumption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Tardy tasks are not aborte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The local scheduling algorithm is EDF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Perfect execution time information is availabl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elax these assumption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Perfect prediction of execution tim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random noise” for performance sensitivity to estimate error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640" y="4581360"/>
            <a:ext cx="8064720" cy="1033560"/>
            <a:chOff x="539640" y="4581360"/>
            <a:chExt cx="8064720" cy="1033560"/>
          </a:xfrm>
        </p:grpSpPr>
        <p:pic>
          <p:nvPicPr>
            <p:cNvPr id="220" name="" descr=""/>
            <p:cNvPicPr/>
            <p:nvPr/>
          </p:nvPicPr>
          <p:blipFill>
            <a:blip r:embed="rId1"/>
            <a:stretch/>
          </p:blipFill>
          <p:spPr>
            <a:xfrm>
              <a:off x="539640" y="4581360"/>
              <a:ext cx="8064720" cy="1033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굴림"/>
              </a:rPr>
              <a:t>Other System Properties cont’d</a:t>
            </a: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Relax these assumption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Tardy task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Modify simulator to abort tardy task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Abortion helps lower the percentage of missed deadlines in general regardless of the SDA policy, but not significant chang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Early-Deadline-First scheduler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Minumum-laxity-first schedul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Figure 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Similar result as EDF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굴림"/>
              </a:rPr>
              <a:t>Other System Properties cont’d</a:t>
            </a: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79280" y="2276640"/>
            <a:ext cx="3961080" cy="27619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4175280" y="2133720"/>
            <a:ext cx="496872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굴림"/>
              </a:rPr>
              <a:t>Conclusion</a:t>
            </a: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Main advantage of U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The final deadline of a global task is only or schedul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EQF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Fewer global tasks miss deadlines, because of distributing the slack of a global task more “fairly” among its subtask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However, global tasks still miss more deadlines than local on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he SDA problem is an important one in the design of open syste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uture wor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Modification to EQF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It would control the extent of slack variability, perhaps by giving subtasks of tight global tasks less slack than EQF would giv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굴림"/>
              </a:rPr>
              <a:t>Background cont’d</a:t>
            </a: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Deadline Assignmen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Overall Deadline (global deadline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Defined in specific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Guaranteeing all deadlines may be hard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Not sure that maximum tasks will never be exceede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asks are complex and hard to predict exactly how long they will run or what resources they may nee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334120" y="2577960"/>
          <a:ext cx="3809880" cy="25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577960"/>
                    <a:ext cx="3809880" cy="25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굴림"/>
              </a:rPr>
              <a:t>Background cont’d</a:t>
            </a: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ubtask Deadline Assignment (SDA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As each subtask is submitted to its component, a local deadline must be assigned to i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Assumption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he subtask deadlines are to be assigned on-lin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he scheduler at each component is independent of the other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Each system component is uniqu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굴림"/>
              </a:rPr>
              <a:t>Motivation</a:t>
            </a: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e problem of how a global deadline is automatically translated to the deadline of each individual subtask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굴림"/>
              </a:rPr>
              <a:t>Goals and Contributions</a:t>
            </a: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To define four SDA strategies and choose the most efficient one for various environment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To be minimize the number of missed deadlin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Contribution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Propose four SDA Strategies and give their formal defini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cc0000"/>
                </a:solidFill>
                <a:latin typeface="굴림"/>
              </a:rPr>
              <a:t>Related Works</a:t>
            </a: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he research of scheduling subtasks in a hard real-time distributed environmen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Bettati and Liu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he research of “bias” against longer transactions under “earliest-deadline-based” scheduling policies in real-time database system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Pang, Livny, and Care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굴림"/>
              </a:rPr>
              <a:t>Base Model</a:t>
            </a:r>
            <a:endParaRPr b="1" lang="en-US" sz="3200" spc="-1" strike="noStrike">
              <a:solidFill>
                <a:srgbClr val="cc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Nod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ystem component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Ex) a database, a cycle server, or a communication chann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Real-time scheduler, (e.g., EDF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Local tas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Global tas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Process manage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Assume that the process manager of a global task does not consume any resources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08:57:44Z</dcterms:created>
  <dc:creator>shhan</dc:creator>
  <dc:description/>
  <dc:language>en-US</dc:language>
  <cp:lastModifiedBy>shhan</cp:lastModifiedBy>
  <dcterms:modified xsi:type="dcterms:W3CDTF">2006-11-02T09:24:04Z</dcterms:modified>
  <cp:revision>43</cp:revision>
  <dc:subject/>
  <dc:title>Deadline Assignment in a Distributed Soft Real-Time System</dc:title>
</cp:coreProperties>
</file>