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28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7.wmf" ContentType="image/x-wmf"/>
  <Override PartName="/ppt/media/image15.wmf" ContentType="image/x-wmf"/>
  <Override PartName="/ppt/media/image23.png" ContentType="image/png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2D581-8860-4714-8545-97706F592A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2CE30-BC4E-4A8D-AED7-C9CB5DFE10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9CAAA-6E85-4764-87BF-1D42F77FC7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747C-E23E-45AA-B451-3ED679E205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35BC1-E61E-4C65-ABE6-66E7DE13B6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E108B-9687-4E71-810F-47E6AA3371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A8A6D-F3F4-49BE-BB16-8EBE9982AD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8DBD1-46EE-48E5-AB83-4B84CF3BD1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D25DC-23A0-4F84-8C48-0CC65994F4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E5741-CD5E-4C71-8C94-657F7F2049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EB8BE-99CE-46C2-B9E5-8EA76A5055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24DE-014A-430E-86DE-018E09A312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477120"/>
            <a:ext cx="7772400" cy="176040"/>
          </a:xfrm>
          <a:prstGeom prst="rect">
            <a:avLst/>
          </a:prstGeom>
          <a:gradFill rotWithShape="0">
            <a:gsLst>
              <a:gs pos="0">
                <a:srgbClr val="efefff"/>
              </a:gs>
              <a:gs pos="100000">
                <a:srgbClr val="00008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433440"/>
            <a:ext cx="7772400" cy="176040"/>
          </a:xfrm>
          <a:prstGeom prst="rect">
            <a:avLst/>
          </a:prstGeom>
          <a:gradFill rotWithShape="0">
            <a:gsLst>
              <a:gs pos="0">
                <a:srgbClr val="00008c"/>
              </a:gs>
              <a:gs pos="100000">
                <a:srgbClr val="efe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4000" y="63381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48D24-3046-48F9-BCA6-27BB714A18AD}" type="slidenum"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33440"/>
            <a:ext cx="7772400" cy="176040"/>
          </a:xfrm>
          <a:prstGeom prst="rect">
            <a:avLst/>
          </a:prstGeom>
          <a:gradFill rotWithShape="0">
            <a:gsLst>
              <a:gs pos="0">
                <a:srgbClr val="00008c"/>
              </a:gs>
              <a:gs pos="100000">
                <a:srgbClr val="efe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477120"/>
            <a:ext cx="7772400" cy="176040"/>
          </a:xfrm>
          <a:prstGeom prst="rect">
            <a:avLst/>
          </a:prstGeom>
          <a:gradFill rotWithShape="0">
            <a:gsLst>
              <a:gs pos="0">
                <a:srgbClr val="efefff"/>
              </a:gs>
              <a:gs pos="100000">
                <a:srgbClr val="00008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1C50-CBBF-4CDC-BBDE-0788A19DDA01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736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7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7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Guaranteeing Real-Time Requirements With Resource-Based Calibration of Periodic Processes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chard Gerber, Seongsoo Hong, and Manas Saks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 Jaehye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mc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Harmonicity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ask 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harmonic with respect to a task </a:t>
            </a:r>
            <a:r>
              <a:rPr b="1" i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τ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xactly divisible b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epresented as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6315120" y="3397320"/>
                <a:ext cx="476280" cy="9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eriving the Constraint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ing Correlation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sampling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specialized samp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s</a:t>
            </a:r>
            <a:r>
              <a:rPr b="1" i="1" lang="en-US" sz="1000" spc="-1" strike="noStrike">
                <a:solidFill>
                  <a:srgbClr val="000000"/>
                </a:solidFill>
                <a:latin typeface="Palatino"/>
              </a:rPr>
              <a:t>l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 – O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s</a:t>
            </a:r>
            <a:r>
              <a:rPr b="1" i="1" lang="en-US" sz="1000" spc="-1" strike="noStrike">
                <a:solidFill>
                  <a:srgbClr val="000000"/>
                </a:solidFill>
                <a:latin typeface="Palatino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  <a:ea typeface="Arial"/>
              </a:rPr>
              <a:t>≤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 t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 c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eriving the Constraint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2760" y="1687680"/>
            <a:ext cx="4578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eriving the Constraint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ing Freshness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type of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ecution time, Transmission lat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mission latency can be solve by harmoni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n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 – O</a:t>
            </a:r>
            <a:r>
              <a:rPr b="1" i="1" lang="en-US" sz="1200" spc="-1" strike="noStrike">
                <a:solidFill>
                  <a:srgbClr val="000000"/>
                </a:solidFill>
                <a:latin typeface="Palatino"/>
              </a:rPr>
              <a:t>1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  <a:ea typeface="Arial"/>
              </a:rPr>
              <a:t>≤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i="1" lang="el-GR" sz="2400" spc="-1" strike="noStrike">
                <a:solidFill>
                  <a:srgbClr val="000000"/>
                </a:solidFill>
                <a:latin typeface="Palatino"/>
                <a:ea typeface="Arial"/>
              </a:rPr>
              <a:t>τ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 &lt; O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i+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eriving the Constraint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46280" y="1716120"/>
            <a:ext cx="621360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eriving the Constraint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319480" y="4602240"/>
            <a:ext cx="4624200" cy="866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892600" y="1457280"/>
            <a:ext cx="31780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eriving the Constraint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Separation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alatino"/>
              </a:rPr>
              <a:t>(T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Palatino"/>
              </a:rPr>
              <a:t> +D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Palatino"/>
              </a:rPr>
              <a:t>) – O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Palatino"/>
                <a:ea typeface="Arial"/>
              </a:rPr>
              <a:t>≤</a:t>
            </a:r>
            <a:r>
              <a:rPr b="1" i="1" lang="en-US" sz="2400" spc="-1" strike="noStrike">
                <a:solidFill>
                  <a:srgbClr val="000000"/>
                </a:solidFill>
                <a:latin typeface="Palatino"/>
              </a:rPr>
              <a:t> u(Y)   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and   </a:t>
            </a:r>
            <a:r>
              <a:rPr b="1" i="1" lang="en-US" sz="2400" spc="-1" strike="noStrike">
                <a:solidFill>
                  <a:srgbClr val="000000"/>
                </a:solidFill>
                <a:latin typeface="Palatino"/>
              </a:rPr>
              <a:t> (T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i </a:t>
            </a:r>
            <a:r>
              <a:rPr b="1" i="1" lang="en-US" sz="2400" spc="-1" strike="noStrike">
                <a:solidFill>
                  <a:srgbClr val="000000"/>
                </a:solidFill>
                <a:latin typeface="Palatino"/>
              </a:rPr>
              <a:t>– D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Palatino"/>
              </a:rPr>
              <a:t>) + O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Palatino"/>
                <a:ea typeface="Arial"/>
              </a:rPr>
              <a:t>≥</a:t>
            </a:r>
            <a:r>
              <a:rPr b="1" i="1" lang="en-US" sz="2400" spc="-1" strike="noStrike">
                <a:solidFill>
                  <a:srgbClr val="000000"/>
                </a:solidFill>
                <a:latin typeface="Palatino"/>
              </a:rPr>
              <a:t> l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68600" y="2114640"/>
            <a:ext cx="4302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eriving the Constraint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ion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task needs sufficient time to exec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O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 + e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  <a:ea typeface="Arial"/>
              </a:rPr>
              <a:t>≤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 D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,   O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  <a:ea typeface="Arial"/>
              </a:rPr>
              <a:t>≥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 0    D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  <a:ea typeface="Arial"/>
              </a:rPr>
              <a:t>≤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 T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O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h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 + E 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  <a:ea typeface="Arial"/>
              </a:rPr>
              <a:t>≤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 D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,    D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t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  <a:ea typeface="Arial"/>
              </a:rPr>
              <a:t>≤</a:t>
            </a:r>
            <a:r>
              <a:rPr b="1" i="1" lang="en-US" sz="2000" spc="-1" strike="noStrike">
                <a:solidFill>
                  <a:srgbClr val="000000"/>
                </a:solidFill>
                <a:latin typeface="Palatino"/>
              </a:rPr>
              <a:t> T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onstraint Solver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587680" y="2206800"/>
            <a:ext cx="396720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liminations of Offset and Deadline Variables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offset and dea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795760" y="2448000"/>
            <a:ext cx="3800160" cy="555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138480" y="3452760"/>
            <a:ext cx="305136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굴림"/>
              </a:rPr>
              <a:t>Content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ing the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aint S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liminations of Offset and Deadline Variables</a:t>
            </a: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79400" y="1989000"/>
            <a:ext cx="7634520" cy="13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Arial"/>
              </a:rPr>
              <a:t>ĉ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→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Arial"/>
              </a:rPr>
              <a:t>č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474920" y="2028960"/>
            <a:ext cx="591660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Arial"/>
              </a:rPr>
              <a:t>ĉ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→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Arial"/>
              </a:rPr>
              <a:t>č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c Chain Mer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 chains of processes and solve for their base peri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D Parent Pru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greatest-common-divisor for the entire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ation-Based Pru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solution set not exceeds CPU utilization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CM Child Pru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task periods by LCM information and find offsets and dead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Harmonic Chain Merging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task </a:t>
            </a:r>
            <a:r>
              <a:rPr b="1" i="1" lang="el-GR" sz="2800" spc="-1" strike="noStrike">
                <a:solidFill>
                  <a:srgbClr val="000000"/>
                </a:solidFill>
                <a:latin typeface="Palatino"/>
                <a:ea typeface="Arial"/>
              </a:rPr>
              <a:t>τ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cutes with period </a:t>
            </a:r>
            <a:r>
              <a:rPr b="1" i="1" lang="en-US" sz="2400" spc="-1" strike="noStrike">
                <a:solidFill>
                  <a:srgbClr val="000000"/>
                </a:solidFill>
                <a:latin typeface="Palatino"/>
              </a:rPr>
              <a:t>T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if some </a:t>
            </a:r>
            <a:r>
              <a:rPr b="1" i="1" lang="el-GR" sz="2800" spc="-1" strike="noStrike">
                <a:solidFill>
                  <a:srgbClr val="000000"/>
                </a:solidFill>
                <a:latin typeface="Palatino"/>
                <a:ea typeface="Arial"/>
              </a:rPr>
              <a:t>τ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P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l-GR" sz="2800" spc="-1" strike="noStrike">
                <a:solidFill>
                  <a:srgbClr val="000000"/>
                </a:solidFill>
                <a:latin typeface="Palatino"/>
                <a:ea typeface="Arial"/>
              </a:rPr>
              <a:t>τ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 has the property that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Suc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l-GR" sz="2800" spc="-1" strike="noStrike">
                <a:solidFill>
                  <a:srgbClr val="000000"/>
                </a:solidFill>
                <a:latin typeface="Palatino"/>
                <a:ea typeface="Arial"/>
              </a:rPr>
              <a:t>τ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 = {</a:t>
            </a:r>
            <a:r>
              <a:rPr b="1" i="1" lang="el-GR" sz="2800" spc="-1" strike="noStrike">
                <a:solidFill>
                  <a:srgbClr val="000000"/>
                </a:solidFill>
                <a:latin typeface="Palatino"/>
                <a:ea typeface="Arial"/>
              </a:rPr>
              <a:t>τ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}, then </a:t>
            </a:r>
            <a:r>
              <a:rPr b="1" i="1" lang="el-GR" sz="2800" spc="-1" strike="noStrike">
                <a:solidFill>
                  <a:srgbClr val="000000"/>
                </a:solidFill>
                <a:latin typeface="Palatino"/>
                <a:ea typeface="Arial"/>
              </a:rPr>
              <a:t>τ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uld also execute with period </a:t>
            </a:r>
            <a:r>
              <a:rPr b="1" i="1" lang="en-US" sz="2400" spc="-1" strike="noStrike">
                <a:solidFill>
                  <a:srgbClr val="000000"/>
                </a:solidFill>
                <a:latin typeface="Palatino"/>
              </a:rPr>
              <a:t>T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Harmonic Chain Merging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ask </a:t>
            </a:r>
            <a:r>
              <a:rPr b="1" i="1" lang="el-GR" sz="2800" spc="-1" strike="noStrike">
                <a:solidFill>
                  <a:srgbClr val="000000"/>
                </a:solidFill>
                <a:latin typeface="Palatino"/>
                <a:ea typeface="Arial"/>
              </a:rPr>
              <a:t>τ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use a period that betw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1: If a vertex </a:t>
            </a:r>
            <a:r>
              <a:rPr b="1" i="1" lang="el-GR" sz="2800" spc="-1" strike="noStrike">
                <a:solidFill>
                  <a:srgbClr val="000000"/>
                </a:solidFill>
                <a:latin typeface="Palatino"/>
                <a:ea typeface="Arial"/>
              </a:rPr>
              <a:t>τ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a single outgoing edge t_i -&gt; </a:t>
            </a:r>
            <a:r>
              <a:rPr b="1" i="1" lang="el-GR" sz="2800" spc="-1" strike="noStrike">
                <a:solidFill>
                  <a:srgbClr val="000000"/>
                </a:solidFill>
                <a:latin typeface="Palatino"/>
                <a:ea typeface="Arial"/>
              </a:rPr>
              <a:t>τ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1" i="1" lang="el-GR" sz="2800" spc="-1" strike="noStrike">
                <a:solidFill>
                  <a:srgbClr val="000000"/>
                </a:solidFill>
                <a:latin typeface="Palatino"/>
                <a:ea typeface="Arial"/>
              </a:rPr>
              <a:t>τ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merged with </a:t>
            </a:r>
            <a:r>
              <a:rPr b="1" i="1" lang="el-GR" sz="2800" spc="-1" strike="noStrike">
                <a:solidFill>
                  <a:srgbClr val="000000"/>
                </a:solidFill>
                <a:latin typeface="Palatino"/>
                <a:ea typeface="Arial"/>
              </a:rPr>
              <a:t>τ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2: If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Suc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l-GR" sz="2800" spc="-1" strike="noStrike">
                <a:solidFill>
                  <a:srgbClr val="000000"/>
                </a:solidFill>
                <a:latin typeface="Palatino"/>
                <a:ea typeface="Arial"/>
              </a:rPr>
              <a:t>τ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 &lt;&lt;- (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Suc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l-GR" sz="2800" spc="-1" strike="noStrike">
                <a:solidFill>
                  <a:srgbClr val="000000"/>
                </a:solidFill>
                <a:latin typeface="Palatino"/>
                <a:ea typeface="Arial"/>
              </a:rPr>
              <a:t>τ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 &lt; {</a:t>
            </a:r>
            <a:r>
              <a:rPr b="1" i="1" lang="el-GR" sz="2800" spc="-1" strike="noStrike">
                <a:solidFill>
                  <a:srgbClr val="000000"/>
                </a:solidFill>
                <a:latin typeface="Palatino"/>
                <a:ea typeface="Arial"/>
              </a:rPr>
              <a:t>τ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}) for some edge </a:t>
            </a:r>
            <a:r>
              <a:rPr b="1" i="1" lang="el-GR" sz="2800" spc="-1" strike="noStrike">
                <a:solidFill>
                  <a:srgbClr val="000000"/>
                </a:solidFill>
                <a:latin typeface="Palatino"/>
                <a:ea typeface="Arial"/>
              </a:rPr>
              <a:t>τ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&gt; </a:t>
            </a:r>
            <a:r>
              <a:rPr b="1" i="1" lang="el-GR" sz="2800" spc="-1" strike="noStrike">
                <a:solidFill>
                  <a:srgbClr val="000000"/>
                </a:solidFill>
                <a:latin typeface="Palatino"/>
                <a:ea typeface="Arial"/>
              </a:rPr>
              <a:t>τ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then </a:t>
            </a:r>
            <a:r>
              <a:rPr b="1" i="1" lang="el-GR" sz="2800" spc="-1" strike="noStrike">
                <a:solidFill>
                  <a:srgbClr val="000000"/>
                </a:solidFill>
                <a:latin typeface="Palatino"/>
                <a:ea typeface="Arial"/>
              </a:rPr>
              <a:t>τ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merged with </a:t>
            </a:r>
            <a:r>
              <a:rPr b="1" i="1" lang="el-GR" sz="2800" spc="-1" strike="noStrike">
                <a:solidFill>
                  <a:srgbClr val="000000"/>
                </a:solidFill>
                <a:latin typeface="Palatino"/>
                <a:ea typeface="Arial"/>
              </a:rPr>
              <a:t>τ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506680" y="2271600"/>
            <a:ext cx="328752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Harmonic Chain Merging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76240" y="2479680"/>
            <a:ext cx="520560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CD parent Pruning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periods that can be GCD for each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55760" y="2548080"/>
            <a:ext cx="4497480" cy="14792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222640" y="4545000"/>
            <a:ext cx="429552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Utilization-Based Pruning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154320" y="1913040"/>
            <a:ext cx="2728800" cy="4032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3094200" y="2535120"/>
            <a:ext cx="2814480" cy="5540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195800" y="3368520"/>
            <a:ext cx="770040" cy="474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3290760" y="4173480"/>
            <a:ext cx="2441880" cy="784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5"/>
          <a:stretch/>
        </p:blipFill>
        <p:spPr>
          <a:xfrm>
            <a:off x="3871800" y="5386320"/>
            <a:ext cx="1433520" cy="2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LCM Child-Pruning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LC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638440" y="2338560"/>
            <a:ext cx="356544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eriving Offsets and Deadline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, assign windows for each input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the offsets for each task followed by dea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remained deadlines by reverse topological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) { 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W</a:t>
            </a:r>
            <a:r>
              <a:rPr b="0" i="1" lang="en-US" sz="1400" spc="-1" strike="noStrike">
                <a:solidFill>
                  <a:srgbClr val="000000"/>
                </a:solidFill>
                <a:latin typeface="Palatino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, W</a:t>
            </a:r>
            <a:r>
              <a:rPr b="0" i="1" lang="en-US" sz="1400" spc="-1" strike="noStrike">
                <a:solidFill>
                  <a:srgbClr val="000000"/>
                </a:solidFill>
                <a:latin typeface="Palatino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, W</a:t>
            </a:r>
            <a:r>
              <a:rPr b="0" i="1" lang="en-US" sz="1400" spc="-1" strike="noStrike">
                <a:solidFill>
                  <a:srgbClr val="000000"/>
                </a:solidFill>
                <a:latin typeface="Palatino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, O</a:t>
            </a:r>
            <a:r>
              <a:rPr b="0" i="1" lang="en-US" sz="1400" spc="-1" strike="noStrike">
                <a:solidFill>
                  <a:srgbClr val="000000"/>
                </a:solidFill>
                <a:latin typeface="Palatino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, D</a:t>
            </a:r>
            <a:r>
              <a:rPr b="0" i="1" lang="en-US" sz="1400" spc="-1" strike="noStrike">
                <a:solidFill>
                  <a:srgbClr val="000000"/>
                </a:solidFill>
                <a:latin typeface="Palatino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, D</a:t>
            </a:r>
            <a:r>
              <a:rPr b="0" i="1" lang="en-US" sz="1400" spc="-1" strike="noStrike">
                <a:solidFill>
                  <a:srgbClr val="000000"/>
                </a:solidFill>
                <a:latin typeface="Palatino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, D</a:t>
            </a:r>
            <a:r>
              <a:rPr b="0" i="1" lang="en-US" sz="1400" spc="-1" strike="noStrike">
                <a:solidFill>
                  <a:srgbClr val="000000"/>
                </a:solidFill>
                <a:latin typeface="Palatino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, D</a:t>
            </a:r>
            <a:r>
              <a:rPr b="0" i="1" lang="en-US" sz="1200" spc="-1" strike="noStrike">
                <a:solidFill>
                  <a:srgbClr val="000000"/>
                </a:solidFill>
                <a:latin typeface="Palatino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, D</a:t>
            </a:r>
            <a:r>
              <a:rPr b="0" i="1" lang="en-US" sz="1400" spc="-1" strike="noStrike">
                <a:solidFill>
                  <a:srgbClr val="000000"/>
                </a:solidFill>
                <a:latin typeface="Palatino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Palatino"/>
              </a:rPr>
              <a:t>, D</a:t>
            </a:r>
            <a:r>
              <a:rPr b="0" i="1" lang="en-US" sz="14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46280" y="4227480"/>
            <a:ext cx="400392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7808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굴림"/>
              </a:rPr>
              <a:t>Abstrac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s a comprehensi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 methodolo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guarantee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-to-end requir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real-time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constant -&gt; solve -&gt; restructure -&gt; schedulable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Feasible schedule for exampl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47720" y="2259000"/>
            <a:ext cx="766440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raph Transformat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onstraint-solver fails, replicating part of a task graph my often prove useful in reducing the system’s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educe utilization, select a producer/consumer pair with the maximum period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chieve feasibility, get feedback from constraint solver that the point of infea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raph Transformat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74920" y="1488960"/>
            <a:ext cx="1749240" cy="3103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913280" y="1511280"/>
            <a:ext cx="3218040" cy="3700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639960" y="2995560"/>
            <a:ext cx="784440" cy="0"/>
          </a:xfrm>
          <a:prstGeom prst="line">
            <a:avLst/>
          </a:prstGeom>
          <a:ln cap="sq"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265480" y="5154480"/>
            <a:ext cx="421308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uffer Allocat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buffer size and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ta object d is implemented with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 = L/T</a:t>
            </a: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ducer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ircularly writes into each buffer, one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sumer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reads circularly from slots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(0, T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/ T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c1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, …, m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  <a:ea typeface="Arial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ci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/ T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 = L/ T</a:t>
            </a:r>
            <a:r>
              <a:rPr b="1" i="1" lang="en-US" sz="1400" spc="-1" strike="noStrike">
                <a:solidFill>
                  <a:srgbClr val="000000"/>
                </a:solidFill>
                <a:latin typeface="Palatino"/>
              </a:rPr>
              <a:t>ci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Buffer Allocat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ods of </a:t>
            </a:r>
            <a:r>
              <a:rPr b="1" i="1" lang="el-GR" sz="2800" spc="-1" strike="noStrike">
                <a:solidFill>
                  <a:srgbClr val="000000"/>
                </a:solidFill>
                <a:latin typeface="Palatino"/>
                <a:ea typeface="Arial"/>
              </a:rPr>
              <a:t>τ</a:t>
            </a:r>
            <a:r>
              <a:rPr b="1" i="1" lang="en-US" sz="1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l-GR" sz="2800" spc="-1" strike="noStrike">
                <a:solidFill>
                  <a:srgbClr val="000000"/>
                </a:solidFill>
                <a:latin typeface="Palatino"/>
                <a:ea typeface="Arial"/>
              </a:rPr>
              <a:t>τ</a:t>
            </a:r>
            <a:r>
              <a:rPr b="1" i="1" lang="en-US" sz="1200" spc="-1" strike="noStrike">
                <a:solidFill>
                  <a:srgbClr val="000000"/>
                </a:solidFill>
                <a:latin typeface="Palatino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l-GR" sz="2800" spc="-1" strike="noStrike">
                <a:solidFill>
                  <a:srgbClr val="000000"/>
                </a:solidFill>
                <a:latin typeface="Palatino"/>
                <a:ea typeface="Arial"/>
              </a:rPr>
              <a:t>τ</a:t>
            </a:r>
            <a:r>
              <a:rPr b="1" i="1" lang="en-US" sz="1200" spc="-1" strike="noStrike">
                <a:solidFill>
                  <a:srgbClr val="000000"/>
                </a:solidFill>
                <a:latin typeface="Palatino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14, 26, 3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= LCM(28,42) /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Palatino"/>
                <a:ea typeface="Arial"/>
              </a:rPr>
              <a:t>τ</a:t>
            </a:r>
            <a:r>
              <a:rPr b="1" i="1" lang="en-US" sz="1200" spc="-1" strike="noStrike">
                <a:solidFill>
                  <a:srgbClr val="000000"/>
                </a:solidFill>
                <a:latin typeface="Palatino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d slots (0, 2,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Palatino"/>
                <a:ea typeface="Arial"/>
              </a:rPr>
              <a:t>τ</a:t>
            </a:r>
            <a:r>
              <a:rPr b="1" i="1" lang="en-US" sz="1200" spc="-1" strike="noStrike">
                <a:solidFill>
                  <a:srgbClr val="000000"/>
                </a:solidFill>
                <a:latin typeface="Palatino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d slots (0,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51640" y="3284640"/>
            <a:ext cx="163512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model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ionics, robotics, control and multimedia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to a wider spectrum of timing con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uiz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xample utilization-based pruning, w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elec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Freshness, Correlation, and Sepa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459240" y="2206800"/>
            <a:ext cx="2233440" cy="33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ntroduct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 the timing constraints in their end-to-end form for as long as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ructure and resub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ain of Applic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shness … F(Y|X)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lation … C(Y|X1,X2)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ion … l(Y) = 3, u(Y) = 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single CPU, specified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ntroduction (contd.)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90520" y="1573200"/>
            <a:ext cx="460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 and Solution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of extern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of outpu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to-end 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of intermediate component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3619440" y="2335320"/>
                <a:ext cx="126864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 X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, X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386240" y="2660760"/>
                <a:ext cx="139716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 Y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, Y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222880" y="2967120"/>
                <a:ext cx="100008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τ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 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 , </m:t>
                        </m:r>
                        <m:r>
                          <m:t xml:space="preserve">τ</m:t>
                        </m:r>
                        <m:r>
                          <m:t xml:space="preserve">l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synchronous Task Graph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305080" y="2206800"/>
            <a:ext cx="453384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 small Exampl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516040" y="2498760"/>
            <a:ext cx="435456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Problem Component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system behaviors that satisfy C also satisfy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ation never exceeds 10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iciently maintain the intermediate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verview of Solut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24160" y="2075040"/>
            <a:ext cx="6392520" cy="30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2T20:13:57Z</dcterms:created>
  <dc:creator>Marilyn Turnamian</dc:creator>
  <dc:description/>
  <dc:language>en-US</dc:language>
  <cp:lastModifiedBy>syia</cp:lastModifiedBy>
  <cp:lastPrinted>2001-06-14T19:17:20Z</cp:lastPrinted>
  <dcterms:modified xsi:type="dcterms:W3CDTF">2006-11-02T12:05:09Z</dcterms:modified>
  <cp:revision>137</cp:revision>
  <dc:subject/>
  <dc:title>Figure 9.01</dc:title>
</cp:coreProperties>
</file>