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66BCF-3BF9-4AA2-85C9-6EA568B6BB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18A5-0B65-4FEA-98F4-38CB5B1BEF8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24280-DBFB-46E1-996F-BEC28BC288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7EC48-4DC4-4102-BB8B-D94567F395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AAB3-13F2-46C9-A606-51DACAEC8B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C2ADF-E212-4F6F-AC27-DD53EDE408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E2F78-B4B5-489E-B034-BFFCB7C431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8B8D-A477-47EE-AA96-7BF326C3F0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66C7D-10BE-4B90-B2D2-8F512FEF15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04E6-1B48-4E4A-9193-BD07C7D50E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3E8A7-7A59-48BD-BDB1-16FE1C73AA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6BEDF-94EE-418B-A536-D3FE84473F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4000" y="6338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0BB-C15C-4C47-9839-A64822E6B9E9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450B-118C-4010-B0DC-4E8E0A19A69A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73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TP – A Time-Triggered Protocol for Fault-Tolerant Real-Time System</a:t>
            </a:r>
            <a:br>
              <a:rPr sz="28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uthor : H. Kopetz and G. Grunsteidl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78360" y="4067280"/>
            <a:ext cx="511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l-Time Computing and Communications L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nyang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eejin K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6.11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2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 form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of frame(SO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 identifies the beginning of a new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rol field has three subfie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 bit (I/N), Mode change field, Acknowledgment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field consists of the concatenation of one or more messages containing application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ic redundancy check (C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C has a length of two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rame delimiter(IF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FD is required for the proper bit synchronization of sender and rece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3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fram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306440" y="2273400"/>
            <a:ext cx="6815160" cy="33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4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C cal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RC calculation is different for Initialization frames (I-frames) and normal frames (N-fram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-frames the CRC field is calculated over the control field  concatenated with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e data field of th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N-frames the CRC field is calculated over the C-state of the controller concatenated with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e control field and the data field of the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5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TP provides the fault-tolerant internal synchronization of the local clocks to generate a global time-base of known pr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clock synchronization is performed without any overhead in frame length or frame number by applying the fault-tolerant average algorithm periodically, preferably with hardwar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6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 access is controlled by th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loba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hip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mbership service record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which FTU 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which FTU is inacti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embership points of the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n FTU has the right to transmit, it sets its own membership flag in th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urrent membership 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7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any point in time, the ensemble of FTUs operates in a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articular operating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FTU intends to change this operating mode, it alerts all other nodes about this mode change by specifying the successor mode in th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ode subfield of the control 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its next membership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changes are well-suited to react to sporadic events that require immediate service from the whole ensemble of F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159984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ndancy management and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8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3880" y="2300400"/>
            <a:ext cx="57452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9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ry blackout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out de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id blackout detection is performed by continuous monitoring of the membership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out moni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itor the membership to see if some other nodes start to re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out reco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the membership has stabilized a mode change to a global emergency service mode will be activ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characteristics (1/3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oral encapsulation of th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temporal encapsulation leads to significant improvements in the fields of testability, system simulation and determin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DMA sequence and the data formats of TTP are controlled by the mod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P allows the design of decompos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P has a predictable response time and an unrestricted length of the 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TP supports different redundant configuration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characteristics (2/3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55760" y="2031840"/>
            <a:ext cx="4549680" cy="44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a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at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characteristics (3/3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strictions on the signaling method emplo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st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al-ported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SI 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real-time control systems must suppor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ult toler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ust have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uaranteed respons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P provides all service that are needed for the implementation of a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ault-toler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-time system with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uaranteed time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-triggered (ET) architectu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activities are initiated as a consequence of the occurrence of ev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triggered (TT)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driven by the progression of global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T Architectures are less flexible but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asier to analy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o test than ET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me-Triggered Protocol is an integrated communication protocol for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ime-triggered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rchitectural characteristics (1/3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olerate the failure of a node, nodes can be replicated also and grouped into Fault Tolerant Units (F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node possesses a communication controller with two bidirectional communication ports, connected to the two replicated broadcast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rchitectural characteristics (2/3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hypothesis and system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ssume that node failures are of the fail-silent type and channel failures are omission failures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mission failure : A server omits to respond to a request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il-Silence : A subsystem is fail-silent if it either produces correct results or no results at all, i.e., it is quiet in case it cannot deliver the correct serv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figu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39880" y="2066760"/>
            <a:ext cx="4143240" cy="4314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137200" y="2409840"/>
            <a:ext cx="34225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Clas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Ⅰ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One node/FT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 frames/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宋体"/>
              </a:rPr>
              <a:t>Class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Ⅱ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wo active nodes/FT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2 frames/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lass Ⅲ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wo active nodes/FT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 frames/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Class Ⅳ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Two active no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One shadow node/FT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4 frames/F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rchitectural characteristics (3/3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objectiv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90480"/>
            <a:ext cx="77724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ssage transport with predictable low lat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mporary blackout hand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ock synchro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mbership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tributed redundancy manag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rt for rapid mod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imal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most flexibility without compromising predict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sign rational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4520" y="1379160"/>
            <a:ext cx="7984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arse tim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occurrence of significant events is restricted to the lattice points of a globally synchronized action lat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apriori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a time-triggered architecture much information about the behavior of the system is known a priori to all nodes of the en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receiver can only interpret the frame sent by a sender if sender and receiver agree about the controller state at the time of sending and rece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 sil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TP is based on the assumption that the communication channels have only omission failures and the nodes support the fail-silent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sign tradeo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TTP the design tradeoff between processing requirements at the nodes and bandwidth requirements of th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tocol description (1/9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ler state ( C-st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de field contains a systemwide unique identification of the current operational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ime field denotes current global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ship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mbership field indicates which FTU has been active and which FTU has been inactive at its last membership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>Marilyn Turnamian</dc:creator>
  <dc:description/>
  <dc:language>en-US</dc:language>
  <cp:lastModifiedBy>WinXP</cp:lastModifiedBy>
  <cp:lastPrinted>2001-06-14T19:17:20Z</cp:lastPrinted>
  <dcterms:modified xsi:type="dcterms:W3CDTF">2006-11-03T00:59:22Z</dcterms:modified>
  <cp:revision>138</cp:revision>
  <dc:subject/>
  <dc:title>Figure 9.01</dc:title>
</cp:coreProperties>
</file>