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725040" y="739800"/>
            <a:ext cx="534996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687560"/>
            <a:ext cx="4984560" cy="4444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EA01BC6D-A0F5-456A-9F5B-AE561ECADE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725400" y="738360"/>
            <a:ext cx="5353200" cy="370656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04680" y="4689000"/>
            <a:ext cx="4987800" cy="4443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imes New Roman"/>
              </a:rPr>
              <a:t>ANIMA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84FACB18-D36C-4E86-A402-336F501C49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b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725400" y="73980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Mpeg-4 simple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HUOM! Tässä on korostettava, että sovellus sopii SoCille mutta on luonteeltaan multiprosessori (katso extra-kalvo lopus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00F2-7366-4BA1-A776-01DCD417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1A99-73E4-4B47-9494-9BE0AB5F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40B2-9637-4080-9534-1AF5DD54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330A-270F-4C78-A40A-BF6B749E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C624-9D8E-4A26-B56F-67554EAC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4A74-5D12-4B37-8B1C-0C904893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D2F8-0BF5-467A-8BF6-6CFC4272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4BC-C83B-44A2-A590-37F5EC2C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5866-C372-4474-9604-F70F01AB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182D-5346-4B39-A3E8-E2F67C05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96D-FDFA-4B22-84F3-C41C29FE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C7DC-128D-4658-9BA0-810455FD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A648-B74C-4FA1-8770-481A623566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6120" cy="228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629400"/>
            <a:ext cx="9906120" cy="228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us Structures in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twork-on-C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Interconnect-Centric Design for Advanced SoC and NoC -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pter 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rno Sal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1.10.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4C1C-61A1-4B18-AB25-9182DBB735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rbitration / De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bitration decides which master can use the shared resource (e.g. b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ngle-master system does not need arbi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E.g. priority, round-robin, TD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wo-level : e.g. TDMA +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oding is needed to determine the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entral / Distrib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E757-1132-4020-83C1-EA608D53AB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ntralized / Distribu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1523880"/>
            <a:ext cx="762120" cy="1143000"/>
          </a:xfrm>
          <a:prstGeom prst="rect">
            <a:avLst/>
          </a:prstGeom>
          <a:solidFill>
            <a:srgbClr val="d9d9e5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791320" y="2742840"/>
            <a:ext cx="3047760" cy="1067040"/>
            <a:chOff x="5791320" y="2742840"/>
            <a:chExt cx="3047760" cy="1067040"/>
          </a:xfrm>
        </p:grpSpPr>
        <p:sp>
          <p:nvSpPr>
            <p:cNvPr id="306" name=""/>
            <p:cNvSpPr/>
            <p:nvPr/>
          </p:nvSpPr>
          <p:spPr>
            <a:xfrm>
              <a:off x="5791320" y="3429000"/>
              <a:ext cx="3047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6326280" y="2742840"/>
              <a:ext cx="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7316640" y="2742840"/>
              <a:ext cx="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8381880" y="2742840"/>
              <a:ext cx="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342900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924680" y="342900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7086600" y="2205000"/>
            <a:ext cx="762120" cy="461880"/>
          </a:xfrm>
          <a:prstGeom prst="rect">
            <a:avLst/>
          </a:prstGeom>
          <a:solidFill>
            <a:srgbClr val="66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rbiter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77320" y="1523880"/>
            <a:ext cx="761760" cy="1143000"/>
          </a:xfrm>
          <a:prstGeom prst="rect">
            <a:avLst/>
          </a:prstGeom>
          <a:solidFill>
            <a:srgbClr val="d9d9e5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77320" y="2205000"/>
            <a:ext cx="761760" cy="461880"/>
          </a:xfrm>
          <a:prstGeom prst="rect">
            <a:avLst/>
          </a:prstGeom>
          <a:solidFill>
            <a:srgbClr val="66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rbiter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3600" y="1523880"/>
            <a:ext cx="762120" cy="1143000"/>
          </a:xfrm>
          <a:prstGeom prst="rect">
            <a:avLst/>
          </a:prstGeom>
          <a:solidFill>
            <a:srgbClr val="d9d9e5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43600" y="2205000"/>
            <a:ext cx="762120" cy="461880"/>
          </a:xfrm>
          <a:prstGeom prst="rect">
            <a:avLst/>
          </a:prstGeom>
          <a:solidFill>
            <a:srgbClr val="66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rbiter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3080" y="3886200"/>
            <a:ext cx="763560" cy="1066680"/>
          </a:xfrm>
          <a:prstGeom prst="rect">
            <a:avLst/>
          </a:prstGeom>
          <a:solidFill>
            <a:srgbClr val="d9d9e5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553080" y="3886200"/>
            <a:ext cx="763560" cy="479520"/>
          </a:xfrm>
          <a:prstGeom prst="rect">
            <a:avLst/>
          </a:prstGeom>
          <a:solidFill>
            <a:srgbClr val="66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rbiter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67480" y="3886200"/>
            <a:ext cx="762120" cy="1066680"/>
          </a:xfrm>
          <a:prstGeom prst="rect">
            <a:avLst/>
          </a:prstGeom>
          <a:solidFill>
            <a:srgbClr val="d9d9e5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467480" y="3886200"/>
            <a:ext cx="762120" cy="479520"/>
          </a:xfrm>
          <a:prstGeom prst="rect">
            <a:avLst/>
          </a:prstGeom>
          <a:solidFill>
            <a:srgbClr val="66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rbiter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373040" y="2437920"/>
            <a:ext cx="2360880" cy="228960"/>
            <a:chOff x="1373040" y="2437920"/>
            <a:chExt cx="2360880" cy="228960"/>
          </a:xfrm>
        </p:grpSpPr>
        <p:sp>
          <p:nvSpPr>
            <p:cNvPr id="322" name=""/>
            <p:cNvSpPr/>
            <p:nvPr/>
          </p:nvSpPr>
          <p:spPr>
            <a:xfrm>
              <a:off x="1373040" y="2666880"/>
              <a:ext cx="236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1373040" y="24379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2286720" y="243792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3353040" y="2437920"/>
              <a:ext cx="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86720" y="2590560"/>
              <a:ext cx="144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53040" y="25142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87960" y="5150880"/>
            <a:ext cx="93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 = 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 = sl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762120" y="1600200"/>
            <a:ext cx="4144680" cy="1371600"/>
            <a:chOff x="762120" y="1600200"/>
            <a:chExt cx="4144680" cy="1371600"/>
          </a:xfrm>
        </p:grpSpPr>
        <p:sp>
          <p:nvSpPr>
            <p:cNvPr id="330" name=""/>
            <p:cNvSpPr/>
            <p:nvPr/>
          </p:nvSpPr>
          <p:spPr>
            <a:xfrm>
              <a:off x="3809880" y="2133720"/>
              <a:ext cx="1096920" cy="838080"/>
            </a:xfrm>
            <a:prstGeom prst="rect">
              <a:avLst/>
            </a:prstGeom>
            <a:solidFill>
              <a:srgbClr val="6699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Arbi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762120" y="1600200"/>
              <a:ext cx="2743200" cy="761760"/>
              <a:chOff x="762120" y="1600200"/>
              <a:chExt cx="2743200" cy="761760"/>
            </a:xfrm>
          </p:grpSpPr>
          <p:sp>
            <p:nvSpPr>
              <p:cNvPr id="332" name=""/>
              <p:cNvSpPr/>
              <p:nvPr/>
            </p:nvSpPr>
            <p:spPr>
              <a:xfrm>
                <a:off x="762120" y="1600200"/>
                <a:ext cx="762120" cy="761760"/>
              </a:xfrm>
              <a:prstGeom prst="rect">
                <a:avLst/>
              </a:prstGeom>
              <a:solidFill>
                <a:srgbClr val="d9d9e5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M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752840" y="1600200"/>
                <a:ext cx="761760" cy="761760"/>
              </a:xfrm>
              <a:prstGeom prst="rect">
                <a:avLst/>
              </a:prstGeom>
              <a:solidFill>
                <a:srgbClr val="d9d9e5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M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743200" y="1600200"/>
                <a:ext cx="762120" cy="761760"/>
              </a:xfrm>
              <a:prstGeom prst="rect">
                <a:avLst/>
              </a:prstGeom>
              <a:solidFill>
                <a:srgbClr val="d9d9e5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M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5" name=""/>
          <p:cNvSpPr/>
          <p:nvPr/>
        </p:nvSpPr>
        <p:spPr>
          <a:xfrm>
            <a:off x="762120" y="3733920"/>
            <a:ext cx="761760" cy="761760"/>
          </a:xfrm>
          <a:prstGeom prst="rect">
            <a:avLst/>
          </a:prstGeom>
          <a:solidFill>
            <a:srgbClr val="d9d9e5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28800" y="3733920"/>
            <a:ext cx="762120" cy="761760"/>
          </a:xfrm>
          <a:prstGeom prst="rect">
            <a:avLst/>
          </a:prstGeom>
          <a:solidFill>
            <a:srgbClr val="d9d9e5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95480" y="3733920"/>
            <a:ext cx="762120" cy="761760"/>
          </a:xfrm>
          <a:prstGeom prst="rect">
            <a:avLst/>
          </a:prstGeom>
          <a:solidFill>
            <a:srgbClr val="d9d9e5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9880" y="3200400"/>
            <a:ext cx="1096920" cy="838080"/>
          </a:xfrm>
          <a:prstGeom prst="rect">
            <a:avLst/>
          </a:prstGeom>
          <a:solidFill>
            <a:srgbClr val="6699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218960" y="2438280"/>
            <a:ext cx="2514960" cy="457200"/>
            <a:chOff x="1218960" y="2438280"/>
            <a:chExt cx="2514960" cy="457200"/>
          </a:xfrm>
        </p:grpSpPr>
        <p:sp>
          <p:nvSpPr>
            <p:cNvPr id="340" name=""/>
            <p:cNvSpPr/>
            <p:nvPr/>
          </p:nvSpPr>
          <p:spPr>
            <a:xfrm flipH="1">
              <a:off x="1218960" y="289548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1219320" y="24382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2133720" y="243828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3200760" y="24382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33720" y="2819160"/>
              <a:ext cx="160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00760" y="274284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066320" y="4114800"/>
            <a:ext cx="3278160" cy="914400"/>
            <a:chOff x="1066320" y="4114800"/>
            <a:chExt cx="3278160" cy="914400"/>
          </a:xfrm>
        </p:grpSpPr>
        <p:sp>
          <p:nvSpPr>
            <p:cNvPr id="347" name=""/>
            <p:cNvSpPr/>
            <p:nvPr/>
          </p:nvSpPr>
          <p:spPr>
            <a:xfrm flipH="1">
              <a:off x="1066320" y="5029200"/>
              <a:ext cx="3277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133360" y="4876920"/>
              <a:ext cx="205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200760" y="4724640"/>
              <a:ext cx="83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39560" y="411480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91840" y="411480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44480" y="41148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3201120" y="457200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133720" y="457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1066680" y="45720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85800" y="2420640"/>
            <a:ext cx="3048120" cy="1236960"/>
            <a:chOff x="685800" y="2420640"/>
            <a:chExt cx="3048120" cy="1236960"/>
          </a:xfrm>
        </p:grpSpPr>
        <p:sp>
          <p:nvSpPr>
            <p:cNvPr id="357" name=""/>
            <p:cNvSpPr/>
            <p:nvPr/>
          </p:nvSpPr>
          <p:spPr>
            <a:xfrm>
              <a:off x="685800" y="3276720"/>
              <a:ext cx="3048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1905120" y="2420640"/>
              <a:ext cx="0" cy="826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19320" y="327672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09680" y="327672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200400" y="327672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3008160" y="2420640"/>
              <a:ext cx="0" cy="826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920880" y="2420640"/>
              <a:ext cx="0" cy="826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818720" y="5445000"/>
            <a:ext cx="13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 Black"/>
              </a:rPr>
              <a:t>a) Centraliz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627240" y="5445000"/>
            <a:ext cx="13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 Black"/>
              </a:rPr>
              <a:t>b) Distribu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66480" y="5950080"/>
            <a:ext cx="37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 Black"/>
              </a:rPr>
              <a:t>Figure 2. Centralized vs. distributed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0E9E-0EF3-4831-A1A6-C087E2B064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all the communication can be estimated before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munication varies dyna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bitration may perform poo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namic reconfiguration can be used to change the key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munication can be tuned to better meet the curr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3A41-4046-4DF7-9B78-59686C34CD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Arbitration and re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4880" y="4797360"/>
            <a:ext cx="8351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Application specific (‘as’), one-level (‘1’) or two-level (‘2’) arbitration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rbitration done during previous transfer (pipelined arbi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Centralized arbitration (‘C’) or distributed arbitration (‘D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Dynamic re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362240" y="1292400"/>
          <a:ext cx="7156440" cy="322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1292400"/>
                    <a:ext cx="7156440" cy="32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4F9C-8720-46D8-8F54-0A153746B3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Problem1 : Bandwid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516420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d) split-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52760" y="209556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57320" y="2247840"/>
            <a:ext cx="45720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33640" y="2324160"/>
            <a:ext cx="304920" cy="3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85920" y="2095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90840" y="2247840"/>
            <a:ext cx="45720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67160" y="2324160"/>
            <a:ext cx="304560" cy="3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19440" y="2095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85920" y="194328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957320" y="1486080"/>
            <a:ext cx="45720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33640" y="1562040"/>
            <a:ext cx="304920" cy="3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19440" y="194328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90840" y="1486080"/>
            <a:ext cx="45720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567160" y="1562040"/>
            <a:ext cx="304560" cy="3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424160" y="2247840"/>
            <a:ext cx="45720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500120" y="2324160"/>
            <a:ext cx="304920" cy="3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52760" y="2095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52760" y="194328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424160" y="1486080"/>
            <a:ext cx="45720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00120" y="1562040"/>
            <a:ext cx="304920" cy="3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86120" y="2741760"/>
            <a:ext cx="15271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a) single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424160" y="3429000"/>
            <a:ext cx="1523880" cy="1523880"/>
            <a:chOff x="1424160" y="3429000"/>
            <a:chExt cx="1523880" cy="1523880"/>
          </a:xfrm>
        </p:grpSpPr>
        <p:sp>
          <p:nvSpPr>
            <p:cNvPr id="396" name=""/>
            <p:cNvSpPr/>
            <p:nvPr/>
          </p:nvSpPr>
          <p:spPr>
            <a:xfrm>
              <a:off x="1652760" y="419112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57320" y="4343400"/>
              <a:ext cx="457200" cy="45720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33640" y="4419720"/>
              <a:ext cx="304920" cy="3045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85920" y="419112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90840" y="4343400"/>
              <a:ext cx="457200" cy="45720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67160" y="4419720"/>
              <a:ext cx="304560" cy="3045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719440" y="419112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85920" y="40384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57320" y="3581280"/>
              <a:ext cx="457200" cy="45720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033640" y="3657600"/>
              <a:ext cx="30492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719440" y="40384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90840" y="3581280"/>
              <a:ext cx="457200" cy="45720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67160" y="3657600"/>
              <a:ext cx="30456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424160" y="4343400"/>
              <a:ext cx="457200" cy="45720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00120" y="4419720"/>
              <a:ext cx="304920" cy="3045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652760" y="419112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652760" y="40384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424160" y="3581280"/>
              <a:ext cx="457200" cy="45720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500120" y="3657600"/>
              <a:ext cx="30492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52760" y="342900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52760" y="34290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85920" y="34290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719440" y="34290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52760" y="495288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85920" y="48006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719440" y="48006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52760" y="48006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2109960" y="5029200"/>
            <a:ext cx="14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c) multiple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181480" y="209556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629400" y="20955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19920" y="1790640"/>
            <a:ext cx="609480" cy="60984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172200" y="1943280"/>
            <a:ext cx="304920" cy="304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2247840"/>
            <a:ext cx="45720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29200" y="2324160"/>
            <a:ext cx="304920" cy="3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181480" y="2095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86400" y="2247840"/>
            <a:ext cx="45720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62720" y="2324160"/>
            <a:ext cx="304560" cy="3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715000" y="2095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181480" y="194328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952880" y="1486080"/>
            <a:ext cx="45720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29200" y="1562040"/>
            <a:ext cx="304920" cy="3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715000" y="194328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86400" y="1486080"/>
            <a:ext cx="45720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562720" y="1562040"/>
            <a:ext cx="304560" cy="3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05720" y="2247840"/>
            <a:ext cx="45720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781680" y="2324160"/>
            <a:ext cx="304920" cy="3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934320" y="2095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934320" y="194328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05720" y="1486080"/>
            <a:ext cx="45720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81680" y="1562040"/>
            <a:ext cx="304920" cy="3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842080" y="2741760"/>
            <a:ext cx="170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b) hierarchical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81480" y="43257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81680" y="432576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78400"/>
            <a:ext cx="45720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029200" y="4554360"/>
            <a:ext cx="304920" cy="3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32576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562720" y="4478400"/>
            <a:ext cx="45720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638680" y="4554360"/>
            <a:ext cx="304920" cy="3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91320" y="432576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181480" y="417348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952880" y="3716280"/>
            <a:ext cx="45720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029200" y="3792600"/>
            <a:ext cx="304920" cy="304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791320" y="417348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562720" y="3716280"/>
            <a:ext cx="45720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638680" y="3792600"/>
            <a:ext cx="304920" cy="304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34320" y="4478400"/>
            <a:ext cx="45720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010280" y="4554360"/>
            <a:ext cx="304920" cy="3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62920" y="432576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162920" y="417348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934320" y="3716280"/>
            <a:ext cx="45720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010280" y="3792600"/>
            <a:ext cx="304920" cy="304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 rot="16200000">
            <a:off x="6247080" y="432576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171840" y="44784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5400000">
            <a:off x="6247800" y="402084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6629040" y="4173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6171840" y="4173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6629040" y="44784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72200" y="4173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781680" y="4173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761240" y="2205000"/>
            <a:ext cx="115272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imes New Roman"/>
              </a:rPr>
              <a:t>A =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imes New Roman"/>
              </a:rPr>
              <a:t>B = 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768120" y="573408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 Black"/>
              </a:rPr>
              <a:t>Figure 3. Bus 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316E-2B8B-4AE1-A6FB-325C8C4090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Problem 2: Signaling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stimated edge-to-edge propagation delay of 50nm chips 6-10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Wires have a notable capacit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synchronous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.g. Marble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Four-phase hand-sha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Uses two signals for each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01” = low, ”10” = high, ”00” and ”11” = illeg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plit-bus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f target is near, only necessary switches are on so that effective wire capacitance is smal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maller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parallel trans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maller delay (beneficial in async on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ore complex arbi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6834-F3D8-44BF-935A-E07AA74D04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Problem 2: Signaling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661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atency insensitive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ong signals lines pipelined with </a:t>
            </a: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relay stations (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riginally for point-to-point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ltiple clock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Globally Asynchronous, Locally Synhronous (G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implifies system design and clock tree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ower saving </a:t>
            </a: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in global clock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is often stated (”hyped”) as main 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ccording to [Malley, ISVLSI,03] GALS may even increase power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ower saving by lowering frequency of some parts seems more prob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186680" y="1600200"/>
            <a:ext cx="934920" cy="7160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905600" y="4653000"/>
            <a:ext cx="935280" cy="7160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624880" y="3284640"/>
            <a:ext cx="934920" cy="7160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1" idx="2"/>
            <a:endCxn id="482" idx="1"/>
          </p:cNvCxnSpPr>
          <p:nvPr/>
        </p:nvCxnSpPr>
        <p:spPr>
          <a:xfrm flipH="1" rot="16200000">
            <a:off x="6431760" y="3552480"/>
            <a:ext cx="2682000" cy="23724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7402680" y="2852640"/>
            <a:ext cx="502920" cy="2890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402680" y="3357720"/>
            <a:ext cx="502920" cy="2887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402680" y="3860640"/>
            <a:ext cx="502920" cy="2890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"/>
          <p:cNvCxnSpPr>
            <a:stCxn id="481" idx="3"/>
            <a:endCxn id="483" idx="0"/>
          </p:cNvCxnSpPr>
          <p:nvPr/>
        </p:nvCxnSpPr>
        <p:spPr>
          <a:xfrm>
            <a:off x="8135640" y="1959120"/>
            <a:ext cx="957960" cy="131148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9" name=""/>
          <p:cNvCxnSpPr>
            <a:stCxn id="483" idx="2"/>
            <a:endCxn id="482" idx="3"/>
          </p:cNvCxnSpPr>
          <p:nvPr/>
        </p:nvCxnSpPr>
        <p:spPr>
          <a:xfrm rot="5400000">
            <a:off x="8475120" y="4393800"/>
            <a:ext cx="997560" cy="23904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0" name=""/>
          <p:cNvSpPr/>
          <p:nvPr/>
        </p:nvSpPr>
        <p:spPr>
          <a:xfrm>
            <a:off x="8840880" y="4149720"/>
            <a:ext cx="503280" cy="2890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840880" y="2421000"/>
            <a:ext cx="503280" cy="2887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rot="5400000">
            <a:off x="8230320" y="1813680"/>
            <a:ext cx="503280" cy="2887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A27B-F3A1-4DA7-8EA5-8812B8D205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Problem 2: Signaling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15800" y="1628640"/>
            <a:ext cx="899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Bus encoding for low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Invert data if that reduces signal li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Reported power saving  ~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9FBD-E80A-4DBE-AF26-E1DCF547DF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Problem 3: Rel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ong parallel lines increase fault rate du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Cross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Dynamic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ong wires have large coupling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Narrow (for high dens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hick (for smaller resis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rror detection / co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Bus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Bus guard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Detection+retransfer seems more energy efficient  than corr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ayer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ee Chapter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343D-0453-4489-B02C-99A28B4021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Problem 4: Quality-of-service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Guaranteed bandwidth /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bi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ound-ro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in latency for high pri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tarvat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ime Division Multiple Access (TD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ost versa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equires common notion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Centralized control favors Q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owever, scalability (among other reasons) does not favor centralized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9CA5-86C7-44FF-96CB-3A088123F4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Design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blems and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oC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(Referen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1F9C-20BC-4EFA-9E81-6E0DC70195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Problem 4: Quality-of-servic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ultiple priorities for data (</a:t>
            </a:r>
            <a:r>
              <a:rPr b="0" i="1" lang="fi-FI" sz="3200" spc="-1" strike="noStrike">
                <a:solidFill>
                  <a:srgbClr val="000000"/>
                </a:solidFill>
                <a:latin typeface="Arial"/>
              </a:rPr>
              <a:t>virtual channels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E.g. HIBI supports currently 2 pri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Usually requires more buff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e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Set priorities, TDMA, etc.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Hardest part is to decide when to reconfig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5E4F-A6F1-4DEC-8A26-55A73EFC40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Problem5: Interface Standard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5591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umber of different (incompatible) bus protocols approaches in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irtual Component Interface (V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en Core Protocol (OC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Derived from V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UT is a member of O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asters and s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Wrapper ide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ranslates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Underlying network is ’wrapped’ so that the interface is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5770080" y="3141720"/>
            <a:ext cx="4001040" cy="2808000"/>
            <a:chOff x="5770080" y="3141720"/>
            <a:chExt cx="4001040" cy="2808000"/>
          </a:xfrm>
        </p:grpSpPr>
        <p:sp>
          <p:nvSpPr>
            <p:cNvPr id="504" name=""/>
            <p:cNvSpPr/>
            <p:nvPr/>
          </p:nvSpPr>
          <p:spPr>
            <a:xfrm>
              <a:off x="6191280" y="3141720"/>
              <a:ext cx="1193400" cy="2089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61840" y="3429360"/>
              <a:ext cx="982440" cy="8643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Sys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initiat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261840" y="3934080"/>
              <a:ext cx="491400" cy="36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542640" y="4294080"/>
              <a:ext cx="0" cy="14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70080" y="395064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VCI /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OC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61840" y="4438440"/>
              <a:ext cx="491400" cy="36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261840" y="4798800"/>
              <a:ext cx="982440" cy="36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384680" y="3141720"/>
              <a:ext cx="1193040" cy="2089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54880" y="3429360"/>
              <a:ext cx="982800" cy="8643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Sys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946280" y="3934080"/>
              <a:ext cx="491400" cy="36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Slav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156880" y="4294080"/>
              <a:ext cx="0" cy="14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946280" y="4438440"/>
              <a:ext cx="491400" cy="36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Slav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454880" y="4798800"/>
              <a:ext cx="982800" cy="36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577720" y="3141720"/>
              <a:ext cx="1193040" cy="2089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648280" y="3429360"/>
              <a:ext cx="982440" cy="8643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Sys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initiator/targ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648280" y="3934080"/>
              <a:ext cx="491040" cy="36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928720" y="4294080"/>
              <a:ext cx="0" cy="14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648280" y="4438440"/>
              <a:ext cx="491040" cy="36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648280" y="4798800"/>
              <a:ext cx="982440" cy="36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139320" y="3934080"/>
              <a:ext cx="491400" cy="36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Slav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349920" y="4294080"/>
              <a:ext cx="0" cy="14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139320" y="4438440"/>
              <a:ext cx="491400" cy="36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Slav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770440" y="4366440"/>
              <a:ext cx="4000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72080" y="5374800"/>
              <a:ext cx="3298680" cy="430920"/>
            </a:xfrm>
            <a:prstGeom prst="rect">
              <a:avLst/>
            </a:prstGeom>
            <a:solidFill>
              <a:srgbClr val="eaeaea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HIBI on-chip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01880" y="5447160"/>
              <a:ext cx="3299040" cy="430920"/>
            </a:xfrm>
            <a:prstGeom prst="rect">
              <a:avLst/>
            </a:prstGeom>
            <a:solidFill>
              <a:srgbClr val="eaeaea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HIBI on-chip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32040" y="5519160"/>
              <a:ext cx="3298680" cy="430560"/>
            </a:xfrm>
            <a:prstGeom prst="rect">
              <a:avLst/>
            </a:prstGeom>
            <a:solidFill>
              <a:srgbClr val="eaeaea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Any on-chip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753240" y="5158800"/>
              <a:ext cx="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946280" y="5158800"/>
              <a:ext cx="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9139320" y="5158800"/>
              <a:ext cx="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B6CF-D2E3-47AA-A93C-0DA05E3501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oC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mulet3i by Univ. Manch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Asynchronous microcont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A single Marble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oVA by ET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PEG-4 video cod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AMBA ASB and APB b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Viper by Phi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Set-top box S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hree PI buses and memory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B22F-8502-4556-B8E6-EBE31BFEB7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555840" y="1989000"/>
            <a:ext cx="1852560" cy="1604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Amulet 3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0.35 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7 x 3.5 m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120 M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215 mW @ 85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Amulet3i – Asynchronous microcontrol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3554280" y="1784520"/>
            <a:ext cx="5646960" cy="3959280"/>
            <a:chOff x="3554280" y="1784520"/>
            <a:chExt cx="5646960" cy="3959280"/>
          </a:xfrm>
        </p:grpSpPr>
        <p:sp>
          <p:nvSpPr>
            <p:cNvPr id="538" name=""/>
            <p:cNvSpPr/>
            <p:nvPr/>
          </p:nvSpPr>
          <p:spPr>
            <a:xfrm>
              <a:off x="5894280" y="3471840"/>
              <a:ext cx="106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Marble 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29440" y="2987640"/>
              <a:ext cx="26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157720" y="2987640"/>
              <a:ext cx="26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491000" y="3767040"/>
              <a:ext cx="370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640400" y="3375000"/>
              <a:ext cx="0" cy="119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27680" y="3341520"/>
              <a:ext cx="0" cy="119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897600" y="3341520"/>
              <a:ext cx="0" cy="119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034480" y="3341520"/>
              <a:ext cx="0" cy="119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292720" y="1784520"/>
              <a:ext cx="1062000" cy="74916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Amulet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co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044960" y="2625840"/>
              <a:ext cx="1162080" cy="749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Instructio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29240" y="2633760"/>
              <a:ext cx="1062000" cy="749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292720" y="2633760"/>
              <a:ext cx="1062000" cy="749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R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54280" y="3411360"/>
              <a:ext cx="973440" cy="70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Bus contr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66120" y="2633760"/>
              <a:ext cx="1131840" cy="749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Control/tes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regist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689280" y="4191120"/>
              <a:ext cx="1586160" cy="75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Synchronou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peripheral brid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61120" y="4191120"/>
              <a:ext cx="1060200" cy="749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R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97640" y="4191120"/>
              <a:ext cx="1060560" cy="749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AD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634160" y="4191120"/>
              <a:ext cx="1060560" cy="749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D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197920" y="3436920"/>
              <a:ext cx="1003320" cy="709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Off-ch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7" name=""/>
            <p:cNvCxnSpPr>
              <a:stCxn id="546" idx="1"/>
              <a:endCxn id="547" idx="0"/>
            </p:cNvCxnSpPr>
            <p:nvPr/>
          </p:nvCxnSpPr>
          <p:spPr>
            <a:xfrm flipV="1" rot="10800000">
              <a:off x="4625280" y="2158560"/>
              <a:ext cx="658080" cy="45792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8" name=""/>
            <p:cNvCxnSpPr>
              <a:stCxn id="546" idx="3"/>
              <a:endCxn id="548" idx="0"/>
            </p:cNvCxnSpPr>
            <p:nvPr/>
          </p:nvCxnSpPr>
          <p:spPr>
            <a:xfrm>
              <a:off x="6362640" y="2158920"/>
              <a:ext cx="597600" cy="46584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59" name=""/>
            <p:cNvSpPr/>
            <p:nvPr/>
          </p:nvSpPr>
          <p:spPr>
            <a:xfrm>
              <a:off x="5681160" y="5467320"/>
              <a:ext cx="148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Arial Black"/>
                </a:rPr>
                <a:t>Figure 4. Amulet3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8696-762A-4C34-8775-7C7A26BEF0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555840" y="1989000"/>
            <a:ext cx="1820520" cy="3226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M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0.35 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220k NAND2 g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412 Kb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110.25 mm</a:t>
            </a:r>
            <a:r>
              <a:rPr b="0" lang="fi-FI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otal 1.7 Mg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3.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0.5 W @ 27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30 fps QC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15 fps C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oVA – MPEG-4 cod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3297240" y="1916280"/>
            <a:ext cx="6192720" cy="4340880"/>
            <a:chOff x="3297240" y="1916280"/>
            <a:chExt cx="6192720" cy="4340880"/>
          </a:xfrm>
        </p:grpSpPr>
        <p:sp>
          <p:nvSpPr>
            <p:cNvPr id="563" name=""/>
            <p:cNvSpPr/>
            <p:nvPr/>
          </p:nvSpPr>
          <p:spPr>
            <a:xfrm>
              <a:off x="3367080" y="3344760"/>
              <a:ext cx="606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367080" y="4705200"/>
              <a:ext cx="606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411880" y="4160880"/>
              <a:ext cx="0" cy="54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5411880" y="3344400"/>
              <a:ext cx="0" cy="20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765760" y="2324160"/>
              <a:ext cx="1057320" cy="61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835600" y="2392200"/>
              <a:ext cx="1058760" cy="61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105680" y="2324160"/>
              <a:ext cx="1058760" cy="61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176960" y="2392200"/>
              <a:ext cx="1057320" cy="61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282920" y="2187720"/>
              <a:ext cx="1341720" cy="5443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ARM7TDM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co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66040" y="3405240"/>
              <a:ext cx="105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AMBA AS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297240" y="2529000"/>
              <a:ext cx="844560" cy="544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R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I/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917960" y="3549600"/>
              <a:ext cx="989280" cy="611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AP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431200" y="4819680"/>
              <a:ext cx="105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AMBA AP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53000" y="4910040"/>
              <a:ext cx="776520" cy="61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I/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388280" y="4910040"/>
              <a:ext cx="917640" cy="61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Stre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917960" y="307332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07240" y="4705200"/>
              <a:ext cx="0" cy="20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812000" y="4705200"/>
              <a:ext cx="0" cy="20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719520" y="1916280"/>
              <a:ext cx="0" cy="61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897760" y="1925640"/>
              <a:ext cx="0" cy="53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989600" y="191628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07240" y="55227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812000" y="55227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035840" y="4502160"/>
              <a:ext cx="0" cy="6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470640" y="4910040"/>
              <a:ext cx="776160" cy="61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VL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I/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823080" y="4705200"/>
              <a:ext cx="0" cy="20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246800" y="5181480"/>
              <a:ext cx="141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118200" y="3549600"/>
              <a:ext cx="2046240" cy="611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246800" y="3344400"/>
              <a:ext cx="0" cy="20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88040" y="3616200"/>
              <a:ext cx="2046240" cy="61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259680" y="3684600"/>
              <a:ext cx="2046240" cy="61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329520" y="3753000"/>
              <a:ext cx="2046240" cy="61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00800" y="3821040"/>
              <a:ext cx="2046240" cy="61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70640" y="3889440"/>
              <a:ext cx="2046240" cy="61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Video codec IP (6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I/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46800" y="2460600"/>
              <a:ext cx="1059120" cy="61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Video (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I/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70880" y="307332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670880" y="1916280"/>
              <a:ext cx="0" cy="40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447040" y="2460600"/>
              <a:ext cx="987480" cy="61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SDR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I/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940960" y="307332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82920" y="2732040"/>
              <a:ext cx="1341720" cy="341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AMBA wrapp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141800" y="2936880"/>
              <a:ext cx="141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907240" y="2460600"/>
              <a:ext cx="1056960" cy="612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control (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329520" y="1916280"/>
              <a:ext cx="0" cy="40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400800" y="307332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367080" y="3549600"/>
              <a:ext cx="915840" cy="747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Arbiter &amp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3789360" y="3344400"/>
              <a:ext cx="0" cy="20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36920" y="4910040"/>
              <a:ext cx="917640" cy="747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RPC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INTC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&amp; Tim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3860640" y="4704840"/>
              <a:ext cx="0" cy="20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420160" y="5950080"/>
              <a:ext cx="144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000000"/>
                  </a:solidFill>
                  <a:latin typeface="Arial Black"/>
                </a:rPr>
                <a:t>Figure 5. Mo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6771-1036-4571-A41E-8E03FCD209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552960" y="1989000"/>
            <a:ext cx="2399400" cy="2253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0.18 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2 processors + 50 c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otal 8M NAND2 g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750 Kb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82 clock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1.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4.5 W @143/150/200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Viper – Set-top box S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440160" y="3191040"/>
            <a:ext cx="1368360" cy="47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508200" y="3249720"/>
            <a:ext cx="1368720" cy="476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3576600" y="1700280"/>
            <a:ext cx="6010200" cy="4467240"/>
            <a:chOff x="3576600" y="1700280"/>
            <a:chExt cx="6010200" cy="4467240"/>
          </a:xfrm>
        </p:grpSpPr>
        <p:sp>
          <p:nvSpPr>
            <p:cNvPr id="617" name=""/>
            <p:cNvSpPr/>
            <p:nvPr/>
          </p:nvSpPr>
          <p:spPr>
            <a:xfrm flipV="1">
              <a:off x="8494560" y="4935240"/>
              <a:ext cx="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70920" y="3070080"/>
              <a:ext cx="1368360" cy="851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338960" y="3130560"/>
              <a:ext cx="1368360" cy="84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07360" y="3191040"/>
              <a:ext cx="1368360" cy="842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75400" y="3249720"/>
              <a:ext cx="1368720" cy="84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45240" y="3309840"/>
              <a:ext cx="1366920" cy="83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613640" y="3368520"/>
              <a:ext cx="1366920" cy="835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682040" y="3429000"/>
              <a:ext cx="1368360" cy="83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750080" y="3487680"/>
              <a:ext cx="1368360" cy="82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697880" y="5029200"/>
              <a:ext cx="1366920" cy="855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765920" y="5087880"/>
              <a:ext cx="1368720" cy="85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834320" y="5148360"/>
              <a:ext cx="1368360" cy="850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902720" y="5207040"/>
              <a:ext cx="1368360" cy="849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970760" y="5267160"/>
              <a:ext cx="1368360" cy="84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576600" y="4203720"/>
              <a:ext cx="1368360" cy="476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645000" y="4262400"/>
              <a:ext cx="1368360" cy="477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713040" y="4322880"/>
              <a:ext cx="1368720" cy="476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781440" y="4381560"/>
              <a:ext cx="1368360" cy="477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851280" y="4441680"/>
              <a:ext cx="1366920" cy="476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560920" y="3666960"/>
              <a:ext cx="1368360" cy="476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576600" y="3309840"/>
              <a:ext cx="1368360" cy="476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645000" y="3368520"/>
              <a:ext cx="1368360" cy="476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713040" y="3429000"/>
              <a:ext cx="1368720" cy="476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81440" y="3487680"/>
              <a:ext cx="1368360" cy="477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851280" y="3548160"/>
              <a:ext cx="1366920" cy="476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876920" y="1760400"/>
              <a:ext cx="1025280" cy="3574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MI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851280" y="2236680"/>
              <a:ext cx="1366920" cy="476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Interrupts &amp; JTA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561520" y="2176560"/>
              <a:ext cx="1025280" cy="3571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TM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919680" y="3606840"/>
              <a:ext cx="1366560" cy="477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Gener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peripherals (8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629320" y="3726000"/>
              <a:ext cx="1368360" cy="477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High-spe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interfaces (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818480" y="3548160"/>
              <a:ext cx="1368360" cy="823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Audio, video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and 3D graphi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IP blocks (9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919680" y="4500720"/>
              <a:ext cx="1366560" cy="477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Other IP blocks (6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518160" y="1700280"/>
              <a:ext cx="136872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Mai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memory interf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424480" y="3368520"/>
              <a:ext cx="0" cy="154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424480" y="4917960"/>
              <a:ext cx="1504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929280" y="4710240"/>
              <a:ext cx="727200" cy="326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834160" y="4978440"/>
              <a:ext cx="752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MIP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PI-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134120" y="2236680"/>
              <a:ext cx="0" cy="214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9323280" y="2535120"/>
              <a:ext cx="0" cy="238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656480" y="4917960"/>
              <a:ext cx="166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977240" y="4484520"/>
              <a:ext cx="752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TM32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PI-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134120" y="2355840"/>
              <a:ext cx="142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23000" y="3487680"/>
              <a:ext cx="411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86240" y="4740120"/>
              <a:ext cx="138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997680" y="3965400"/>
              <a:ext cx="13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134120" y="3429000"/>
              <a:ext cx="13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186840" y="3965400"/>
              <a:ext cx="13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568920" y="2832120"/>
              <a:ext cx="615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DVP 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81760" y="3070080"/>
              <a:ext cx="684000" cy="29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24480" y="2117880"/>
              <a:ext cx="0" cy="95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222880" y="2478240"/>
              <a:ext cx="20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313240" y="2593800"/>
              <a:ext cx="684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Fas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PI-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73840" y="3246480"/>
              <a:ext cx="749160" cy="36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24480" y="3487680"/>
              <a:ext cx="549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886880" y="2654280"/>
              <a:ext cx="684000" cy="297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134120" y="2832120"/>
              <a:ext cx="752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570880" y="2832120"/>
              <a:ext cx="75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039000" y="2295360"/>
              <a:ext cx="684000" cy="29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424480" y="2414520"/>
              <a:ext cx="614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723000" y="2414520"/>
              <a:ext cx="411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560920" y="4322880"/>
              <a:ext cx="1368360" cy="357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2D graphi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039160" y="5327640"/>
              <a:ext cx="1368360" cy="839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Audio, video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and 3D graphi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000" spc="-1" strike="noStrike">
                  <a:solidFill>
                    <a:srgbClr val="000000"/>
                  </a:solidFill>
                  <a:latin typeface="Arial"/>
                </a:rPr>
                <a:t>interfaces (6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424480" y="4500720"/>
              <a:ext cx="13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286240" y="3844800"/>
              <a:ext cx="138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424480" y="3905280"/>
              <a:ext cx="13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451120" y="5643720"/>
              <a:ext cx="138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000000"/>
                  </a:solidFill>
                  <a:latin typeface="Arial Black"/>
                </a:rPr>
                <a:t>Figure 6. Vip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C8E3-7E05-4ADB-AAB7-5A226EF5CF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HIB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Heterogeneous IP Block Inter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Developed at T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Hierarchical bus N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arameterizable, sca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Run-time re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Efficien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Automated communication-centric design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05EA-42C5-4776-8BE4-C5B074AA202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"/>
          <p:cNvGrpSpPr/>
          <p:nvPr/>
        </p:nvGrpSpPr>
        <p:grpSpPr>
          <a:xfrm>
            <a:off x="606600" y="1828800"/>
            <a:ext cx="8948520" cy="3834720"/>
            <a:chOff x="606600" y="1828800"/>
            <a:chExt cx="8948520" cy="3834720"/>
          </a:xfrm>
        </p:grpSpPr>
        <p:grpSp>
          <p:nvGrpSpPr>
            <p:cNvPr id="686" name=""/>
            <p:cNvGrpSpPr/>
            <p:nvPr/>
          </p:nvGrpSpPr>
          <p:grpSpPr>
            <a:xfrm>
              <a:off x="606600" y="1828800"/>
              <a:ext cx="8948520" cy="3519360"/>
              <a:chOff x="606600" y="1828800"/>
              <a:chExt cx="8948520" cy="3519360"/>
            </a:xfrm>
          </p:grpSpPr>
          <p:sp>
            <p:nvSpPr>
              <p:cNvPr id="687" name=""/>
              <p:cNvSpPr/>
              <p:nvPr/>
            </p:nvSpPr>
            <p:spPr>
              <a:xfrm>
                <a:off x="5738760" y="4627440"/>
                <a:ext cx="3816360" cy="720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738760" y="3763800"/>
                <a:ext cx="1295280" cy="86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34040" y="3763800"/>
                <a:ext cx="1224000" cy="863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258040" y="3763800"/>
                <a:ext cx="1295640" cy="863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162400" y="2611440"/>
                <a:ext cx="4248360" cy="115236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09480" y="1828800"/>
                <a:ext cx="7696440" cy="78408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06600" y="3763800"/>
                <a:ext cx="3736800" cy="86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09480" y="2611440"/>
                <a:ext cx="1433520" cy="11523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905120" y="2611440"/>
                <a:ext cx="2896920" cy="1152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2930040" y="4555800"/>
              <a:ext cx="2178720" cy="1107720"/>
              <a:chOff x="2930040" y="4555800"/>
              <a:chExt cx="2178720" cy="1107720"/>
            </a:xfrm>
          </p:grpSpPr>
          <p:sp>
            <p:nvSpPr>
              <p:cNvPr id="697" name=""/>
              <p:cNvSpPr/>
              <p:nvPr/>
            </p:nvSpPr>
            <p:spPr>
              <a:xfrm>
                <a:off x="2930040" y="5203800"/>
                <a:ext cx="21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2400" spc="-1" strike="noStrike">
                    <a:solidFill>
                      <a:srgbClr val="000000"/>
                    </a:solidFill>
                    <a:latin typeface="Arial"/>
                  </a:rPr>
                  <a:t>Clock doma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 flipV="1">
                <a:off x="3578400" y="4555800"/>
                <a:ext cx="142560" cy="64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BI Network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911160" y="2900160"/>
            <a:ext cx="1009440" cy="1512720"/>
            <a:chOff x="911160" y="2900160"/>
            <a:chExt cx="1009440" cy="1512720"/>
          </a:xfrm>
        </p:grpSpPr>
        <p:grpSp>
          <p:nvGrpSpPr>
            <p:cNvPr id="701" name=""/>
            <p:cNvGrpSpPr/>
            <p:nvPr/>
          </p:nvGrpSpPr>
          <p:grpSpPr>
            <a:xfrm>
              <a:off x="911160" y="3549600"/>
              <a:ext cx="1009440" cy="863280"/>
              <a:chOff x="911160" y="3549600"/>
              <a:chExt cx="1009440" cy="863280"/>
            </a:xfrm>
          </p:grpSpPr>
          <p:sp>
            <p:nvSpPr>
              <p:cNvPr id="702" name=""/>
              <p:cNvSpPr/>
              <p:nvPr/>
            </p:nvSpPr>
            <p:spPr>
              <a:xfrm>
                <a:off x="911160" y="3549600"/>
                <a:ext cx="1009440" cy="431640"/>
              </a:xfrm>
              <a:prstGeom prst="flowChartProcess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"/>
                  </a:rPr>
                  <a:t>HIB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911160" y="3981240"/>
                <a:ext cx="1009440" cy="431640"/>
              </a:xfrm>
              <a:prstGeom prst="flowChartProcess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"/>
                  </a:rPr>
                  <a:t>IP BLO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4" name=""/>
            <p:cNvSpPr/>
            <p:nvPr/>
          </p:nvSpPr>
          <p:spPr>
            <a:xfrm flipV="1">
              <a:off x="1346040" y="2900160"/>
              <a:ext cx="180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4419720" y="2666880"/>
            <a:ext cx="1081080" cy="1295640"/>
            <a:chOff x="4419720" y="2666880"/>
            <a:chExt cx="1081080" cy="1295640"/>
          </a:xfrm>
        </p:grpSpPr>
        <p:sp>
          <p:nvSpPr>
            <p:cNvPr id="706" name=""/>
            <p:cNvSpPr/>
            <p:nvPr/>
          </p:nvSpPr>
          <p:spPr>
            <a:xfrm>
              <a:off x="4419720" y="2666880"/>
              <a:ext cx="1081080" cy="1295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Brid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7" name=""/>
            <p:cNvGrpSpPr/>
            <p:nvPr/>
          </p:nvGrpSpPr>
          <p:grpSpPr>
            <a:xfrm>
              <a:off x="4551480" y="2684520"/>
              <a:ext cx="864720" cy="1008000"/>
              <a:chOff x="4551480" y="2684520"/>
              <a:chExt cx="864720" cy="1008000"/>
            </a:xfrm>
          </p:grpSpPr>
          <p:sp>
            <p:nvSpPr>
              <p:cNvPr id="708" name=""/>
              <p:cNvSpPr/>
              <p:nvPr/>
            </p:nvSpPr>
            <p:spPr>
              <a:xfrm rot="16200000">
                <a:off x="4263840" y="2972160"/>
                <a:ext cx="1008000" cy="432720"/>
              </a:xfrm>
              <a:prstGeom prst="flowChartProcess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"/>
                  </a:rPr>
                  <a:t>HIB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16200000">
                <a:off x="4696200" y="2972520"/>
                <a:ext cx="1008000" cy="432000"/>
              </a:xfrm>
              <a:prstGeom prst="flowChartProcess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"/>
                  </a:rPr>
                  <a:t>HIB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"/>
          <p:cNvSpPr/>
          <p:nvPr/>
        </p:nvSpPr>
        <p:spPr>
          <a:xfrm>
            <a:off x="911160" y="3979800"/>
            <a:ext cx="2019240" cy="43200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</a:rPr>
              <a:t>IP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5897520" y="4411800"/>
            <a:ext cx="3513240" cy="792000"/>
            <a:chOff x="5897520" y="4411800"/>
            <a:chExt cx="3513240" cy="792000"/>
          </a:xfrm>
        </p:grpSpPr>
        <p:sp>
          <p:nvSpPr>
            <p:cNvPr id="712" name=""/>
            <p:cNvSpPr/>
            <p:nvPr/>
          </p:nvSpPr>
          <p:spPr>
            <a:xfrm>
              <a:off x="7121520" y="4411800"/>
              <a:ext cx="1008000" cy="431640"/>
            </a:xfrm>
            <a:prstGeom prst="flowChartProcess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HIB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97520" y="4411800"/>
              <a:ext cx="1008000" cy="431640"/>
            </a:xfrm>
            <a:prstGeom prst="flowChartProcess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HIB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402240" y="5203800"/>
              <a:ext cx="251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402760" y="4411800"/>
              <a:ext cx="1008000" cy="431640"/>
            </a:xfrm>
            <a:prstGeom prst="flowChartProcess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HIB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6402240" y="4844520"/>
              <a:ext cx="2519640" cy="358920"/>
              <a:chOff x="6402240" y="4844520"/>
              <a:chExt cx="2519640" cy="358920"/>
            </a:xfrm>
          </p:grpSpPr>
          <p:sp>
            <p:nvSpPr>
              <p:cNvPr id="717" name=""/>
              <p:cNvSpPr/>
              <p:nvPr/>
            </p:nvSpPr>
            <p:spPr>
              <a:xfrm flipV="1">
                <a:off x="6402240" y="4844520"/>
                <a:ext cx="0" cy="35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7626240" y="4844520"/>
                <a:ext cx="0" cy="35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8921880" y="4844520"/>
                <a:ext cx="0" cy="35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0" name=""/>
          <p:cNvGrpSpPr/>
          <p:nvPr/>
        </p:nvGrpSpPr>
        <p:grpSpPr>
          <a:xfrm>
            <a:off x="5521320" y="2036880"/>
            <a:ext cx="3889080" cy="2374560"/>
            <a:chOff x="5521320" y="2036880"/>
            <a:chExt cx="3889080" cy="2374560"/>
          </a:xfrm>
        </p:grpSpPr>
        <p:grpSp>
          <p:nvGrpSpPr>
            <p:cNvPr id="721" name=""/>
            <p:cNvGrpSpPr/>
            <p:nvPr/>
          </p:nvGrpSpPr>
          <p:grpSpPr>
            <a:xfrm>
              <a:off x="5521320" y="2036880"/>
              <a:ext cx="3889080" cy="2374560"/>
              <a:chOff x="5521320" y="2036880"/>
              <a:chExt cx="3889080" cy="2374560"/>
            </a:xfrm>
          </p:grpSpPr>
          <p:sp>
            <p:nvSpPr>
              <p:cNvPr id="722" name=""/>
              <p:cNvSpPr/>
              <p:nvPr/>
            </p:nvSpPr>
            <p:spPr>
              <a:xfrm>
                <a:off x="5521320" y="3187800"/>
                <a:ext cx="338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6400800" y="290016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4" name=""/>
              <p:cNvGrpSpPr/>
              <p:nvPr/>
            </p:nvGrpSpPr>
            <p:grpSpPr>
              <a:xfrm>
                <a:off x="5897520" y="2036880"/>
                <a:ext cx="1007640" cy="861480"/>
                <a:chOff x="5897520" y="2036880"/>
                <a:chExt cx="1007640" cy="86148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5897520" y="2466720"/>
                  <a:ext cx="1007640" cy="431640"/>
                </a:xfrm>
                <a:prstGeom prst="flowChartProcess">
                  <a:avLst/>
                </a:prstGeom>
                <a:solidFill>
                  <a:srgbClr val="99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HIB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Wrapp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5897520" y="2036880"/>
                  <a:ext cx="1007640" cy="431640"/>
                </a:xfrm>
                <a:prstGeom prst="flowChartProcess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IP B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7" name=""/>
              <p:cNvSpPr/>
              <p:nvPr/>
            </p:nvSpPr>
            <p:spPr>
              <a:xfrm flipV="1">
                <a:off x="7624800" y="2900160"/>
                <a:ext cx="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8" name=""/>
              <p:cNvGrpSpPr/>
              <p:nvPr/>
            </p:nvGrpSpPr>
            <p:grpSpPr>
              <a:xfrm>
                <a:off x="7121520" y="3548160"/>
                <a:ext cx="1007640" cy="863280"/>
                <a:chOff x="7121520" y="3548160"/>
                <a:chExt cx="1007640" cy="863280"/>
              </a:xfrm>
            </p:grpSpPr>
            <p:sp>
              <p:nvSpPr>
                <p:cNvPr id="729" name=""/>
                <p:cNvSpPr/>
                <p:nvPr/>
              </p:nvSpPr>
              <p:spPr>
                <a:xfrm>
                  <a:off x="7121520" y="3548160"/>
                  <a:ext cx="1007640" cy="431640"/>
                </a:xfrm>
                <a:prstGeom prst="flowChartProcess">
                  <a:avLst/>
                </a:prstGeom>
                <a:solidFill>
                  <a:srgbClr val="99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HIB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Wrapp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7121520" y="3979800"/>
                  <a:ext cx="1007640" cy="431640"/>
                </a:xfrm>
                <a:prstGeom prst="flowChartProcess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IP B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" name=""/>
              <p:cNvGrpSpPr/>
              <p:nvPr/>
            </p:nvGrpSpPr>
            <p:grpSpPr>
              <a:xfrm>
                <a:off x="7121520" y="2036880"/>
                <a:ext cx="1007640" cy="861480"/>
                <a:chOff x="7121520" y="2036880"/>
                <a:chExt cx="1007640" cy="86148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7121520" y="2466720"/>
                  <a:ext cx="1007640" cy="431640"/>
                </a:xfrm>
                <a:prstGeom prst="flowChartProcess">
                  <a:avLst/>
                </a:prstGeom>
                <a:solidFill>
                  <a:srgbClr val="99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HIB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Wrapp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7121520" y="2036880"/>
                  <a:ext cx="1007640" cy="431640"/>
                </a:xfrm>
                <a:prstGeom prst="flowChartProcess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IP B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4" name=""/>
              <p:cNvGrpSpPr/>
              <p:nvPr/>
            </p:nvGrpSpPr>
            <p:grpSpPr>
              <a:xfrm>
                <a:off x="5897520" y="3548160"/>
                <a:ext cx="1007640" cy="863280"/>
                <a:chOff x="5897520" y="3548160"/>
                <a:chExt cx="1007640" cy="863280"/>
              </a:xfrm>
            </p:grpSpPr>
            <p:sp>
              <p:nvSpPr>
                <p:cNvPr id="735" name=""/>
                <p:cNvSpPr/>
                <p:nvPr/>
              </p:nvSpPr>
              <p:spPr>
                <a:xfrm>
                  <a:off x="5897520" y="3548160"/>
                  <a:ext cx="1007640" cy="431640"/>
                </a:xfrm>
                <a:prstGeom prst="flowChartProcess">
                  <a:avLst/>
                </a:prstGeom>
                <a:solidFill>
                  <a:srgbClr val="99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HIB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Wrapp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5897520" y="3979800"/>
                  <a:ext cx="1007640" cy="431640"/>
                </a:xfrm>
                <a:prstGeom prst="flowChartProcess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IP B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" name=""/>
              <p:cNvGrpSpPr/>
              <p:nvPr/>
            </p:nvGrpSpPr>
            <p:grpSpPr>
              <a:xfrm>
                <a:off x="8402760" y="3548160"/>
                <a:ext cx="1007640" cy="863280"/>
                <a:chOff x="8402760" y="3548160"/>
                <a:chExt cx="1007640" cy="863280"/>
              </a:xfrm>
            </p:grpSpPr>
            <p:sp>
              <p:nvSpPr>
                <p:cNvPr id="738" name=""/>
                <p:cNvSpPr/>
                <p:nvPr/>
              </p:nvSpPr>
              <p:spPr>
                <a:xfrm>
                  <a:off x="8402760" y="3548160"/>
                  <a:ext cx="1007640" cy="431640"/>
                </a:xfrm>
                <a:prstGeom prst="flowChartProcess">
                  <a:avLst/>
                </a:prstGeom>
                <a:solidFill>
                  <a:srgbClr val="99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HIB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Wrapp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8402760" y="3979800"/>
                  <a:ext cx="1007640" cy="431640"/>
                </a:xfrm>
                <a:prstGeom prst="flowChartProcess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IP B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0" name=""/>
            <p:cNvSpPr/>
            <p:nvPr/>
          </p:nvSpPr>
          <p:spPr>
            <a:xfrm flipV="1">
              <a:off x="8921880" y="318744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1919160" y="2036880"/>
            <a:ext cx="2521080" cy="2374560"/>
            <a:chOff x="1919160" y="2036880"/>
            <a:chExt cx="2521080" cy="2374560"/>
          </a:xfrm>
        </p:grpSpPr>
        <p:sp>
          <p:nvSpPr>
            <p:cNvPr id="742" name=""/>
            <p:cNvSpPr/>
            <p:nvPr/>
          </p:nvSpPr>
          <p:spPr>
            <a:xfrm flipV="1">
              <a:off x="3648240" y="2900160"/>
              <a:ext cx="0" cy="647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1919160" y="2036880"/>
              <a:ext cx="2521080" cy="2374560"/>
              <a:chOff x="1919160" y="2036880"/>
              <a:chExt cx="2521080" cy="2374560"/>
            </a:xfrm>
          </p:grpSpPr>
          <p:grpSp>
            <p:nvGrpSpPr>
              <p:cNvPr id="744" name=""/>
              <p:cNvGrpSpPr/>
              <p:nvPr/>
            </p:nvGrpSpPr>
            <p:grpSpPr>
              <a:xfrm>
                <a:off x="1919160" y="2036880"/>
                <a:ext cx="2521080" cy="2374560"/>
                <a:chOff x="1919160" y="2036880"/>
                <a:chExt cx="2521080" cy="237456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1919160" y="3548160"/>
                  <a:ext cx="1009800" cy="431640"/>
                </a:xfrm>
                <a:prstGeom prst="flowChartProcess">
                  <a:avLst/>
                </a:prstGeom>
                <a:solidFill>
                  <a:srgbClr val="99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HIB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Wrapp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6" name=""/>
                <p:cNvGrpSpPr/>
                <p:nvPr/>
              </p:nvGrpSpPr>
              <p:grpSpPr>
                <a:xfrm>
                  <a:off x="3144960" y="3548160"/>
                  <a:ext cx="1007640" cy="863280"/>
                  <a:chOff x="3144960" y="3548160"/>
                  <a:chExt cx="1007640" cy="863280"/>
                </a:xfrm>
              </p:grpSpPr>
              <p:sp>
                <p:nvSpPr>
                  <p:cNvPr id="747" name=""/>
                  <p:cNvSpPr/>
                  <p:nvPr/>
                </p:nvSpPr>
                <p:spPr>
                  <a:xfrm>
                    <a:off x="3144960" y="3548160"/>
                    <a:ext cx="1007640" cy="431640"/>
                  </a:xfrm>
                  <a:prstGeom prst="flowChartProcess">
                    <a:avLst/>
                  </a:prstGeom>
                  <a:solidFill>
                    <a:srgbClr val="99cc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i-FI" sz="1200" spc="-1" strike="noStrike">
                        <a:solidFill>
                          <a:srgbClr val="000000"/>
                        </a:solidFill>
                        <a:latin typeface="Arial"/>
                      </a:rPr>
                      <a:t>HIB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i-FI" sz="1200" spc="-1" strike="noStrike">
                        <a:solidFill>
                          <a:srgbClr val="000000"/>
                        </a:solidFill>
                        <a:latin typeface="Arial"/>
                      </a:rPr>
                      <a:t>Wrappe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3144960" y="3979800"/>
                    <a:ext cx="1007640" cy="431640"/>
                  </a:xfrm>
                  <a:prstGeom prst="flowChartProcess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i-FI" sz="1200" spc="-1" strike="noStrike">
                        <a:solidFill>
                          <a:srgbClr val="000000"/>
                        </a:solidFill>
                        <a:latin typeface="Arial"/>
                      </a:rPr>
                      <a:t>IP BLOCK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9" name=""/>
                <p:cNvGrpSpPr/>
                <p:nvPr/>
              </p:nvGrpSpPr>
              <p:grpSpPr>
                <a:xfrm>
                  <a:off x="3144960" y="2036880"/>
                  <a:ext cx="1007640" cy="861480"/>
                  <a:chOff x="3144960" y="2036880"/>
                  <a:chExt cx="1007640" cy="861480"/>
                </a:xfrm>
              </p:grpSpPr>
              <p:sp>
                <p:nvSpPr>
                  <p:cNvPr id="750" name=""/>
                  <p:cNvSpPr/>
                  <p:nvPr/>
                </p:nvSpPr>
                <p:spPr>
                  <a:xfrm>
                    <a:off x="3144960" y="2466720"/>
                    <a:ext cx="1007640" cy="431640"/>
                  </a:xfrm>
                  <a:prstGeom prst="flowChartProcess">
                    <a:avLst/>
                  </a:prstGeom>
                  <a:solidFill>
                    <a:srgbClr val="99cc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i-FI" sz="1200" spc="-1" strike="noStrike">
                        <a:solidFill>
                          <a:srgbClr val="000000"/>
                        </a:solidFill>
                        <a:latin typeface="Arial"/>
                      </a:rPr>
                      <a:t>HIB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i-FI" sz="1200" spc="-1" strike="noStrike">
                        <a:solidFill>
                          <a:srgbClr val="000000"/>
                        </a:solidFill>
                        <a:latin typeface="Arial"/>
                      </a:rPr>
                      <a:t>Wrappe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3144960" y="2036880"/>
                    <a:ext cx="1007640" cy="431640"/>
                  </a:xfrm>
                  <a:prstGeom prst="flowChartProcess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i-FI" sz="1200" spc="-1" strike="noStrike">
                        <a:solidFill>
                          <a:srgbClr val="000000"/>
                        </a:solidFill>
                        <a:latin typeface="Arial"/>
                      </a:rPr>
                      <a:t>IP BLOCK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2" name=""/>
                <p:cNvSpPr/>
                <p:nvPr/>
              </p:nvSpPr>
              <p:spPr>
                <a:xfrm>
                  <a:off x="2424240" y="3187800"/>
                  <a:ext cx="201600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3" name=""/>
              <p:cNvSpPr/>
              <p:nvPr/>
            </p:nvSpPr>
            <p:spPr>
              <a:xfrm>
                <a:off x="2448000" y="3191040"/>
                <a:ext cx="0" cy="342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4" name=""/>
          <p:cNvGrpSpPr/>
          <p:nvPr/>
        </p:nvGrpSpPr>
        <p:grpSpPr>
          <a:xfrm>
            <a:off x="839880" y="2036880"/>
            <a:ext cx="1009440" cy="861840"/>
            <a:chOff x="839880" y="2036880"/>
            <a:chExt cx="1009440" cy="861840"/>
          </a:xfrm>
        </p:grpSpPr>
        <p:sp>
          <p:nvSpPr>
            <p:cNvPr id="755" name=""/>
            <p:cNvSpPr/>
            <p:nvPr/>
          </p:nvSpPr>
          <p:spPr>
            <a:xfrm>
              <a:off x="839880" y="2036880"/>
              <a:ext cx="1009440" cy="431640"/>
            </a:xfrm>
            <a:prstGeom prst="flowChartProcess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IP BL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39880" y="2467080"/>
              <a:ext cx="1009440" cy="431640"/>
            </a:xfrm>
            <a:prstGeom prst="flowChartProcess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HIB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3151800" y="5877000"/>
            <a:ext cx="32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 Black"/>
              </a:rPr>
              <a:t>Figure 7. Example of hierachical HI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5E23-456E-4EB8-8BBE-5628C8ECB3C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H.263 Video Enco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93280" y="4652640"/>
            <a:ext cx="8883720" cy="16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bjective: Show how easily HIBI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-10 ARM7 proc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rocessor independent C-source c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aster + scaleable number of processors generated automa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erified with HW/SW co-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1136520" y="1413000"/>
            <a:ext cx="7002720" cy="3079800"/>
            <a:chOff x="1136520" y="1413000"/>
            <a:chExt cx="7002720" cy="3079800"/>
          </a:xfrm>
        </p:grpSpPr>
        <p:sp>
          <p:nvSpPr>
            <p:cNvPr id="761" name=""/>
            <p:cNvSpPr/>
            <p:nvPr/>
          </p:nvSpPr>
          <p:spPr>
            <a:xfrm>
              <a:off x="3441600" y="1413000"/>
              <a:ext cx="2181240" cy="1401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936960" y="2895480"/>
              <a:ext cx="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441600" y="2895480"/>
              <a:ext cx="3457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921280" y="1536840"/>
              <a:ext cx="1168560" cy="639720"/>
            </a:xfrm>
            <a:prstGeom prst="flowChartProcess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I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113360" y="2176560"/>
              <a:ext cx="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530520" y="2308320"/>
              <a:ext cx="1166760" cy="392040"/>
            </a:xfrm>
            <a:prstGeom prst="flowChartProcess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HIBI Wrap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545240" y="1906560"/>
              <a:ext cx="594000" cy="325440"/>
            </a:xfrm>
            <a:prstGeom prst="foldedCorner">
              <a:avLst>
                <a:gd name="adj" fmla="val 12500"/>
              </a:avLst>
            </a:prstGeom>
            <a:solidFill>
              <a:srgbClr val="d9d9e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H.2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545240" y="1536840"/>
              <a:ext cx="594000" cy="323640"/>
            </a:xfrm>
            <a:prstGeom prst="foldedCorner">
              <a:avLst>
                <a:gd name="adj" fmla="val 12500"/>
              </a:avLst>
            </a:prstGeom>
            <a:solidFill>
              <a:srgbClr val="d9d9e5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YU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530520" y="1784520"/>
              <a:ext cx="1166760" cy="392040"/>
            </a:xfrm>
            <a:prstGeom prst="flowChartProcess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ARM7 + D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295800" y="3122640"/>
              <a:ext cx="1166760" cy="392040"/>
            </a:xfrm>
            <a:prstGeom prst="flowChartProcess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HIBI Wrap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295800" y="3637080"/>
              <a:ext cx="1166760" cy="392040"/>
            </a:xfrm>
            <a:prstGeom prst="flowChartProcess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ARM7 + D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505560" y="2176560"/>
              <a:ext cx="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921280" y="2308320"/>
              <a:ext cx="1168560" cy="392040"/>
            </a:xfrm>
            <a:prstGeom prst="flowChartProcess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HIBI Wrap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147080" y="1968480"/>
              <a:ext cx="350640" cy="123840"/>
            </a:xfrm>
            <a:prstGeom prst="rightArrow">
              <a:avLst>
                <a:gd name="adj1" fmla="val 50000"/>
                <a:gd name="adj2" fmla="val 70785"/>
              </a:avLst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7147080" y="1660680"/>
              <a:ext cx="350640" cy="123840"/>
            </a:xfrm>
            <a:prstGeom prst="rightArrow">
              <a:avLst>
                <a:gd name="adj1" fmla="val 50000"/>
                <a:gd name="adj2" fmla="val 70785"/>
              </a:avLst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348440" y="146052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2000" spc="-1" strike="noStrike">
                  <a:solidFill>
                    <a:srgbClr val="ffffff"/>
                  </a:solidFill>
                  <a:latin typeface="Arial"/>
                </a:rPr>
                <a:t>MAS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4601880" y="2774880"/>
              <a:ext cx="2527200" cy="1253880"/>
              <a:chOff x="4601880" y="2774880"/>
              <a:chExt cx="2527200" cy="1253880"/>
            </a:xfrm>
          </p:grpSpPr>
          <p:sp>
            <p:nvSpPr>
              <p:cNvPr id="778" name=""/>
              <p:cNvSpPr/>
              <p:nvPr/>
            </p:nvSpPr>
            <p:spPr>
              <a:xfrm>
                <a:off x="6605280" y="2896200"/>
                <a:ext cx="0" cy="71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961960" y="3121920"/>
                <a:ext cx="1167120" cy="392040"/>
              </a:xfrm>
              <a:prstGeom prst="flowChartProcess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200" spc="-1" strike="noStrike">
                    <a:solidFill>
                      <a:srgbClr val="000000"/>
                    </a:solidFill>
                    <a:latin typeface="Arial"/>
                  </a:rPr>
                  <a:t>HIBI Wrapp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961960" y="3636720"/>
                <a:ext cx="1167120" cy="392040"/>
              </a:xfrm>
              <a:prstGeom prst="flowChartProcess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200" spc="-1" strike="noStrike">
                    <a:solidFill>
                      <a:srgbClr val="000000"/>
                    </a:solidFill>
                    <a:latin typeface="Arial"/>
                  </a:rPr>
                  <a:t>ARM7 + DM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788360" y="2774880"/>
                <a:ext cx="9356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601880" y="3561840"/>
                <a:ext cx="1197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2000" spc="-1" strike="noStrike">
                    <a:solidFill>
                      <a:srgbClr val="000000"/>
                    </a:solidFill>
                    <a:latin typeface="Arial"/>
                  </a:rPr>
                  <a:t>SLAV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1136520" y="1784520"/>
              <a:ext cx="2394000" cy="1544040"/>
              <a:chOff x="1136520" y="1784520"/>
              <a:chExt cx="2394000" cy="1544040"/>
            </a:xfrm>
          </p:grpSpPr>
          <p:grpSp>
            <p:nvGrpSpPr>
              <p:cNvPr id="784" name=""/>
              <p:cNvGrpSpPr/>
              <p:nvPr/>
            </p:nvGrpSpPr>
            <p:grpSpPr>
              <a:xfrm>
                <a:off x="1136520" y="1784520"/>
                <a:ext cx="2394000" cy="1544040"/>
                <a:chOff x="1136520" y="1784520"/>
                <a:chExt cx="2394000" cy="154404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1136520" y="1785600"/>
                  <a:ext cx="1926720" cy="154296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 flipH="1">
                  <a:off x="2945520" y="1784520"/>
                  <a:ext cx="584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H="1">
                  <a:off x="3063240" y="2154600"/>
                  <a:ext cx="467280" cy="117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" name=""/>
              <p:cNvGrpSpPr/>
              <p:nvPr/>
            </p:nvGrpSpPr>
            <p:grpSpPr>
              <a:xfrm>
                <a:off x="1194120" y="1898640"/>
                <a:ext cx="1751760" cy="1429560"/>
                <a:chOff x="1194120" y="1898640"/>
                <a:chExt cx="1751760" cy="142956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2245680" y="2290680"/>
                  <a:ext cx="700200" cy="914760"/>
                </a:xfrm>
                <a:prstGeom prst="rect">
                  <a:avLst/>
                </a:prstGeom>
                <a:solidFill>
                  <a:srgbClr val="99ccff"/>
                </a:solidFill>
                <a:ln w="284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D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194120" y="2813400"/>
                  <a:ext cx="736200" cy="392040"/>
                </a:xfrm>
                <a:prstGeom prst="rect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DPR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1194120" y="2356200"/>
                  <a:ext cx="736200" cy="392040"/>
                </a:xfrm>
                <a:prstGeom prst="rect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RO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2115720" y="2094480"/>
                  <a:ext cx="0" cy="784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H="1">
                  <a:off x="1930320" y="2552400"/>
                  <a:ext cx="191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H="1">
                  <a:off x="1930320" y="2878920"/>
                  <a:ext cx="191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H="1">
                  <a:off x="1929960" y="3075120"/>
                  <a:ext cx="309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 flipH="1">
                  <a:off x="2122200" y="2421360"/>
                  <a:ext cx="123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194120" y="1898640"/>
                  <a:ext cx="736200" cy="392040"/>
                </a:xfrm>
                <a:prstGeom prst="flowChartProcess">
                  <a:avLst/>
                </a:prstGeom>
                <a:solidFill>
                  <a:srgbClr val="ffff99"/>
                </a:solidFill>
                <a:ln w="284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ARM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flipH="1">
                  <a:off x="1930320" y="2094480"/>
                  <a:ext cx="191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2595600" y="3205800"/>
                  <a:ext cx="0" cy="122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0" name=""/>
            <p:cNvSpPr/>
            <p:nvPr/>
          </p:nvSpPr>
          <p:spPr>
            <a:xfrm>
              <a:off x="3459600" y="4216320"/>
              <a:ext cx="2553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Arial Black"/>
                </a:rPr>
                <a:t>Figure 8. HIBI-based H.263 cod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9E82-9388-4AFF-BD70-189B2F96C6E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general network suits every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tio between achieved and maximum throughput is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terogenous network addresses thes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cal and global communication sepa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bus for local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ication specific network for global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EAAD-4186-4D58-86F4-5EE436F612E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65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(Shared)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et of signals connected to all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hared resource - one connection between devices reserves the whole inter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ost available SoC communication networks are b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ow implementation costs,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Bandwidth shared among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ong signal lines problematic in DSM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69120" y="25938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74040" y="2746440"/>
            <a:ext cx="45720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50000" y="2822400"/>
            <a:ext cx="304920" cy="3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02640" y="25938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107200" y="2746440"/>
            <a:ext cx="45720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183520" y="2822400"/>
            <a:ext cx="304920" cy="3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35800" y="25938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802640" y="24415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74040" y="1984320"/>
            <a:ext cx="45720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50000" y="2060640"/>
            <a:ext cx="304920" cy="304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35800" y="24415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07200" y="1984320"/>
            <a:ext cx="45720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183520" y="2060640"/>
            <a:ext cx="304920" cy="304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40520" y="2746440"/>
            <a:ext cx="45720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16840" y="2822400"/>
            <a:ext cx="304560" cy="3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69120" y="25938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69120" y="24415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40520" y="1984320"/>
            <a:ext cx="45720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16840" y="2060640"/>
            <a:ext cx="304560" cy="304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02480" y="3240000"/>
            <a:ext cx="15271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a) single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263E-7803-4DD0-830F-3A787BADDA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60160" y="1052280"/>
            <a:ext cx="89168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. Sylvester and K. Keutzer, “Impact of small process geometries on microarchitectures in systems on a chip,”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roceedings of the IEE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Vol. 89, No. 4, Apr. 2001, pp. 467-489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. Wielage and K. Goossens “Networks on silicon: blessing or nightmare?,”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ymp. Digital system desig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Dortmund, Germany, 4-6 Sep. 2002, pp. 196-200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. Ho, K.W. Mai, and M.A. Horowitz, “The future of wires,”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roceedings of the IEE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Vol. 89, No. 4, Apr. 2001, pp. 490-504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.B. Gustavson, “Computer buses a tutorial,” i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dvanced multiprocessor bus architectur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Janusz Zalewski (ed.), IEEE Computer society press, 1995. pp. 10-25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M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BA Specification Rev 2.0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ARM Limited, 1999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M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32-bit Processor local bus architecture specification, Version 2.9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IBM Corporation, 2001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. Cordan, “An efficient bus architecture for system-on-chip design,”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EEE Custom integrated circuits conferenc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San Diego, California, 16-19 May 1999, pp. 623-626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. Kuusilinn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t. al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“Low latency interconnection for IP-block based multimedia chips,”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ASTED Int’l conf. Parallel and distributed computing and network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Brisbane, Australia,14-16 Dec. 1998, pp. 411-416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. Lahtine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t. al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“Interconnection scheme for continuous-media systems-on-a-chip,”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icroprocessors and microsystem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Vol. 26, No. 3, April 2002, pp. 123-13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.J. Bainbridge and S.B. Furber, “MARBLE: an asynchronous on-chip macrocell bus,”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icroprocessors and microsystem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Vol. 24, No. 4, Aug. 2000, pp. 213-222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MI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I-bus VHDL toolkit, Version 3.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Open microprocessor systems initiative, 1997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nic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nics Networks technical overvie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Sonics inc., June 2000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. Ackland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t. al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“A single-chip, 1.6-billion, 16-b MAC/s multiprocessor DSP,”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EEE Journal of solid state circuit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Vol. 35, No. 3, Mar. 2000, pp. 412-424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4. Silicore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ishbone system-on-chip (SoC) interconnection architecture for portable IP cores, Revision: B.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Silicore corporation, 2001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. Salmine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t. al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“Overview of Bus-based System-on-Chip Interconnections,”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t’l symp. Circuits and system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Scottsdale, Arizona, 26-29 May 2002, pp. II-372-II-375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. Dutta, R. Jensen, and A. Rieckmann, “Viper: a multiprocessor SoC for advanced set-top box and digital TV systems,”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EEE Design and test of computer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Vol. 8, No. 5, Sep./Oct. 2001, pp. 21-31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. Lahiri, A. Raghunathan, and G. Lakshminarayana, “Lotterybus: a new highperformance communication architecture for system-on-chip designs,”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esign automation conferenc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Las Vegas, Nevada, 18-22 June 2001, pp. 15-20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SIA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Virtual component interface specification (OCB 2 1.0)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VSI alliance, 1999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CP international partnership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Open core protocol specification, release 1.0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OCP-IP association, 2001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. Benini and G. De Micheli, “Networks on chips: a new SoC paradigm,”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ompute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Vol. 35, No. 1, Jan. 2002, pp. 70-7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. Boxer, “Where buses cannot go,”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EEE Spectrum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Vol. 32, No. 2, Feb. 1995, pp. 41-45. 22. L.P. Carloni and A.L. Sangiovanni-Vincentelli, “Coping with latency in SoC design,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EEE Micr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Vol. 22, No. 5, Sep./Oct. 2002, pp. 24-35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eng-Ta Hsieh and M. Pedram, “Architectural energy optimization by bus splitting,”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EEE Transactions on computer-aided design of integrated circuits and system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Vol. 21, No. 4, Apr. 2002, pp. 408-414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.R. Stan and W.P. Burleson, “Bus-invert coding for low-power I/O,”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EEE Transactions on very large scale integration (VLSI) system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Vol. 3, No. 1, Mar. 1995, pp. 49-5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. Lajolo, “Bus guardians: an effective solution for online detection and correction of faults affecting system-on-chip buses,”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EEE Transactions on very large scale integration (VLSI) system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Vol. 9, No. 6, Dec. 2001, pp. 974-982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.B. Kahng, S. Muddu, and E. Sarto, “Interconnect optimization strategies for highperformance VLSI designs,”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t’l conf. VLSI desig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Goa, India, 7-10 Jan. 1999, pp. 464-469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.O. Cesario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t. al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“Multiprocessor SoC platforms: a component-based design approach,”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EEE Design and test of computer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Vol. 19, No. 6, Nov./Dec. 2002, pp. 52-63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.D. Garsid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t. al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“AMULET3i - an asyncronous system-on-chip,”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t’l symp. Advanced research in asynchronous circuits and system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Eilat, Israel, 2-6 Apr. 2000, pp. 162-175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.H. Park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t. al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“MPEG-4 Video codec on an ARM core and AMBA,”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orks. MPEG-4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San Jose, California, 18-20 June 2001, pp. 95-9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67ED-97F6-4D14-A41C-F7E04EB83DE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Hierarchical 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65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Hierarchical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everal bus segments connected with bri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Fast access as long as the target is in the same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06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equires locality of ac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heoretical max. speed-up = num of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egments either circuit or packet-switch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306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acket-switching provides more parallelism with added buf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69120" y="259884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717040" y="259884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107200" y="2293920"/>
            <a:ext cx="609840" cy="6094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59840" y="2446200"/>
            <a:ext cx="304560" cy="304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40520" y="2751120"/>
            <a:ext cx="45720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16840" y="2827440"/>
            <a:ext cx="304560" cy="304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69120" y="259884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4040" y="2751120"/>
            <a:ext cx="45720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50000" y="2827440"/>
            <a:ext cx="304920" cy="304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02640" y="259884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69120" y="2446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40520" y="1989000"/>
            <a:ext cx="45720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16840" y="2065320"/>
            <a:ext cx="304560" cy="3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02640" y="2446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74040" y="1989000"/>
            <a:ext cx="45720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50000" y="2065320"/>
            <a:ext cx="304920" cy="3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793000" y="2751120"/>
            <a:ext cx="45720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869320" y="2827440"/>
            <a:ext cx="304920" cy="304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021600" y="259884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021600" y="2446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793000" y="1989000"/>
            <a:ext cx="45720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869320" y="2065320"/>
            <a:ext cx="304920" cy="3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929720" y="3244680"/>
            <a:ext cx="1776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b) hierarchical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44DE-08B3-45FB-A127-A0AFC9D5BF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ignal Re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68080" y="6093000"/>
            <a:ext cx="235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 Black"/>
              </a:rPr>
              <a:t>Figure 1. Signal re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1040" y="5257800"/>
            <a:ext cx="11858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b) mux-ba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62480" y="2705040"/>
            <a:ext cx="17067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a) three-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84880" y="2276640"/>
            <a:ext cx="1081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</a:rPr>
              <a:t>M = 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</a:rPr>
              <a:t>S = Sl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90200" y="5257800"/>
            <a:ext cx="149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c) AND-OR / 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24240" y="38862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62680" y="38862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62880" y="38862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24440" y="38862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3881520" y="4305240"/>
            <a:ext cx="533520" cy="457200"/>
          </a:xfrm>
          <a:prstGeom prst="flowChartDelay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86560" y="480060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48280" y="48006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48280" y="510552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86360" y="502920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48480" y="49528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86560" y="48769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48480" y="4800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86360" y="48006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38960" y="50212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76880" y="4038480"/>
            <a:ext cx="3125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02400" y="4038480"/>
            <a:ext cx="0" cy="98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76880" y="38862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4960" y="38862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53040" y="38862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91480" y="38862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71960" y="4114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19680" y="41148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10040" y="4114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57760" y="41148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12040" y="4114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57960" y="4114800"/>
            <a:ext cx="154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72160" y="4114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21320" y="4114800"/>
            <a:ext cx="150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19680" y="3429000"/>
            <a:ext cx="610920" cy="457200"/>
          </a:xfrm>
          <a:prstGeom prst="rect">
            <a:avLst/>
          </a:prstGeom>
          <a:solidFill>
            <a:srgbClr val="d9d9e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i-FI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57760" y="3429000"/>
            <a:ext cx="609480" cy="457200"/>
          </a:xfrm>
          <a:prstGeom prst="rect">
            <a:avLst/>
          </a:prstGeom>
          <a:solidFill>
            <a:srgbClr val="d9d9e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i-FI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95840" y="3429000"/>
            <a:ext cx="609840" cy="457200"/>
          </a:xfrm>
          <a:prstGeom prst="rect">
            <a:avLst/>
          </a:prstGeom>
          <a:solidFill>
            <a:srgbClr val="d9d9e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fi-FI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34280" y="3429000"/>
            <a:ext cx="609480" cy="457200"/>
          </a:xfrm>
          <a:prstGeom prst="rect">
            <a:avLst/>
          </a:prstGeom>
          <a:solidFill>
            <a:srgbClr val="d9d9e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fi-FI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5482440" y="4305960"/>
            <a:ext cx="533520" cy="455760"/>
          </a:xfrm>
          <a:prstGeom prst="flowChartDelay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4719600" y="4305240"/>
            <a:ext cx="533520" cy="457200"/>
          </a:xfrm>
          <a:prstGeom prst="flowChartDelay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319800" y="4305240"/>
            <a:ext cx="533520" cy="457200"/>
          </a:xfrm>
          <a:prstGeom prst="flowChartDelay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43240" y="4076640"/>
            <a:ext cx="7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96240" y="1728720"/>
            <a:ext cx="70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098960" y="1646280"/>
            <a:ext cx="88920" cy="231840"/>
            <a:chOff x="4098960" y="1646280"/>
            <a:chExt cx="88920" cy="231840"/>
          </a:xfrm>
        </p:grpSpPr>
        <p:sp>
          <p:nvSpPr>
            <p:cNvPr id="145" name=""/>
            <p:cNvSpPr/>
            <p:nvPr/>
          </p:nvSpPr>
          <p:spPr>
            <a:xfrm>
              <a:off x="4098960" y="1690560"/>
              <a:ext cx="0" cy="18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87880" y="1646280"/>
              <a:ext cx="0" cy="231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764320" y="1646280"/>
            <a:ext cx="88920" cy="231840"/>
            <a:chOff x="5764320" y="1646280"/>
            <a:chExt cx="88920" cy="231840"/>
          </a:xfrm>
        </p:grpSpPr>
        <p:sp>
          <p:nvSpPr>
            <p:cNvPr id="148" name=""/>
            <p:cNvSpPr/>
            <p:nvPr/>
          </p:nvSpPr>
          <p:spPr>
            <a:xfrm>
              <a:off x="5764320" y="1690560"/>
              <a:ext cx="0" cy="18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53240" y="1646280"/>
              <a:ext cx="0" cy="231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573960" y="1646280"/>
            <a:ext cx="88920" cy="231840"/>
            <a:chOff x="6573960" y="1646280"/>
            <a:chExt cx="88920" cy="231840"/>
          </a:xfrm>
        </p:grpSpPr>
        <p:sp>
          <p:nvSpPr>
            <p:cNvPr id="151" name=""/>
            <p:cNvSpPr/>
            <p:nvPr/>
          </p:nvSpPr>
          <p:spPr>
            <a:xfrm>
              <a:off x="6573960" y="1690560"/>
              <a:ext cx="0" cy="18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62880" y="1646280"/>
              <a:ext cx="0" cy="231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908600" y="1646280"/>
            <a:ext cx="88920" cy="231840"/>
            <a:chOff x="4908600" y="1646280"/>
            <a:chExt cx="88920" cy="231840"/>
          </a:xfrm>
        </p:grpSpPr>
        <p:sp>
          <p:nvSpPr>
            <p:cNvPr id="154" name=""/>
            <p:cNvSpPr/>
            <p:nvPr/>
          </p:nvSpPr>
          <p:spPr>
            <a:xfrm>
              <a:off x="4908600" y="1690560"/>
              <a:ext cx="0" cy="18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97520" y="1646280"/>
              <a:ext cx="0" cy="231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814920" y="1257480"/>
            <a:ext cx="609480" cy="433080"/>
          </a:xfrm>
          <a:prstGeom prst="rect">
            <a:avLst/>
          </a:prstGeom>
          <a:solidFill>
            <a:srgbClr val="d9d9e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i-FI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19480" y="2185920"/>
            <a:ext cx="0" cy="36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14920" y="2552760"/>
            <a:ext cx="3047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72120" y="201924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828960" y="1871640"/>
            <a:ext cx="609840" cy="4572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7920" y="2141640"/>
            <a:ext cx="0" cy="41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2097000"/>
            <a:ext cx="0" cy="455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35880" y="2141640"/>
            <a:ext cx="0" cy="41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54440" y="1257480"/>
            <a:ext cx="608040" cy="433080"/>
          </a:xfrm>
          <a:prstGeom prst="rect">
            <a:avLst/>
          </a:prstGeom>
          <a:solidFill>
            <a:srgbClr val="d9d9e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i-FI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91080" y="1257480"/>
            <a:ext cx="609840" cy="433080"/>
          </a:xfrm>
          <a:prstGeom prst="rect">
            <a:avLst/>
          </a:prstGeom>
          <a:solidFill>
            <a:srgbClr val="d9d9e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fi-FI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9520" y="1257480"/>
            <a:ext cx="609480" cy="433080"/>
          </a:xfrm>
          <a:prstGeom prst="rect">
            <a:avLst/>
          </a:prstGeom>
          <a:solidFill>
            <a:srgbClr val="d9d9e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fi-FI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10200" y="201924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654440" y="1866960"/>
            <a:ext cx="608040" cy="4572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48280" y="201924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491080" y="1866960"/>
            <a:ext cx="609840" cy="4572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86720" y="201924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329520" y="1866960"/>
            <a:ext cx="609480" cy="4572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3960" y="25909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065240" y="3141720"/>
            <a:ext cx="2367000" cy="1944720"/>
            <a:chOff x="1065240" y="3141720"/>
            <a:chExt cx="2367000" cy="1944720"/>
          </a:xfrm>
        </p:grpSpPr>
        <p:sp>
          <p:nvSpPr>
            <p:cNvPr id="175" name=""/>
            <p:cNvSpPr/>
            <p:nvPr/>
          </p:nvSpPr>
          <p:spPr>
            <a:xfrm>
              <a:off x="1370160" y="3581280"/>
              <a:ext cx="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08240" y="35812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674720" y="373392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4720" y="37339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22440" y="4267080"/>
              <a:ext cx="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360520" y="3580920"/>
              <a:ext cx="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513160" y="4266720"/>
              <a:ext cx="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8240" y="44956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1522080" y="449568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1598760" y="3809880"/>
              <a:ext cx="76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1598760" y="35809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1370160" y="441936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70160" y="441972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208240" y="42670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65240" y="41148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65440" y="41148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41560" y="3962520"/>
              <a:ext cx="838080" cy="304560"/>
            </a:xfrm>
            <a:custGeom>
              <a:avLst/>
              <a:gdLst>
                <a:gd name="textAreaLeft" fmla="*/ 184320 w 838080"/>
                <a:gd name="textAreaRight" fmla="*/ 653760 w 838080"/>
                <a:gd name="textAreaTop" fmla="*/ 66960 h 304560"/>
                <a:gd name="textAreaBottom" fmla="*/ 237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000" spc="-1" strike="noStrike">
                  <a:solidFill>
                    <a:srgbClr val="000000"/>
                  </a:solidFill>
                  <a:latin typeface="Arial"/>
                </a:rPr>
                <a:t>MU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1979640" y="3962520"/>
              <a:ext cx="838080" cy="304560"/>
            </a:xfrm>
            <a:custGeom>
              <a:avLst/>
              <a:gdLst>
                <a:gd name="textAreaLeft" fmla="*/ 184320 w 838080"/>
                <a:gd name="textAreaRight" fmla="*/ 653760 w 838080"/>
                <a:gd name="textAreaTop" fmla="*/ 66960 h 304560"/>
                <a:gd name="textAreaBottom" fmla="*/ 237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000" spc="-1" strike="noStrike">
                  <a:solidFill>
                    <a:srgbClr val="000000"/>
                  </a:solidFill>
                  <a:latin typeface="Arial"/>
                </a:rPr>
                <a:t>MU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49680" y="3807000"/>
              <a:ext cx="68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08160" y="3141720"/>
              <a:ext cx="609480" cy="433440"/>
            </a:xfrm>
            <a:prstGeom prst="rect">
              <a:avLst/>
            </a:prstGeom>
            <a:solidFill>
              <a:srgbClr val="d9d9e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fi-FI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00160" y="3141720"/>
              <a:ext cx="609840" cy="433440"/>
            </a:xfrm>
            <a:prstGeom prst="rect">
              <a:avLst/>
            </a:prstGeom>
            <a:solidFill>
              <a:srgbClr val="d9d9e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fi-FI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08160" y="4653000"/>
              <a:ext cx="609480" cy="433440"/>
            </a:xfrm>
            <a:prstGeom prst="rect">
              <a:avLst/>
            </a:prstGeom>
            <a:solidFill>
              <a:srgbClr val="d9d9e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fi-FI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73240" y="4653000"/>
              <a:ext cx="609480" cy="433440"/>
            </a:xfrm>
            <a:prstGeom prst="rect">
              <a:avLst/>
            </a:prstGeom>
            <a:solidFill>
              <a:srgbClr val="d9d9e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fi-FI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6800040" y="4751280"/>
            <a:ext cx="538200" cy="49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440" y="3100"/>
                  <a:pt x="17279" y="5080"/>
                  <a:pt x="17279" y="10800"/>
                </a:cubicBezTo>
                <a:cubicBezTo>
                  <a:pt x="17279" y="16520"/>
                  <a:pt x="19440" y="185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074600" y="1181160"/>
            <a:ext cx="2547720" cy="1600200"/>
            <a:chOff x="1074600" y="1181160"/>
            <a:chExt cx="2547720" cy="1600200"/>
          </a:xfrm>
        </p:grpSpPr>
        <p:sp>
          <p:nvSpPr>
            <p:cNvPr id="200" name=""/>
            <p:cNvSpPr/>
            <p:nvPr/>
          </p:nvSpPr>
          <p:spPr>
            <a:xfrm>
              <a:off x="1112760" y="1181160"/>
              <a:ext cx="1753560" cy="15238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018960" y="1257480"/>
              <a:ext cx="603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018960" y="1714680"/>
              <a:ext cx="603360" cy="8380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83120" y="2433600"/>
              <a:ext cx="611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74600" y="1646280"/>
              <a:ext cx="838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local 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9960" y="1257480"/>
              <a:ext cx="762480" cy="304560"/>
            </a:xfrm>
            <a:prstGeom prst="rect">
              <a:avLst/>
            </a:prstGeom>
            <a:solidFill>
              <a:srgbClr val="d9d9e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0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27520" y="1638360"/>
              <a:ext cx="686160" cy="304920"/>
            </a:xfrm>
            <a:prstGeom prst="rect">
              <a:avLst/>
            </a:prstGeom>
            <a:solidFill>
              <a:srgbClr val="d9d9e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0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94000" y="2171880"/>
              <a:ext cx="686160" cy="304560"/>
            </a:xfrm>
            <a:prstGeom prst="rect">
              <a:avLst/>
            </a:prstGeom>
            <a:solidFill>
              <a:srgbClr val="d9d9e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75240" y="1562040"/>
              <a:ext cx="0" cy="60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75240" y="17906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75240" y="24764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58E0-BD4C-48CF-87EF-8AB6BD08EF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65240" y="4797360"/>
            <a:ext cx="835164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. Hierarchical structur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. Unidirectional (‘U’) or bidirectional (‘B’) link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. Shared (‘S’) or point-to-point signals (‘P’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s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* In CoreConnect, data lines are shared, control lines form a ring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** In SiliconBackplane, data lines are shared, control flags are point-to-poi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. Synchronous (‘S’) or asynchronous (‘A’) transfe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. Support for multiple clock domai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. Test structu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363680" y="1192320"/>
          <a:ext cx="7159680" cy="346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3680" y="1192320"/>
                    <a:ext cx="7159680" cy="34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3D1A-9E56-4E68-9798-A9BDFB5F0A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nsfer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pelined transfer = Address is transferred befor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time for address de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ress can be interleaved with last data of the previous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lit transfer = Read operation is split into two write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ent A sends a read-request to agent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 is released, when agent B prepares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agent B is ready, it writes the data to agent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65240" y="6093000"/>
            <a:ext cx="777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750160" y="6040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5240" y="5084640"/>
            <a:ext cx="863640" cy="432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q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28880" y="5516640"/>
            <a:ext cx="863640" cy="4316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et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065240" y="465300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4600" y="5032440"/>
            <a:ext cx="63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28880" y="5084640"/>
            <a:ext cx="863640" cy="4320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w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2520" y="5518080"/>
            <a:ext cx="863640" cy="4320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w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21240" y="5518080"/>
            <a:ext cx="863640" cy="432000"/>
          </a:xfrm>
          <a:prstGeom prst="rect">
            <a:avLst/>
          </a:prstGeom>
          <a:solidFill>
            <a:srgbClr val="99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5516640"/>
            <a:ext cx="863640" cy="43164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w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92520" y="5084640"/>
            <a:ext cx="863640" cy="4320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w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5084640"/>
            <a:ext cx="863640" cy="432000"/>
          </a:xfrm>
          <a:prstGeom prst="rect">
            <a:avLst/>
          </a:prstGeom>
          <a:solidFill>
            <a:srgbClr val="99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q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21240" y="5086440"/>
            <a:ext cx="863640" cy="4316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et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84880" y="5518080"/>
            <a:ext cx="863640" cy="432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q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9960" y="5518080"/>
            <a:ext cx="863640" cy="432000"/>
          </a:xfrm>
          <a:prstGeom prst="rect">
            <a:avLst/>
          </a:prstGeom>
          <a:solidFill>
            <a:srgbClr val="99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q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86320" y="5084640"/>
            <a:ext cx="863640" cy="432000"/>
          </a:xfrm>
          <a:prstGeom prst="rect">
            <a:avLst/>
          </a:prstGeom>
          <a:solidFill>
            <a:srgbClr val="99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et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82880" y="51055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505240" y="4751280"/>
            <a:ext cx="287280" cy="281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08160" y="47512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07040" y="43848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ip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19240" y="62229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pli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3"/>
            <a:endCxn id="230" idx="2"/>
          </p:cNvCxnSpPr>
          <p:nvPr/>
        </p:nvCxnSpPr>
        <p:spPr>
          <a:xfrm flipV="1">
            <a:off x="4686120" y="5963400"/>
            <a:ext cx="1130760" cy="44388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1"/>
            <a:endCxn id="220" idx="2"/>
          </p:cNvCxnSpPr>
          <p:nvPr/>
        </p:nvCxnSpPr>
        <p:spPr>
          <a:xfrm rot="10800000">
            <a:off x="2359800" y="5961960"/>
            <a:ext cx="558000" cy="4453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19C2-CA93-4D87-8667-2697C66AB2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nsfer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haking provides support for multiple clock do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ower devices can stretch the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additional delay when agents fast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datory in asynchronous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496880" y="4508640"/>
            <a:ext cx="6119640" cy="1869120"/>
            <a:chOff x="1496880" y="4508640"/>
            <a:chExt cx="6119640" cy="1869120"/>
          </a:xfrm>
        </p:grpSpPr>
        <p:grpSp>
          <p:nvGrpSpPr>
            <p:cNvPr id="243" name=""/>
            <p:cNvGrpSpPr/>
            <p:nvPr/>
          </p:nvGrpSpPr>
          <p:grpSpPr>
            <a:xfrm>
              <a:off x="1496880" y="4508640"/>
              <a:ext cx="6119640" cy="1869120"/>
              <a:chOff x="1496880" y="4508640"/>
              <a:chExt cx="6119640" cy="1869120"/>
            </a:xfrm>
          </p:grpSpPr>
          <p:sp>
            <p:nvSpPr>
              <p:cNvPr id="244" name=""/>
              <p:cNvSpPr/>
              <p:nvPr/>
            </p:nvSpPr>
            <p:spPr>
              <a:xfrm>
                <a:off x="2592720" y="4815000"/>
                <a:ext cx="730440" cy="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3323520" y="4713120"/>
                <a:ext cx="91440" cy="10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flipV="1">
                <a:off x="3323520" y="4815000"/>
                <a:ext cx="91440" cy="102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414960" y="4917240"/>
                <a:ext cx="26485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flipV="1">
                <a:off x="6063480" y="4713120"/>
                <a:ext cx="91440" cy="10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6063480" y="4815000"/>
                <a:ext cx="91440" cy="102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154920" y="4815000"/>
                <a:ext cx="1095840" cy="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414960" y="4713120"/>
                <a:ext cx="26485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96880" y="4508640"/>
                <a:ext cx="100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ddr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251120" y="4610880"/>
                <a:ext cx="36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4785120" y="5019480"/>
                <a:ext cx="91440" cy="10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4785120" y="5121360"/>
                <a:ext cx="91440" cy="102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76560" y="5019480"/>
                <a:ext cx="11869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76560" y="5223600"/>
                <a:ext cx="11869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flipV="1">
                <a:off x="6063480" y="5019480"/>
                <a:ext cx="91440" cy="10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6063480" y="5121360"/>
                <a:ext cx="91440" cy="102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592720" y="5121360"/>
                <a:ext cx="2192040" cy="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154920" y="5121360"/>
                <a:ext cx="1095840" cy="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770840" y="4815000"/>
                <a:ext cx="73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51120" y="4917240"/>
                <a:ext cx="273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592720" y="5427720"/>
                <a:ext cx="730440" cy="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154920" y="5427720"/>
                <a:ext cx="1095840" cy="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770840" y="5121360"/>
                <a:ext cx="73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e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3323520" y="5325840"/>
                <a:ext cx="91440" cy="10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414960" y="5325840"/>
                <a:ext cx="26485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flipV="1">
                <a:off x="6063480" y="5325840"/>
                <a:ext cx="91440" cy="10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251120" y="5223600"/>
                <a:ext cx="36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592720" y="5734080"/>
                <a:ext cx="730440" cy="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515560" y="5734080"/>
                <a:ext cx="1735560" cy="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3323520" y="5632200"/>
                <a:ext cx="91440" cy="10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414960" y="5632200"/>
                <a:ext cx="20095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>
                <a:off x="5424480" y="5632200"/>
                <a:ext cx="90720" cy="10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251120" y="5529960"/>
                <a:ext cx="36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862280" y="5529960"/>
                <a:ext cx="63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Re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92720" y="6040440"/>
                <a:ext cx="2192040" cy="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154920" y="6040440"/>
                <a:ext cx="1095840" cy="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4785120" y="5938560"/>
                <a:ext cx="91440" cy="10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flipV="1">
                <a:off x="6063480" y="5938560"/>
                <a:ext cx="91440" cy="10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251120" y="5836320"/>
                <a:ext cx="36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862280" y="5836320"/>
                <a:ext cx="63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Ac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876560" y="5938560"/>
                <a:ext cx="11869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14960" y="4610880"/>
                <a:ext cx="1440" cy="153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876560" y="4610880"/>
                <a:ext cx="1440" cy="153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515560" y="4610880"/>
                <a:ext cx="1800" cy="153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54920" y="4610880"/>
                <a:ext cx="1440" cy="153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414960" y="6040440"/>
                <a:ext cx="273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876560" y="6040440"/>
                <a:ext cx="273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515560" y="6040440"/>
                <a:ext cx="273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154920" y="6040440"/>
                <a:ext cx="273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3440160" y="5708520"/>
              <a:ext cx="1297080" cy="239760"/>
            </a:xfrm>
            <a:custGeom>
              <a:avLst/>
              <a:gdLst/>
              <a:ahLst/>
              <a:rect l="l" t="t" r="r" b="b"/>
              <a:pathLst>
                <a:path w="817" h="151">
                  <a:moveTo>
                    <a:pt x="0" y="15"/>
                  </a:moveTo>
                  <a:cubicBezTo>
                    <a:pt x="200" y="7"/>
                    <a:pt x="401" y="0"/>
                    <a:pt x="499" y="15"/>
                  </a:cubicBezTo>
                  <a:cubicBezTo>
                    <a:pt x="597" y="30"/>
                    <a:pt x="537" y="82"/>
                    <a:pt x="590" y="105"/>
                  </a:cubicBezTo>
                  <a:cubicBezTo>
                    <a:pt x="643" y="128"/>
                    <a:pt x="730" y="139"/>
                    <a:pt x="817" y="151"/>
                  </a:cubicBezTo>
                </a:path>
              </a:pathLst>
            </a:custGeom>
            <a:noFill/>
            <a:ln w="28440">
              <a:solidFill>
                <a:srgbClr val="ff9966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52880" y="5732640"/>
              <a:ext cx="432000" cy="287280"/>
            </a:xfrm>
            <a:custGeom>
              <a:avLst/>
              <a:gdLst/>
              <a:ahLst/>
              <a:rect l="l" t="t" r="r" b="b"/>
              <a:pathLst>
                <a:path w="272" h="181">
                  <a:moveTo>
                    <a:pt x="0" y="181"/>
                  </a:moveTo>
                  <a:cubicBezTo>
                    <a:pt x="75" y="170"/>
                    <a:pt x="151" y="159"/>
                    <a:pt x="181" y="136"/>
                  </a:cubicBezTo>
                  <a:cubicBezTo>
                    <a:pt x="211" y="113"/>
                    <a:pt x="166" y="68"/>
                    <a:pt x="181" y="45"/>
                  </a:cubicBezTo>
                  <a:cubicBezTo>
                    <a:pt x="196" y="22"/>
                    <a:pt x="234" y="11"/>
                    <a:pt x="272" y="0"/>
                  </a:cubicBezTo>
                </a:path>
              </a:pathLst>
            </a:custGeom>
            <a:noFill/>
            <a:ln w="28440">
              <a:solidFill>
                <a:srgbClr val="ff9966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600880" y="5659560"/>
              <a:ext cx="431640" cy="360360"/>
            </a:xfrm>
            <a:custGeom>
              <a:avLst/>
              <a:gdLst/>
              <a:ahLst/>
              <a:rect l="l" t="t" r="r" b="b"/>
              <a:pathLst>
                <a:path w="272" h="227">
                  <a:moveTo>
                    <a:pt x="0" y="0"/>
                  </a:moveTo>
                  <a:cubicBezTo>
                    <a:pt x="76" y="8"/>
                    <a:pt x="152" y="16"/>
                    <a:pt x="182" y="46"/>
                  </a:cubicBezTo>
                  <a:cubicBezTo>
                    <a:pt x="212" y="76"/>
                    <a:pt x="167" y="152"/>
                    <a:pt x="182" y="182"/>
                  </a:cubicBezTo>
                  <a:cubicBezTo>
                    <a:pt x="197" y="212"/>
                    <a:pt x="234" y="219"/>
                    <a:pt x="272" y="227"/>
                  </a:cubicBezTo>
                </a:path>
              </a:pathLst>
            </a:custGeom>
            <a:noFill/>
            <a:ln w="28440">
              <a:solidFill>
                <a:srgbClr val="ff9966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48520" y="5611680"/>
              <a:ext cx="620640" cy="384480"/>
            </a:xfrm>
            <a:custGeom>
              <a:avLst/>
              <a:gdLst/>
              <a:ahLst/>
              <a:rect l="l" t="t" r="r" b="b"/>
              <a:pathLst>
                <a:path w="391" h="242">
                  <a:moveTo>
                    <a:pt x="0" y="212"/>
                  </a:moveTo>
                  <a:cubicBezTo>
                    <a:pt x="72" y="227"/>
                    <a:pt x="144" y="242"/>
                    <a:pt x="182" y="212"/>
                  </a:cubicBezTo>
                  <a:cubicBezTo>
                    <a:pt x="220" y="182"/>
                    <a:pt x="192" y="60"/>
                    <a:pt x="227" y="30"/>
                  </a:cubicBezTo>
                  <a:cubicBezTo>
                    <a:pt x="262" y="0"/>
                    <a:pt x="357" y="31"/>
                    <a:pt x="391" y="31"/>
                  </a:cubicBezTo>
                </a:path>
              </a:pathLst>
            </a:custGeom>
            <a:noFill/>
            <a:ln w="28440">
              <a:solidFill>
                <a:srgbClr val="ff9966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8D17-12EE-48DF-A6FB-A1E135F6C6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Transfer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4880" y="4797360"/>
            <a:ext cx="7559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Dedicated bus control signals used for handsh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s: * v.1 does not use, v.2 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Split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Pipelined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Broadcas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409760" y="1193760"/>
          <a:ext cx="7348320" cy="340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1193760"/>
                    <a:ext cx="7348320" cy="34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3773-7D03-45B4-A8D6-9E61D7EFEF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6T11:36:07Z</dcterms:created>
  <dc:creator>Erno Salminen</dc:creator>
  <dc:description/>
  <dc:language>en-US</dc:language>
  <cp:lastModifiedBy>Erno Salminen</cp:lastModifiedBy>
  <cp:lastPrinted>2004-11-06T07:52:14Z</cp:lastPrinted>
  <dcterms:modified xsi:type="dcterms:W3CDTF">2004-11-08T11:33:33Z</dcterms:modified>
  <cp:revision>229</cp:revision>
  <dc:subject>AWT status</dc:subject>
  <dc:title>Presentation Title</dc:title>
</cp:coreProperties>
</file>