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Arial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ko-KR" sz="13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Arial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ko-KR" sz="13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Arial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ko-KR" sz="13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4C24DFA-2741-4C40-BD93-648350850D76}" type="slidenum">
              <a:rPr b="0" lang="ko-KR" sz="13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mall memory footprint 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적은 메모리 점유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icokernel design 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작은 크기의 커널을 가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Broad tools support 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구입시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IDE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형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컴파일러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+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디버거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의 개발 툴 사용가능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gcc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gdb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사용가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Full source code 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구입시에 모든 소스코드 제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oyalty-free 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제품 개발시에 로열티가 없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reemption-Threshold Technolgy 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선점 한계치 기능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예를 들어 스레드 생성시에 우선순위를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20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선점한계치를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15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라고 한다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그 스레드를 선점하기 위해서는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15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우선순위이상이어야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만일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15-19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사이의 스레드라면 선점할 수 없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erformance analysi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의 장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데드라인 문제가 생겼을 때 디버깅을 좀더 쉽게 할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생산하기 전에 시스템의 튜닝이나 검증을 해볼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변수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x_thread_current_pt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스레드가 실행중이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실행 스레드의 콘트롤 블록 주소를  값을 가짐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NULL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값이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실행하는 스레드가 없고 시스템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idle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상태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_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x_thread_system_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 0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가 아니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인터럽트 처리 수행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 0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이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스레드 또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idle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수행 상태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x_run_co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스레드가 스케줄 될때마다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counter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는 그 콘트롤 블록에서 증가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과대한 선점 조건을 찾을 때 유용하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예를 들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낮은 우선순위의 스레드들이 높은 우선순위의 스레드에 영향을 미친다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시스템에서 필요없는 스레드 스케줄링을 도입할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x_run_count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해당 스레드가 몇번 스케줄 되었는지를 담고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카운터가 증가중이면 해당 스레드가 스케줄 되고 실행됨을 의미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특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타겟 시스템에 추가적인 코드가 필요하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ex 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어셈블리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컨텍스트 스위치나 인터럽트 당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5%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오버헤드를 차지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다음 아래의 표는 스레드와 인터럽트 실행시간을 추적하기 위해 수정이 필요한 파일들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결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비방해 성능분석은  개발자가 전속력으로 실행되고 있는  그들의 실제 생산 소프트웨어의 시스템 효율을 분석하게 끔 하는 것을 가능하게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4F180-729B-43AE-9F05-3CFB367C607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F0997-E605-4B6D-BAB2-8CB498ED13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C67D0-327A-4915-A2E4-A4CD0A0F3B5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5D2C2-0504-48A1-8C60-7559FD2B00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B7F68-7CD8-4816-87BE-231F4E93C7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B436B-9EB3-4A6A-8289-0393E26A91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04E28-93B9-41C3-89F4-DEDD70E993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7F90-CC1F-4C67-977D-5BD8554E033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37819-5704-4F9B-9B23-6694B888C8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8B70-FBDB-46F0-BD65-C6B121837C7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DCB4-B176-4BFF-8F97-35EB0A3ACE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DE9ED-453E-48EA-BDF0-0D4F16EA12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477120"/>
            <a:ext cx="7772400" cy="176040"/>
          </a:xfrm>
          <a:prstGeom prst="rect">
            <a:avLst/>
          </a:prstGeom>
          <a:gradFill rotWithShape="0">
            <a:gsLst>
              <a:gs pos="0">
                <a:srgbClr val="efefff"/>
              </a:gs>
              <a:gs pos="100000">
                <a:srgbClr val="0000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433440"/>
            <a:ext cx="7772400" cy="176040"/>
          </a:xfrm>
          <a:prstGeom prst="rect">
            <a:avLst/>
          </a:prstGeom>
          <a:gradFill rotWithShape="0">
            <a:gsLst>
              <a:gs pos="0">
                <a:srgbClr val="00008c"/>
              </a:gs>
              <a:gs pos="100000">
                <a:srgbClr val="efe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4000" y="6338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D5839-76CB-4BBF-9495-ABC862D34401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33440"/>
            <a:ext cx="7772400" cy="176040"/>
          </a:xfrm>
          <a:prstGeom prst="rect">
            <a:avLst/>
          </a:prstGeom>
          <a:gradFill rotWithShape="0">
            <a:gsLst>
              <a:gs pos="0">
                <a:srgbClr val="00008c"/>
              </a:gs>
              <a:gs pos="100000">
                <a:srgbClr val="efe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477120"/>
            <a:ext cx="7772400" cy="176040"/>
          </a:xfrm>
          <a:prstGeom prst="rect">
            <a:avLst/>
          </a:prstGeom>
          <a:gradFill rotWithShape="0">
            <a:gsLst>
              <a:gs pos="0">
                <a:srgbClr val="efefff"/>
              </a:gs>
              <a:gs pos="100000">
                <a:srgbClr val="0000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40466-6C01-4C90-9240-18FCBA789D21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736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7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7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hreadX? Performance Analysis</a:t>
            </a:r>
            <a:br>
              <a:rPr sz="28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uthor : William Lamie, Express Logic, Inc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78360" y="4067280"/>
            <a:ext cx="511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al-Time Computing and Communications L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anyang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oojong K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006.11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굴림"/>
              </a:rPr>
              <a:t>Conten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 and Major Contrib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Intrusive Performanc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usiv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X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ress Logic`s advanced RTOS designed specifically for embedded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adX`s Fe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Memory Footpr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Context 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Interrupt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emption-Threshold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okerne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orts All Leading 32/64-bit Process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 Tools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Source 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yalty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oals and Major Contribution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oduce How to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rformance analy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Thread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efit of Performanace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ug application deadline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in pre-production system tuning and verif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on-Intrusive Performance Analysi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no additional code on the targ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ffect on the timming of the targ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Analyzer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tx_thread_current_pt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en a thread is executing, the address of it`s control 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ULL, no thread is running and the system is id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tx_thread_system_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non-zero, interrupt processig is in eff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zero, thread or idle system processing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Non-Intrusive Performance Analysi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dule 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x_run_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time a thread is sheduled a counter is incremented in its control bolc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ful in detecting excessive preemption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Intrusive Performance Analysi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additional code(ex: assembly) on the targ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head induced is probably on the order of 5% per context switch or interru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yo" descr=""/>
          <p:cNvPicPr/>
          <p:nvPr/>
        </p:nvPicPr>
        <p:blipFill>
          <a:blip r:embed="rId1"/>
          <a:stretch/>
        </p:blipFill>
        <p:spPr>
          <a:xfrm>
            <a:off x="2523960" y="3452760"/>
            <a:ext cx="4096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on-intrusive approac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nable developers to analyze system perform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ir actual production software running at full spe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20:13:57Z</dcterms:created>
  <dc:creator>Marilyn Turnamian</dc:creator>
  <dc:description/>
  <dc:language>en-US</dc:language>
  <cp:lastModifiedBy>wjkim</cp:lastModifiedBy>
  <cp:lastPrinted>2001-06-14T19:17:20Z</cp:lastPrinted>
  <dcterms:modified xsi:type="dcterms:W3CDTF">2006-11-27T06:50:13Z</dcterms:modified>
  <cp:revision>201</cp:revision>
  <dc:subject/>
  <dc:title>Figure 9.01</dc:title>
</cp:coreProperties>
</file>