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ko-KR" sz="13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ko-KR" sz="13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ko-KR" sz="13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5546D2F-F864-412F-B38F-D91455E92784}" type="slidenum"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Evans Data Corporation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라는 회사에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2002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년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12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월에 조사한 자료로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개발자들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의 특징중에서 가장 부각되어야 하는 항목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op 5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eal-time performanc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가 가장 중요한 항목으로 꼽았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개발자들은 그들의 애플리케이션의 성능요구에 대해 낮은 오버헤드 또는 위험이 없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선택해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평가하기 전에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애플리케이션이 진정 요구하는 성능이 무엇인지 결정하는 것이 중요하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개발자는 높은 성능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요구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응답 요청을 만족시키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그보다 더 빠른 응답은 거의 부가적인 이익이 없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ex : keyboar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애플리케이션에 대해서 정확히 알고 있는 것은 개발자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에 좀더 돈을 지출하는 것을 막는 것을 가능하게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당신의 프로그램은 어느정도의 인터럽트 응답과 컨텍스트 스위치를 필요로 하는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그래프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X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축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nterrupt response requrement in Microsecond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이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Y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축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percent of application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5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icrosecond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보다 빠른 응답을 요구하는 리얼타임 애플리케이션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30%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이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1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icrosecond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의 응답을 만족하는 리얼타임 애플리케이션이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50%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넘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그렇다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정말 중요한 것은 무엇인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상용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의 만족도 지수를 그래프로 나타낸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전체적으로 만족하는 것으로 나타내고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icrosecond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인터럽트 응답과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5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nanosecond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컨텍스트 스위치를 가지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찾는 것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배우기 쉽고 사용하기 쉬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찾는 것이 더 유용하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 -&gt;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결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사용하기 쉬움은 개발자와 시장에 좀더 빠르게 제품을 출시할 수 있도록 도와주는 중요한 장점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그리고 적은 개발 비용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높은 수익성을 올릴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특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e RTOS system services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만일 서비스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PI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가 단순하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그것은 더 많이 쉽게 개발자에 의해 이해되고 더 많이 사용될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더욱이 오류의 가능성이 더 적어질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Good documentation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일반적으로 개발자는 문서화에 대해서 좋아하지 않는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하지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문서화는 자기 자신 뿐만 아니라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다른 사람들이 좀더 쉽게 이해하고 사용하는데 도움을 줄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Intuitive naming convention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한번에 보고 이해할 수 있는 이름을 사용해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직관적인 명명 규약은 개발을 더 쉽게 할 것이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게다가 코드 검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eview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쉽게 제공할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vailability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이해하기 쉬운  코드는 애플리케이션의 소스 디버깅에 매우 큰 도움이 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그렇기 위해서는 소스코들를 잘 구조화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tructure)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시켜야하고 모듈화 시켜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esponsive technical support :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요청되는 기술지원에 대해서 빠른 응답을 제공해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당신의 프로그램의 성능 요구를 이해하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많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접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사용하기 쉬움은 당신이 개발을 완료하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시장에 상품이 좀더 빠르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좀더 경제적이고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좀더 많은 수익을 가져다 줄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350FF-E862-4EDE-B88E-226174141E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2A69-7DA4-401E-883F-1E21782CBD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7006-4B70-4ACE-AA0D-684F7638B5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4B0E-ED1C-4CB1-B37D-34DBCE085E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9994C-5F62-4ADA-8491-2948818A6C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96295-F566-4786-9165-2CB17CF62C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1F78-10D2-421D-8C31-416DC7251D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75FFE-C2F7-4525-A4BE-0322D5066BA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49CC1-877B-444D-B64B-CADE0387BB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22007-D8E5-419E-B220-2D283219B2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18EA1-37BF-4EC6-897A-9BBCF035BA1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B953-B79A-4EFF-BAA2-77887320CD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4000" y="6338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79F39-894C-4B5A-95C9-F3561C252BAB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DC4A-7C6E-4EC3-B428-F5749EC6E6A8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736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RTOS Real-Time Performance vs. Ease of Use : Assessing Performance Needs of an Application vs. Other Considerations</a:t>
            </a:r>
            <a:br>
              <a:rPr sz="28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uthor : John.A Carbone, VP, Marketing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78360" y="4067280"/>
            <a:ext cx="511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l-Time Computing and Communications L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anyang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oojong K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6.11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erformance is need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s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`s really importa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that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al-time perform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s often cited by developers as paramount in their list of criteria for selection of an R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ers are encouraged to choose an RTOS with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ow overhead or ris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issing the performance requirements of their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06560" y="1397160"/>
            <a:ext cx="7215120" cy="31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hat performance is needed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evaluating an RTOS, it`s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mportant to determine what performance the 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ctually requ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rs demand the highest level of RTOS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response requirements are met, faster response is of little additional value. (ex : keybo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Know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at is sufficient for an application will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nable the developer to avoid paying more for an 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Developers speak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nterrupt response and context switch requirements does your application need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12880" y="2587680"/>
            <a:ext cx="76816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hat`s really important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41320" y="1332000"/>
            <a:ext cx="7459560" cy="51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What`s really important?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than look for an RTOS with 1 microsecond interrupt response and 50 nanosecond context switching,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t might be more useful to fine one that is easy to learn and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yo1" descr=""/>
          <p:cNvPicPr/>
          <p:nvPr/>
        </p:nvPicPr>
        <p:blipFill>
          <a:blip r:embed="rId1"/>
          <a:stretch/>
        </p:blipFill>
        <p:spPr>
          <a:xfrm>
            <a:off x="841320" y="1585800"/>
            <a:ext cx="7265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Ease of us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55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e of use can have very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gnificant benef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evelopers and can help to bring products to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rket more quick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ith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ower development co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ulting in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greater profit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OS characteristics for ease of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RTOS system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d doc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uitive naming con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: rtos_message_send(GOOD), xyxConstructBridge_435(Ba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ive technical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55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you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nderstand your application`s perform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eds, it`s likely that many RTOSes will meet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ase of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just might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nable you to complete develop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bring a product to market more quickly, more economically, and more profitab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20:13:57Z</dcterms:created>
  <dc:creator>Marilyn Turnamian</dc:creator>
  <dc:description/>
  <dc:language>en-US</dc:language>
  <cp:lastModifiedBy>fat81</cp:lastModifiedBy>
  <cp:lastPrinted>2001-06-14T19:17:20Z</cp:lastPrinted>
  <dcterms:modified xsi:type="dcterms:W3CDTF">2006-11-27T07:17:03Z</dcterms:modified>
  <cp:revision>232</cp:revision>
  <dc:subject/>
  <dc:title>Figure 9.01</dc:title>
</cp:coreProperties>
</file>