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4138200" y="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ko-KR" sz="13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53880" y="719280"/>
            <a:ext cx="479412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ko-KR" sz="13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4138200" y="9109080"/>
            <a:ext cx="316404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ko-KR" sz="1300" spc="-1" strike="noStrike">
                <a:solidFill>
                  <a:srgbClr val="000000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8C8F3F7-8F9F-405C-9C54-DB6FD948E3FA}" type="slidenum">
              <a:rPr b="0" lang="ko-KR" sz="13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오직 필요할 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보호를 사용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기본적으로 보호는 비활성화 되어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추가적인 메모리의 필요가 적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아주작은 코드가 메모리 보호 서비스를 제공하기 위하여 추가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EM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이용한 메모리 보호는 소수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PI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호출을 필요로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프로그래밍의 단순성과 수행 효율성은 간단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PI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와 소수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service call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을 사용함으로서 유지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EM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는 좀더 효율적인 성능을 결과로서 나타낸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싱글”논리주소가 즉 물리주소” 주소를 사용함으로서 컨텍스트 스위치할 때 오버헤드가 없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페이지 변환이 완전히 하드웨어로 실행됨으로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addres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생성 단계가 프로세서의 파이프라인에 들어갔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메시지가 데이터를 복사할 필요없이 하나의 스레드에서 다른 스레드로 보낼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가상 주소 영역이 사용될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필요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보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tx_queue_front_send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연산은 메시지 내용을 각각 메시지 큐의 선두에 복사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하지만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큐가 비었고 다른 스레드가 메시지를 기다리는 중이면 메시지는 큐를 거치지 않고 기다리는 스레드가 지정한 메모리로 직접 복사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스레드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X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는 시스템의 전반적 성능향상을 위해 이런 최적화를 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많은 기술들이 같은 시스템에서 다른 프로그램의 불규칙적인 동작으로 부터 보호하기 위해 현존하고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데스크탑과 서버들의 경우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emory management hardwar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와 각 사용자마다 독립적인 가상 머신 환경을 주는 멀티 유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통해서 실행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데스트탑과 서버는 좀더 많은 리소스를 요구하기 때문에 임베디드 시스템에서는 비실용적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EM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는 임베디드 시스템에서 메모리 보호를 지원하기 위해 디자인된 명세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EM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는 일반적인 오버헤드나 데스크탑에서의 복잡성 없이 메모리 보호를 제공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데스크탑에서의 메모리 보호는 가상 메모리와 프로세스 모델 프로그래밍 환경을 포함하고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각 프로세스는 물리적 메모리에 매핑되어진 독립적인 가상 어드레스 영역을 가지고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페이지 테이블 매핑을 위한 복잡한 계산으로 인한 오버헤드 발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페이지 테이블을 위한 추가적인 메모리 요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캐쉬 테이블 엔트리의 바깥쪽에 엑세스를 위한 성능의 저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두 프로세스 사이에 데이터를 복사 전송을 위한 성능의저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몇몇 임베디드 시스템의 경우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프로세스 모델 메모리 보호 스키마를 사용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예를들면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메모리와 프로세스 자원이 충분한 시스템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군사 장비나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우주선 과 전자통신 프로그램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emory system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에서 각 사용자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addres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공간 주소는 물리 메모리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eference code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로 변환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프로세스 모델 가상 메모리 시스템에 임베디드 애플리케이션을 위해 보안적 기능이 추가되면서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메모리 소비와 프로세서의 성능에 오버헤드가 증가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프로그래밍의 복잡성이 증가되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결과적으로 대부분의 임베디드 애플리케이션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의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MU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의 장점을 쓰지 않고 사용을 하던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프로세스 모델을 제공하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추가적인 비용을 들여서 사용하던지 선택할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다시 말해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emory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를 사용하던지 사용하지 않던지 선택할 것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모든 커널과 애플리케이션 메모리 페이지는 물리적 메모리 페이지에 직접적으로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1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1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매핑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EMP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에서 프로그램의 가상 어드레스 페이지는 각 페이지에 권한을 접근하는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MU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안의 포인터를 통해서 물리적 어드레스로 변환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25424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앞의 그림은 지정된 데이터에 접근을 막던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또는 허용하던지  그리고 보호를 활성화 또는 비활성화허던지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MMU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보호 레지스터를 셋하는 간단한 몇몇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RTOS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서비스와 함께 실행되어질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페이지화된 환경에서 기억 장치 보호는 각 페이지에 붙어있는 보호비트 에 의해 구현된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이 비트들은 보통 페이지 테이블에 속해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각 비트는 이 페이지가 읽고 쓰기 또는 읽기 전용 임을 각각 정의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 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기억 장치에 대한 모든 접근은 페이지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테이블을 거치므로 이 때 주소 매핑과 함께 이 페이지에 쓰기가 허용되는지 안 되는 지와 같은 검사도 할 수 있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만일 읽기 전용 페이지에 대해 쓰기를 시도하면 운영체제가 하드웨어로 트랩을 건다</a:t>
            </a: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1AC52-90CF-471F-A6BD-3E907A43AF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BDAA8-89EF-4A63-806B-EED10AD8B3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4B266-8E41-4AE5-8AED-A9E40C87D8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CBB74-6DE6-4110-9126-9018813DCEF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A4F6-A44B-4D48-8E71-BB1102631B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7B5C3-49D1-48A8-9657-F22D264E5C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0B52-9997-4399-B609-A08875BE391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E4FAB-72EA-48C6-B193-E6FBEB0715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1F17-5B67-49AE-8FC7-251D2CC2C18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A094D-A1F4-4B22-910C-F30B23605B3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00AC-D74A-45DA-BAD8-1D44318683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89050-904C-4F51-81A4-6D285E694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30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154000" y="633816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0803-0126-40C3-BAFE-ED45B63421E0}" type="slidenum">
              <a:rPr b="0" lang="ko-KR" sz="1800" spc="-1" strike="noStrike">
                <a:solidFill>
                  <a:srgbClr val="000000"/>
                </a:solidFill>
                <a:latin typeface="Arial"/>
                <a:ea typeface="굴림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33440"/>
            <a:ext cx="7772400" cy="176040"/>
          </a:xfrm>
          <a:prstGeom prst="rect">
            <a:avLst/>
          </a:prstGeom>
          <a:gradFill rotWithShape="0">
            <a:gsLst>
              <a:gs pos="0">
                <a:srgbClr val="00008c"/>
              </a:gs>
              <a:gs pos="100000">
                <a:srgbClr val="efe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477120"/>
            <a:ext cx="7772400" cy="176040"/>
          </a:xfrm>
          <a:prstGeom prst="rect">
            <a:avLst/>
          </a:prstGeom>
          <a:gradFill rotWithShape="0">
            <a:gsLst>
              <a:gs pos="0">
                <a:srgbClr val="efefff"/>
              </a:gs>
              <a:gs pos="100000">
                <a:srgbClr val="00008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7C2F-F7DC-4F16-85A4-339B70B55A9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736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73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Efficient Memory Protection for Embedded System</a:t>
            </a:r>
            <a:br>
              <a:rPr sz="28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uthor : John Carbone, Express Logic</a:t>
            </a:r>
            <a:endParaRPr b="1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178360" y="4067280"/>
            <a:ext cx="511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al-Time Computing and Communications La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Hanyang Univer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Woojong K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2006.11.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How This Differs from Other Protection Approahe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55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should only be used when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is left off by defa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reduces the need for additional mem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little code is added to provide memory protection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protection using EMP requires only a handful of API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simplicity and operational efficiency are retained by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ing a simple API and only a handful of service c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Conclus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055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 results in more efficient perform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“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ogical equals 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address space is used, there is no overhead introduced at context switch tim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age translation is done completely in hard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in the address-generation stage of the processor pipe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 of the single, unified address range, messages can be sent from one thread to another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without the need to copy the d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Protectio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st of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ew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his Differs from Other Protection Approa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7986600" cy="499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techniques exist for protecting from the erra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of other programs on the sam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 desktops and serv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is is effectively done through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memory management hardwa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multi-user OS that gives each user an independent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virtual machine enviro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68560" y="3422520"/>
            <a:ext cx="340200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Overview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1880" y="1579680"/>
            <a:ext cx="822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ktop and server approaches  require more resources and may be impractical for an embedded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mbedded Memory Protection(EMP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specifically designed to provide memory protection for embedded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 provides Memory protecti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without the typical overhead or complexity of desktop approach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emory Protection Background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6240" y="1628280"/>
            <a:ext cx="8194680" cy="47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 deskt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memory protection has involved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virtual memory and a process model programming environ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process has an independent virtual address range mapped to physical mem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head to do the complex bookkeeping of mapped page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ires additional memory for page 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penalties for accesses outside of cached table entr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ance penalties for copying data during transfers between 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embedded operation systems have employed process model memory protection sche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h systems have ample memory and processor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) military, aerospace and high-end telecommunications application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Memory Protection Background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1960" y="1600200"/>
            <a:ext cx="748008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The Cost of Virtual Memory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61680"/>
            <a:ext cx="77724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process model virtual memory system deliver added security for embedded application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 overhead in memory consumption and processor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ming complexity is greater for the develo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 result, most embedded applications have opted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ve without the benefits of MMU support in th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uffer the additional costs associated with use of an OS offering a process model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New Approach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kernel and application memory pages ar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pped directly to physical memory pages in a one-to-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MP, a program`s virtual address pages are translated into physical address page 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via pointers in the MMU, with access permissions for each p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40000" y="1503360"/>
            <a:ext cx="446400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A New Approach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9800" y="1599840"/>
            <a:ext cx="84582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an b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mplemented with a few simple RTOS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t MMU protection regis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ermit or prevent access to designated data and to activate or deactivate those prote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2T20:13:57Z</dcterms:created>
  <dc:creator>Marilyn Turnamian</dc:creator>
  <dc:description/>
  <dc:language>en-US</dc:language>
  <cp:lastModifiedBy>fat81</cp:lastModifiedBy>
  <cp:lastPrinted>2001-06-14T19:17:20Z</cp:lastPrinted>
  <dcterms:modified xsi:type="dcterms:W3CDTF">2006-11-27T07:32:08Z</dcterms:modified>
  <cp:revision>269</cp:revision>
  <dc:subject/>
  <dc:title>Figure 9.01</dc:title>
</cp:coreProperties>
</file>